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92B-6163-4BE8-954C-8E2041CE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90F-45E6-45DA-803A-3BF5955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5DD-354B-48D9-9EE4-81578415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614-BD4C-4190-B38A-78F9850B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61F-1422-42E9-8B4C-10ECD68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95F-079B-4855-903E-30D85C6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5F-878A-499A-B750-4E8DBA0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114-8873-4475-8CD7-0C215D5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0DF-190E-4DC0-8098-4A25E20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334-2433-4058-9B07-D49F0BB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6CA-7C74-4730-9C47-E5EC040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ABC-50D1-4CCA-B40B-43EFC36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B56-9705-4C8F-BDE2-48BE9C6C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00600" y="1295280"/>
            <a:ext cx="4152960" cy="310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with other role n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other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ed by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s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other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named role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th respect to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player’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ing of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d 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representing an unreified (but always mutual)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200" y="1998720"/>
            <a:ext cx="1741320" cy="1440"/>
          </a:xfrm>
          <a:custGeom>
            <a:avLst/>
            <a:gdLst/>
            <a:ahLst/>
            <a:rect l="l" t="t" r="r" b="b"/>
            <a:pathLst>
              <a:path w="1097" h="1">
                <a:moveTo>
                  <a:pt x="0" y="0"/>
                </a:moveTo>
                <a:lnTo>
                  <a:pt x="1097" y="0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1560" y="243828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32" y="48"/>
                </a:moveTo>
                <a:cubicBezTo>
                  <a:pt x="16" y="44"/>
                  <a:pt x="0" y="40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3240" y="3968640"/>
            <a:ext cx="7496280" cy="390600"/>
          </a:xfrm>
          <a:custGeom>
            <a:avLst/>
            <a:gdLst/>
            <a:ahLst/>
            <a:rect l="l" t="t" r="r" b="b"/>
            <a:pathLst>
              <a:path w="4722" h="246">
                <a:moveTo>
                  <a:pt x="160" y="32"/>
                </a:moveTo>
                <a:cubicBezTo>
                  <a:pt x="244" y="27"/>
                  <a:pt x="0" y="0"/>
                  <a:pt x="666" y="2"/>
                </a:cubicBezTo>
                <a:cubicBezTo>
                  <a:pt x="1332" y="4"/>
                  <a:pt x="3588" y="10"/>
                  <a:pt x="4155" y="46"/>
                </a:cubicBezTo>
                <a:cubicBezTo>
                  <a:pt x="4722" y="82"/>
                  <a:pt x="4186" y="188"/>
                  <a:pt x="4067" y="217"/>
                </a:cubicBezTo>
                <a:cubicBezTo>
                  <a:pt x="3948" y="246"/>
                  <a:pt x="3574" y="221"/>
                  <a:pt x="3444" y="222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9120" y="2004840"/>
            <a:ext cx="3546360" cy="155880"/>
          </a:xfrm>
          <a:custGeom>
            <a:avLst/>
            <a:gdLst/>
            <a:ahLst/>
            <a:rect l="l" t="t" r="r" b="b"/>
            <a:pathLst>
              <a:path w="2234" h="98">
                <a:moveTo>
                  <a:pt x="2155" y="0"/>
                </a:moveTo>
                <a:lnTo>
                  <a:pt x="2234" y="0"/>
                </a:lnTo>
                <a:lnTo>
                  <a:pt x="2234" y="93"/>
                </a:lnTo>
                <a:lnTo>
                  <a:pt x="0" y="98"/>
                </a:lnTo>
              </a:path>
            </a:pathLst>
          </a:custGeom>
          <a:noFill/>
          <a:ln w="255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58:26Z</dcterms:modified>
  <cp:revision>103</cp:revision>
  <dc:subject/>
  <dc:title>PowerPoint Presentation</dc:title>
</cp:coreProperties>
</file>