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D42-18B4-4FEF-B1FC-3E235F56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D0E-58BF-41C1-A64B-7E4E21E0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040-1238-4D60-B227-E8FF1574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4AD-4A62-4D49-A10A-F4EB5A66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B9D-AEA9-4D37-A485-FFAF71DA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7CB-DB3C-413D-A5B4-7E10814B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87E-FC0E-448E-B8EE-85400EA7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8B9-F047-498F-82D3-94CAEE4E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349-BE9C-4CFD-A7BE-5ECB962C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B66-7595-4469-9A8A-CCB551FA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0FA-2F7B-48FF-BB52-B6E59A5D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CFF-B4C4-4A9E-9307-404D28AB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C0B2-C0E0-4562-94FE-898EA88B4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85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A_a,,a_sip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1</a:t>
            </a:r>
            <a:r>
              <a:rPr b="1" i="1" lang="en-US" sz="1400" spc="-1" strike="noStrike">
                <a:solidFill>
                  <a:srgbClr val="ffff99"/>
                </a:solidFill>
                <a:latin typeface="Monotype Corsiva"/>
              </a:rPr>
              <a:t>, proxyId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2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1" i="1" lang="en-US" sz="1400" spc="-1" strike="noStrike">
                <a:solidFill>
                  <a:srgbClr val="800080"/>
                </a:solidFill>
                <a:latin typeface="Monotype Corsiva"/>
              </a:rPr>
              <a:t>proxyId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80" y="4876920"/>
            <a:ext cx="2786040" cy="1645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SIP may or may no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governed by A_a SM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_a,,x_roles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1" i="1" lang="en-US" sz="1400" spc="-1" strike="noStrike">
                <a:solidFill>
                  <a:srgbClr val="008000"/>
                </a:solidFill>
                <a:latin typeface="Monotype Corsiva"/>
              </a:rPr>
              <a:t>roleName2 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i="1" lang="en-US" sz="1400" spc="-1" strike="noStrike">
                <a:solidFill>
                  <a:srgbClr val="996600"/>
                </a:solidFill>
                <a:latin typeface="Monotype Corsiva"/>
              </a:rPr>
              <a:t>proxyId</a:t>
            </a:r>
            <a:r>
              <a:rPr b="1" i="1" lang="en-US" sz="1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52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A_a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5715000"/>
            <a:ext cx="3505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IP = Subject Identity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thers are OPs – Other Propertie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{ }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{ } = property values are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[ 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[ ] = property values are lists/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rder is signific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79600" y="4481640"/>
            <a:ext cx="1571400" cy="1674720"/>
          </a:xfrm>
          <a:custGeom>
            <a:avLst/>
            <a:gdLst/>
            <a:ahLst/>
            <a:rect l="l" t="t" r="r" b="b"/>
            <a:pathLst>
              <a:path w="990" h="1055">
                <a:moveTo>
                  <a:pt x="0" y="1055"/>
                </a:moveTo>
                <a:lnTo>
                  <a:pt x="0" y="1007"/>
                </a:lnTo>
                <a:lnTo>
                  <a:pt x="695" y="1001"/>
                </a:lnTo>
                <a:lnTo>
                  <a:pt x="695" y="0"/>
                </a:lnTo>
                <a:lnTo>
                  <a:pt x="990" y="5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7480" y="4183200"/>
            <a:ext cx="3079800" cy="2133360"/>
          </a:xfrm>
          <a:custGeom>
            <a:avLst/>
            <a:gdLst/>
            <a:ahLst/>
            <a:rect l="l" t="t" r="r" b="b"/>
            <a:pathLst>
              <a:path w="1940" h="1294">
                <a:moveTo>
                  <a:pt x="0" y="5"/>
                </a:moveTo>
                <a:lnTo>
                  <a:pt x="864" y="0"/>
                </a:lnTo>
                <a:lnTo>
                  <a:pt x="869" y="1294"/>
                </a:lnTo>
                <a:lnTo>
                  <a:pt x="1940" y="128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7720" y="4282920"/>
            <a:ext cx="2278080" cy="1400400"/>
          </a:xfrm>
          <a:custGeom>
            <a:avLst/>
            <a:gdLst/>
            <a:ahLst/>
            <a:rect l="l" t="t" r="r" b="b"/>
            <a:pathLst>
              <a:path w="1435" h="882">
                <a:moveTo>
                  <a:pt x="1100" y="40"/>
                </a:moveTo>
                <a:lnTo>
                  <a:pt x="1100" y="1"/>
                </a:lnTo>
                <a:lnTo>
                  <a:pt x="1435" y="0"/>
                </a:lnTo>
                <a:lnTo>
                  <a:pt x="1435" y="882"/>
                </a:lnTo>
                <a:lnTo>
                  <a:pt x="0" y="877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3886200"/>
            <a:ext cx="1752480" cy="1523880"/>
          </a:xfrm>
          <a:prstGeom prst="rect">
            <a:avLst/>
          </a:prstGeom>
          <a:noFill/>
          <a:ln w="648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4724280"/>
            <a:ext cx="167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N.B.: Only 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a_sip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need be originally populated; the other A_a property will be automatically conferr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n R. Newcomb</cp:lastModifiedBy>
  <dcterms:modified xsi:type="dcterms:W3CDTF">2005-06-24T12:19:05Z</dcterms:modified>
  <cp:revision>95</cp:revision>
  <dc:subject/>
  <dc:title>PowerPoint Presentation</dc:title>
</cp:coreProperties>
</file>