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AF9D-A8E2-4CFA-813E-881205B1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96F-9893-4C26-9CF0-AEC82356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A4B-A9F5-4C72-B31B-2E61CF00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24B-E38F-4445-A351-AD04C3ED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429-DA70-4F15-8932-CDE019AB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664-C2B4-42E0-9FA6-2680155B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4CF-9733-4CB6-89D6-12370CB4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EE1-F4EB-4E1D-BE79-135D27A8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D59-38E6-4991-BA52-5CA49B53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1209-CF4E-4056-9B00-25BDE77B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560-DA20-45BF-831E-4E7BEA47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FD8B-24C8-460D-A36F-4E8A2A06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53CC-A5FD-4AA5-B3A1-6ADE757A1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31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Type of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in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in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s in this asser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143000"/>
            <a:ext cx="2743200" cy="100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T-proxy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663300"/>
                </a:solidFill>
                <a:uFillTx/>
                <a:latin typeface="Arial"/>
              </a:rPr>
              <a:t>t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s that constitute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s of this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" y="5554800"/>
            <a:ext cx="2786040" cy="854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of this role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" y="2819520"/>
            <a:ext cx="2438280" cy="1859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“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ing” – the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</a:t>
            </a:r>
            <a:r>
              <a:rPr b="0" i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seen as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of this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 in which role player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being 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 with this ca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 being cast in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" y="1143000"/>
            <a:ext cx="293832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152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38720" y="1143000"/>
            <a:ext cx="2971800" cy="10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-proxy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(Subject: A </a:t>
            </a:r>
            <a:r>
              <a:rPr b="1" lang="en-US" sz="12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le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ype of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Assertion type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Castings of this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72240" y="2895480"/>
            <a:ext cx="2438280" cy="1859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-proxy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(Subject: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act that no 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player has b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1" lang="en-US" sz="1200" spc="-1" strike="noStrike" u="sng">
                <a:solidFill>
                  <a:srgbClr val="006699"/>
                </a:solidFill>
                <a:uFillTx/>
                <a:latin typeface="Arial"/>
              </a:rPr>
              <a:t>c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ast in this ro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 relationsh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Role in which role player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being 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Assertion with this ca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 being cast in r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62040" y="3900600"/>
            <a:ext cx="797040" cy="1440"/>
          </a:xfrm>
          <a:custGeom>
            <a:avLst/>
            <a:gdLst/>
            <a:ahLst/>
            <a:rect l="l" t="t" r="r" b="b"/>
            <a:pathLst>
              <a:path w="502" h="1">
                <a:moveTo>
                  <a:pt x="502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33800" y="3908520"/>
            <a:ext cx="1731960" cy="144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2130480"/>
            <a:ext cx="368280" cy="1630440"/>
          </a:xfrm>
          <a:custGeom>
            <a:avLst/>
            <a:gdLst/>
            <a:ahLst/>
            <a:rect l="l" t="t" r="r" b="b"/>
            <a:pathLst>
              <a:path w="232" h="1027">
                <a:moveTo>
                  <a:pt x="232" y="1027"/>
                </a:moveTo>
                <a:lnTo>
                  <a:pt x="0" y="102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7520" y="2146320"/>
            <a:ext cx="1650960" cy="1622520"/>
          </a:xfrm>
          <a:custGeom>
            <a:avLst/>
            <a:gdLst/>
            <a:ahLst/>
            <a:rect l="l" t="t" r="r" b="b"/>
            <a:pathLst>
              <a:path w="1040" h="1022">
                <a:moveTo>
                  <a:pt x="0" y="1022"/>
                </a:moveTo>
                <a:lnTo>
                  <a:pt x="1040" y="1022"/>
                </a:lnTo>
                <a:lnTo>
                  <a:pt x="104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9680" y="2130480"/>
            <a:ext cx="125280" cy="1962000"/>
          </a:xfrm>
          <a:custGeom>
            <a:avLst/>
            <a:gdLst/>
            <a:ahLst/>
            <a:rect l="l" t="t" r="r" b="b"/>
            <a:pathLst>
              <a:path w="79" h="1236">
                <a:moveTo>
                  <a:pt x="79" y="1236"/>
                </a:moveTo>
                <a:lnTo>
                  <a:pt x="0" y="123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40640" y="2138400"/>
            <a:ext cx="161640" cy="2043000"/>
          </a:xfrm>
          <a:custGeom>
            <a:avLst/>
            <a:gdLst/>
            <a:ahLst/>
            <a:rect l="l" t="t" r="r" b="b"/>
            <a:pathLst>
              <a:path w="102" h="1287">
                <a:moveTo>
                  <a:pt x="102" y="1282"/>
                </a:moveTo>
                <a:lnTo>
                  <a:pt x="0" y="128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69040" y="1541520"/>
            <a:ext cx="766800" cy="345960"/>
          </a:xfrm>
          <a:custGeom>
            <a:avLst/>
            <a:gdLst/>
            <a:ahLst/>
            <a:rect l="l" t="t" r="r" b="b"/>
            <a:pathLst>
              <a:path w="483" h="218">
                <a:moveTo>
                  <a:pt x="0" y="218"/>
                </a:moveTo>
                <a:lnTo>
                  <a:pt x="483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63880" y="1873080"/>
            <a:ext cx="434880" cy="1800"/>
          </a:xfrm>
          <a:custGeom>
            <a:avLst/>
            <a:gdLst/>
            <a:ahLst/>
            <a:rect l="l" t="t" r="r" b="b"/>
            <a:pathLst>
              <a:path w="274" h="1">
                <a:moveTo>
                  <a:pt x="274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05800" y="2027160"/>
            <a:ext cx="191880" cy="878040"/>
          </a:xfrm>
          <a:custGeom>
            <a:avLst/>
            <a:gdLst/>
            <a:ahLst/>
            <a:rect l="l" t="t" r="r" b="b"/>
            <a:pathLst>
              <a:path w="121" h="553">
                <a:moveTo>
                  <a:pt x="0" y="5"/>
                </a:moveTo>
                <a:lnTo>
                  <a:pt x="121" y="0"/>
                </a:lnTo>
                <a:lnTo>
                  <a:pt x="121" y="553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92280" y="2035080"/>
            <a:ext cx="155520" cy="789120"/>
          </a:xfrm>
          <a:custGeom>
            <a:avLst/>
            <a:gdLst/>
            <a:ahLst/>
            <a:rect l="l" t="t" r="r" b="b"/>
            <a:pathLst>
              <a:path w="98" h="497">
                <a:moveTo>
                  <a:pt x="0" y="0"/>
                </a:moveTo>
                <a:lnTo>
                  <a:pt x="98" y="0"/>
                </a:lnTo>
                <a:lnTo>
                  <a:pt x="98" y="497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98720" y="4660920"/>
            <a:ext cx="390600" cy="1636560"/>
          </a:xfrm>
          <a:custGeom>
            <a:avLst/>
            <a:gdLst/>
            <a:ahLst/>
            <a:rect l="l" t="t" r="r" b="b"/>
            <a:pathLst>
              <a:path w="246" h="1031">
                <a:moveTo>
                  <a:pt x="0" y="1031"/>
                </a:moveTo>
                <a:lnTo>
                  <a:pt x="246" y="1031"/>
                </a:lnTo>
                <a:lnTo>
                  <a:pt x="246" y="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13360" y="1881360"/>
            <a:ext cx="465120" cy="14040"/>
          </a:xfrm>
          <a:custGeom>
            <a:avLst/>
            <a:gdLst/>
            <a:ahLst/>
            <a:rect l="l" t="t" r="r" b="b"/>
            <a:pathLst>
              <a:path w="293" h="9">
                <a:moveTo>
                  <a:pt x="293" y="0"/>
                </a:moveTo>
                <a:lnTo>
                  <a:pt x="0" y="9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14800" y="2138400"/>
            <a:ext cx="52200" cy="1466640"/>
          </a:xfrm>
          <a:custGeom>
            <a:avLst/>
            <a:gdLst/>
            <a:ahLst/>
            <a:rect l="l" t="t" r="r" b="b"/>
            <a:pathLst>
              <a:path w="33" h="924">
                <a:moveTo>
                  <a:pt x="33" y="924"/>
                </a:moveTo>
                <a:lnTo>
                  <a:pt x="0" y="92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25880" y="2035080"/>
            <a:ext cx="111240" cy="841320"/>
          </a:xfrm>
          <a:custGeom>
            <a:avLst/>
            <a:gdLst/>
            <a:ahLst/>
            <a:rect l="l" t="t" r="r" b="b"/>
            <a:pathLst>
              <a:path w="70" h="530">
                <a:moveTo>
                  <a:pt x="0" y="0"/>
                </a:moveTo>
                <a:lnTo>
                  <a:pt x="70" y="0"/>
                </a:lnTo>
                <a:lnTo>
                  <a:pt x="70" y="530"/>
                </a:lnTo>
              </a:path>
            </a:pathLst>
          </a:custGeom>
          <a:noFill/>
          <a:ln w="1908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13120" y="3975120"/>
            <a:ext cx="1017360" cy="441360"/>
          </a:xfrm>
          <a:custGeom>
            <a:avLst/>
            <a:gdLst/>
            <a:ahLst/>
            <a:rect l="l" t="t" r="r" b="b"/>
            <a:pathLst>
              <a:path w="641" h="278">
                <a:moveTo>
                  <a:pt x="0" y="278"/>
                </a:moveTo>
                <a:lnTo>
                  <a:pt x="112" y="278"/>
                </a:lnTo>
                <a:lnTo>
                  <a:pt x="641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97480" y="4025880"/>
            <a:ext cx="619200" cy="457200"/>
          </a:xfrm>
          <a:custGeom>
            <a:avLst/>
            <a:gdLst/>
            <a:ahLst/>
            <a:rect l="l" t="t" r="r" b="b"/>
            <a:pathLst>
              <a:path w="390" h="288">
                <a:moveTo>
                  <a:pt x="390" y="288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790120" y="4653000"/>
            <a:ext cx="88920" cy="1482840"/>
          </a:xfrm>
          <a:custGeom>
            <a:avLst/>
            <a:gdLst/>
            <a:ahLst/>
            <a:rect l="l" t="t" r="r" b="b"/>
            <a:pathLst>
              <a:path w="56" h="934">
                <a:moveTo>
                  <a:pt x="0" y="0"/>
                </a:moveTo>
                <a:lnTo>
                  <a:pt x="56" y="0"/>
                </a:lnTo>
                <a:lnTo>
                  <a:pt x="56" y="934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40440" y="4070520"/>
            <a:ext cx="2436840" cy="2203200"/>
          </a:xfrm>
          <a:custGeom>
            <a:avLst/>
            <a:gdLst/>
            <a:ahLst/>
            <a:rect l="l" t="t" r="r" b="b"/>
            <a:pathLst>
              <a:path w="1535" h="1388">
                <a:moveTo>
                  <a:pt x="0" y="0"/>
                </a:moveTo>
                <a:lnTo>
                  <a:pt x="460" y="5"/>
                </a:lnTo>
                <a:lnTo>
                  <a:pt x="464" y="1388"/>
                </a:lnTo>
                <a:lnTo>
                  <a:pt x="1535" y="1383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0880" y="4070520"/>
            <a:ext cx="515880" cy="1482480"/>
          </a:xfrm>
          <a:custGeom>
            <a:avLst/>
            <a:gdLst/>
            <a:ahLst/>
            <a:rect l="l" t="t" r="r" b="b"/>
            <a:pathLst>
              <a:path w="325" h="934">
                <a:moveTo>
                  <a:pt x="325" y="0"/>
                </a:moveTo>
                <a:lnTo>
                  <a:pt x="260" y="0"/>
                </a:lnTo>
                <a:lnTo>
                  <a:pt x="0" y="934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3320" y="4541760"/>
            <a:ext cx="139680" cy="997200"/>
          </a:xfrm>
          <a:custGeom>
            <a:avLst/>
            <a:gdLst/>
            <a:ahLst/>
            <a:rect l="l" t="t" r="r" b="b"/>
            <a:pathLst>
              <a:path w="88" h="628">
                <a:moveTo>
                  <a:pt x="88" y="5"/>
                </a:moveTo>
                <a:lnTo>
                  <a:pt x="0" y="0"/>
                </a:lnTo>
                <a:lnTo>
                  <a:pt x="0" y="628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68480" y="1341360"/>
            <a:ext cx="1231920" cy="546120"/>
          </a:xfrm>
          <a:custGeom>
            <a:avLst/>
            <a:gdLst/>
            <a:ahLst/>
            <a:rect l="l" t="t" r="r" b="b"/>
            <a:pathLst>
              <a:path w="776" h="344">
                <a:moveTo>
                  <a:pt x="0" y="344"/>
                </a:moveTo>
                <a:lnTo>
                  <a:pt x="172" y="344"/>
                </a:lnTo>
                <a:lnTo>
                  <a:pt x="776" y="0"/>
                </a:lnTo>
              </a:path>
            </a:pathLst>
          </a:custGeom>
          <a:noFill/>
          <a:ln w="25560">
            <a:solidFill>
              <a:srgbClr val="66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3:48:53Z</dcterms:modified>
  <cp:revision>92</cp:revision>
  <dc:subject/>
  <dc:title>PowerPoint Presentation</dc:title>
</cp:coreProperties>
</file>