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21D-873A-4392-B67B-0C44CB0B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ECF-5D1F-4D5E-984C-6A941C57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442-FBDE-4649-9927-2114A037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05C-B524-4F41-BBCA-2DB52D27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C41-1498-4D02-845F-1781D53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6D9-D16B-4347-8827-BE1AD67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8F1-7565-4747-8F51-40128E9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D30-8C01-40CA-9F83-973BF82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967-A2DB-4DE4-A317-51A14A50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7F3-F3B8-4404-AE3B-0D567435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94A-CB8E-4CFD-B36B-56827B2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774-30F7-413D-B630-2914DD2E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9DC7-C40C-4E0D-B02D-94FB50C49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" y="9907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U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flec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867280"/>
            <a:ext cx="31240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ctionaryKe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valueOfDictionary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0" y="1392120"/>
            <a:ext cx="1676160" cy="730440"/>
          </a:xfrm>
          <a:custGeom>
            <a:avLst/>
            <a:gdLst/>
            <a:ahLst/>
            <a:rect l="l" t="t" r="r" b="b"/>
            <a:pathLst>
              <a:path w="1056" h="460">
                <a:moveTo>
                  <a:pt x="0" y="460"/>
                </a:moveTo>
                <a:lnTo>
                  <a:pt x="0" y="390"/>
                </a:lnTo>
                <a:lnTo>
                  <a:pt x="1056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1720" y="1109520"/>
            <a:ext cx="4152960" cy="636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U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LrnRrp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Rrp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nLrnRr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remoteRolePlayer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LrnR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local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emoteRoleNam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U_a,,x_RrpRrnL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remoteRolePlayerProxyId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remoteRoleName 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localRoleNam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67280"/>
            <a:ext cx="1676520" cy="8553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Lucida Console"/>
              </a:rPr>
              <a:t>x_LrnRrnRr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U_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59080" y="1765440"/>
            <a:ext cx="3538800" cy="471240"/>
          </a:xfrm>
          <a:custGeom>
            <a:avLst/>
            <a:gdLst/>
            <a:ahLst/>
            <a:rect l="l" t="t" r="r" b="b"/>
            <a:pathLst>
              <a:path w="2229" h="297">
                <a:moveTo>
                  <a:pt x="2229" y="297"/>
                </a:moveTo>
                <a:lnTo>
                  <a:pt x="2229" y="250"/>
                </a:lnTo>
                <a:lnTo>
                  <a:pt x="400" y="25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986200"/>
            <a:ext cx="6680160" cy="430200"/>
          </a:xfrm>
          <a:custGeom>
            <a:avLst/>
            <a:gdLst/>
            <a:ahLst/>
            <a:rect l="l" t="t" r="r" b="b"/>
            <a:pathLst>
              <a:path w="4208" h="271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28"/>
                  <a:pt x="3708" y="72"/>
                </a:cubicBezTo>
                <a:cubicBezTo>
                  <a:pt x="4208" y="116"/>
                  <a:pt x="3624" y="230"/>
                  <a:pt x="3602" y="271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362320"/>
            <a:ext cx="6680160" cy="396720"/>
          </a:xfrm>
          <a:custGeom>
            <a:avLst/>
            <a:gdLst/>
            <a:ahLst/>
            <a:rect l="l" t="t" r="r" b="b"/>
            <a:pathLst>
              <a:path w="4208" h="250">
                <a:moveTo>
                  <a:pt x="96" y="36"/>
                </a:moveTo>
                <a:cubicBezTo>
                  <a:pt x="180" y="31"/>
                  <a:pt x="0" y="0"/>
                  <a:pt x="602" y="6"/>
                </a:cubicBezTo>
                <a:cubicBezTo>
                  <a:pt x="1204" y="12"/>
                  <a:pt x="3208" y="31"/>
                  <a:pt x="3708" y="72"/>
                </a:cubicBezTo>
                <a:cubicBezTo>
                  <a:pt x="4208" y="113"/>
                  <a:pt x="3624" y="213"/>
                  <a:pt x="3602" y="25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7T20:21:45Z</dcterms:modified>
  <cp:revision>102</cp:revision>
  <dc:subject/>
  <dc:title>PowerPoint Presentation</dc:title>
</cp:coreProperties>
</file>