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25D-7585-4DC6-B88F-C540811D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693-249D-4F3B-AADC-106BAFF4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C3F-653F-49FA-A4B8-DEAA0688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016-DFB2-4786-84D4-561392DC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95C-C568-440D-8B17-6DBE21A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564-349A-4D73-8DA9-EF86C330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4B1-A0E1-4D91-ABC7-AAA104B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89C-471C-4C6F-A9F7-D9639925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145-7708-46D6-851F-8E7A64E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05F-1A6D-4F74-8550-B499521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478-B531-4B0D-B569-96CA84D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B45-C216-4F95-A7C9-C38E87A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593-693F-4EE9-A636-862B669E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8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143000"/>
            <a:ext cx="2895840" cy="149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R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71800" cy="145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TRA,,r_rolePlayers {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R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24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TR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,,r_rolePlayers { 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2374920"/>
            <a:ext cx="852480" cy="201276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0280" y="237492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362320"/>
            <a:ext cx="530280" cy="3782880"/>
          </a:xfrm>
          <a:custGeom>
            <a:avLst/>
            <a:gdLst/>
            <a:ahLst/>
            <a:rect l="l" t="t" r="r" b="b"/>
            <a:pathLst>
              <a:path w="334" h="2191">
                <a:moveTo>
                  <a:pt x="334" y="2191"/>
                </a:moveTo>
                <a:lnTo>
                  <a:pt x="334" y="2154"/>
                </a:lnTo>
                <a:lnTo>
                  <a:pt x="0" y="215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1752480"/>
            <a:ext cx="1054080" cy="109800"/>
          </a:xfrm>
          <a:custGeom>
            <a:avLst/>
            <a:gdLst/>
            <a:ahLst/>
            <a:rect l="l" t="t" r="r" b="b"/>
            <a:pathLst>
              <a:path w="664" h="69">
                <a:moveTo>
                  <a:pt x="0" y="69"/>
                </a:moveTo>
                <a:lnTo>
                  <a:pt x="0" y="0"/>
                </a:lnTo>
                <a:lnTo>
                  <a:pt x="664" y="1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78200" y="1755720"/>
            <a:ext cx="1693800" cy="106560"/>
          </a:xfrm>
          <a:custGeom>
            <a:avLst/>
            <a:gdLst/>
            <a:ahLst/>
            <a:rect l="l" t="t" r="r" b="b"/>
            <a:pathLst>
              <a:path w="1067" h="67">
                <a:moveTo>
                  <a:pt x="1067" y="67"/>
                </a:moveTo>
                <a:lnTo>
                  <a:pt x="1067" y="0"/>
                </a:lnTo>
                <a:lnTo>
                  <a:pt x="0" y="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944720"/>
            <a:ext cx="167652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29200" y="1952640"/>
            <a:ext cx="1690920" cy="7452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004840"/>
            <a:ext cx="688680" cy="86544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497480"/>
            <a:ext cx="1747800" cy="1674720"/>
          </a:xfrm>
          <a:custGeom>
            <a:avLst/>
            <a:gdLst/>
            <a:ahLst/>
            <a:rect l="l" t="t" r="r" b="b"/>
            <a:pathLst>
              <a:path w="1101" h="1055">
                <a:moveTo>
                  <a:pt x="0" y="1055"/>
                </a:moveTo>
                <a:lnTo>
                  <a:pt x="0" y="1007"/>
                </a:lnTo>
                <a:lnTo>
                  <a:pt x="761" y="1001"/>
                </a:lnTo>
                <a:lnTo>
                  <a:pt x="761" y="0"/>
                </a:lnTo>
                <a:lnTo>
                  <a:pt x="1101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89840" y="2181240"/>
            <a:ext cx="520920" cy="3970440"/>
          </a:xfrm>
          <a:custGeom>
            <a:avLst/>
            <a:gdLst/>
            <a:ahLst/>
            <a:rect l="l" t="t" r="r" b="b"/>
            <a:pathLst>
              <a:path w="328" h="2501">
                <a:moveTo>
                  <a:pt x="0" y="42"/>
                </a:moveTo>
                <a:lnTo>
                  <a:pt x="7" y="0"/>
                </a:lnTo>
                <a:lnTo>
                  <a:pt x="328" y="0"/>
                </a:lnTo>
                <a:lnTo>
                  <a:pt x="328" y="2501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7720" y="4314960"/>
            <a:ext cx="2278080" cy="129672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2157480"/>
            <a:ext cx="765000" cy="2711520"/>
          </a:xfrm>
          <a:custGeom>
            <a:avLst/>
            <a:gdLst/>
            <a:ahLst/>
            <a:rect l="l" t="t" r="r" b="b"/>
            <a:pathLst>
              <a:path w="482" h="1708">
                <a:moveTo>
                  <a:pt x="0" y="43"/>
                </a:moveTo>
                <a:lnTo>
                  <a:pt x="2" y="0"/>
                </a:lnTo>
                <a:lnTo>
                  <a:pt x="482" y="0"/>
                </a:lnTo>
                <a:lnTo>
                  <a:pt x="480" y="170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3886200"/>
            <a:ext cx="1752480" cy="167652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724280"/>
            <a:ext cx="1676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TR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00:56:57Z</dcterms:modified>
  <cp:revision>91</cp:revision>
  <dc:subject/>
  <dc:title>PowerPoint Presentation</dc:title>
</cp:coreProperties>
</file>