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0A7-2934-40C8-8AF1-4B7A9209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548-FA4F-4968-BD81-D4380BEB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0A0-18FC-439B-87C3-F12954CA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1E9-8DE2-4AC5-8CF7-15CAAA54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9CC-9A96-4BFC-850F-8A249797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5C4-CB90-49F2-B85C-F04A8A7B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FDD-C0B2-4A10-A644-8600806E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13A-167E-47C3-927B-9A9BA656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3D5-311B-4556-80C1-26B8FFAF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3B1-8C11-4117-B8D8-969BD545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8D0-52B3-46F5-8C59-612C8A40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46E-600D-4A4F-B030-EA68402D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2316-A24F-4A25-A03C-0FA5F59BE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8240" y="3886200"/>
            <a:ext cx="649080" cy="2419200"/>
          </a:xfrm>
          <a:custGeom>
            <a:avLst/>
            <a:gdLst/>
            <a:ahLst/>
            <a:rect l="l" t="t" r="r" b="b"/>
            <a:pathLst>
              <a:path w="409" h="1524">
                <a:moveTo>
                  <a:pt x="0" y="1524"/>
                </a:moveTo>
                <a:lnTo>
                  <a:pt x="409" y="1524"/>
                </a:lnTo>
                <a:lnTo>
                  <a:pt x="409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41920" y="3774960"/>
            <a:ext cx="1935360" cy="2498760"/>
          </a:xfrm>
          <a:custGeom>
            <a:avLst/>
            <a:gdLst/>
            <a:ahLst/>
            <a:rect l="l" t="t" r="r" b="b"/>
            <a:pathLst>
              <a:path w="1219" h="1574">
                <a:moveTo>
                  <a:pt x="0" y="0"/>
                </a:moveTo>
                <a:lnTo>
                  <a:pt x="144" y="5"/>
                </a:lnTo>
                <a:lnTo>
                  <a:pt x="148" y="1574"/>
                </a:lnTo>
                <a:lnTo>
                  <a:pt x="1219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20:20Z</dcterms:modified>
  <cp:revision>94</cp:revision>
  <dc:subject/>
  <dc:title>PowerPoint Presentation</dc:title>
</cp:coreProperties>
</file>