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3F3A-2E65-4D89-89B2-BE91A4016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CD56-152D-48FD-B8CA-8021607F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0E7E-6477-42E6-B4D2-F34493E1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80CE-1669-4AD4-8955-FE18DFD72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EF89-B6DC-42E7-AFE6-56279C69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411D-3B72-453D-826D-BC2B455F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C7D1-C38B-46A3-A400-EC76389D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FECA-3272-4CE3-A5EA-E7F280BD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DDF8-7B78-40B5-AE01-642CCB6D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9D86-4286-4A43-B48E-C6F5DFB5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E2A2-5A87-4855-B3F4-E631AEA9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B8AF-4C6F-4700-933B-FDE809B5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4504-264F-4410-92A2-3C8514ED4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2280" y="2871720"/>
            <a:ext cx="3276360" cy="1889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A-proxy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(Subject: The 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represented by this </a:t>
            </a:r>
            <a:r>
              <a:rPr b="1" lang="en-US" sz="1200" spc="-1" strike="noStrike" u="sng">
                <a:solidFill>
                  <a:srgbClr val="996600"/>
                </a:solidFill>
                <a:uFillTx/>
                <a:latin typeface="Arial"/>
              </a:rPr>
              <a:t>a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sser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,,a_type { </a:t>
            </a:r>
            <a:r>
              <a:rPr b="1" i="1" lang="en-US" sz="1400" spc="-1" strike="noStrike">
                <a:solidFill>
                  <a:srgbClr val="6633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TRA,,a_sip 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[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ffff99"/>
                </a:solidFill>
                <a:latin typeface="Monotype Corsiva"/>
              </a:rPr>
              <a:t>, proxyId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] 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[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,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proxyId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143000"/>
            <a:ext cx="2895840" cy="1493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T-proxy 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663300"/>
                </a:solidFill>
                <a:uFillTx/>
                <a:latin typeface="Arial"/>
              </a:rPr>
              <a:t>t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yp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TRA,,t_sip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 , proxyId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,,t_assertions { 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480" y="4876920"/>
            <a:ext cx="2786040" cy="1645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SIP may or may not 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governed by TRA SM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,,x_roles {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 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) 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612792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0080"/>
                </a:solidFill>
                <a:latin typeface="Arial"/>
              </a:rPr>
              <a:t>(in this assertion, this role happens to be unplay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480" y="1143000"/>
            <a:ext cx="2971800" cy="145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R-proxy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r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le in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ype of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SIP not governed by TRA SM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,,r_type { </a:t>
            </a:r>
            <a:r>
              <a:rPr b="1" i="1" lang="en-US" sz="1400" spc="-1" strike="noStrike">
                <a:solidFill>
                  <a:srgbClr val="6633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 TRA,,r_rolePlayers {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52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_ass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TRA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map patte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MP), shown used in a 2-role asse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38720" y="1143000"/>
            <a:ext cx="2971800" cy="124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R-proxy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r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le in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ype of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SIP not governed by TRA SM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,,r_type { </a:t>
            </a:r>
            <a:r>
              <a:rPr b="1" i="1" lang="en-US" sz="1400" spc="-1" strike="noStrike">
                <a:solidFill>
                  <a:srgbClr val="6633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,,r_rolePlayers { 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5715000"/>
            <a:ext cx="3505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IP = Subject Identity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thers are OPs – Other Propertie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{ }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{ } = property values are 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[ ]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[ ] = property values are lists/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rder is signific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2374920"/>
            <a:ext cx="852480" cy="2012760"/>
          </a:xfrm>
          <a:custGeom>
            <a:avLst/>
            <a:gdLst/>
            <a:ahLst/>
            <a:rect l="l" t="t" r="r" b="b"/>
            <a:pathLst>
              <a:path w="537" h="1268">
                <a:moveTo>
                  <a:pt x="537" y="1268"/>
                </a:moveTo>
                <a:lnTo>
                  <a:pt x="537" y="1230"/>
                </a:lnTo>
                <a:lnTo>
                  <a:pt x="0" y="1230"/>
                </a:lnTo>
                <a:lnTo>
                  <a:pt x="2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0280" y="2374920"/>
            <a:ext cx="2457360" cy="1790640"/>
          </a:xfrm>
          <a:custGeom>
            <a:avLst/>
            <a:gdLst/>
            <a:ahLst/>
            <a:rect l="l" t="t" r="r" b="b"/>
            <a:pathLst>
              <a:path w="1548" h="1128">
                <a:moveTo>
                  <a:pt x="0" y="1128"/>
                </a:moveTo>
                <a:lnTo>
                  <a:pt x="0" y="1095"/>
                </a:lnTo>
                <a:lnTo>
                  <a:pt x="1548" y="1100"/>
                </a:lnTo>
                <a:lnTo>
                  <a:pt x="1548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2362320"/>
            <a:ext cx="530280" cy="3782880"/>
          </a:xfrm>
          <a:custGeom>
            <a:avLst/>
            <a:gdLst/>
            <a:ahLst/>
            <a:rect l="l" t="t" r="r" b="b"/>
            <a:pathLst>
              <a:path w="334" h="2191">
                <a:moveTo>
                  <a:pt x="334" y="2191"/>
                </a:moveTo>
                <a:lnTo>
                  <a:pt x="334" y="2154"/>
                </a:lnTo>
                <a:lnTo>
                  <a:pt x="0" y="215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81480" y="1752480"/>
            <a:ext cx="1054080" cy="109800"/>
          </a:xfrm>
          <a:custGeom>
            <a:avLst/>
            <a:gdLst/>
            <a:ahLst/>
            <a:rect l="l" t="t" r="r" b="b"/>
            <a:pathLst>
              <a:path w="664" h="69">
                <a:moveTo>
                  <a:pt x="0" y="69"/>
                </a:moveTo>
                <a:lnTo>
                  <a:pt x="0" y="0"/>
                </a:lnTo>
                <a:lnTo>
                  <a:pt x="664" y="1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78200" y="1755720"/>
            <a:ext cx="1693800" cy="106560"/>
          </a:xfrm>
          <a:custGeom>
            <a:avLst/>
            <a:gdLst/>
            <a:ahLst/>
            <a:rect l="l" t="t" r="r" b="b"/>
            <a:pathLst>
              <a:path w="1067" h="67">
                <a:moveTo>
                  <a:pt x="1067" y="67"/>
                </a:moveTo>
                <a:lnTo>
                  <a:pt x="1067" y="0"/>
                </a:lnTo>
                <a:lnTo>
                  <a:pt x="0" y="4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1944720"/>
            <a:ext cx="1676520" cy="74520"/>
          </a:xfrm>
          <a:custGeom>
            <a:avLst/>
            <a:gdLst/>
            <a:ahLst/>
            <a:rect l="l" t="t" r="r" b="b"/>
            <a:pathLst>
              <a:path w="683" h="57">
                <a:moveTo>
                  <a:pt x="0" y="57"/>
                </a:moveTo>
                <a:lnTo>
                  <a:pt x="0" y="0"/>
                </a:lnTo>
                <a:lnTo>
                  <a:pt x="683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29200" y="1952640"/>
            <a:ext cx="1690920" cy="74520"/>
          </a:xfrm>
          <a:custGeom>
            <a:avLst/>
            <a:gdLst/>
            <a:ahLst/>
            <a:rect l="l" t="t" r="r" b="b"/>
            <a:pathLst>
              <a:path w="985" h="49">
                <a:moveTo>
                  <a:pt x="985" y="49"/>
                </a:moveTo>
                <a:lnTo>
                  <a:pt x="985" y="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60880" y="2255760"/>
            <a:ext cx="1158840" cy="1327320"/>
          </a:xfrm>
          <a:custGeom>
            <a:avLst/>
            <a:gdLst/>
            <a:ahLst/>
            <a:rect l="l" t="t" r="r" b="b"/>
            <a:pathLst>
              <a:path w="730" h="836">
                <a:moveTo>
                  <a:pt x="730" y="836"/>
                </a:moveTo>
                <a:lnTo>
                  <a:pt x="730" y="789"/>
                </a:lnTo>
                <a:lnTo>
                  <a:pt x="0" y="793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004840"/>
            <a:ext cx="688680" cy="865440"/>
          </a:xfrm>
          <a:custGeom>
            <a:avLst/>
            <a:gdLst/>
            <a:ahLst/>
            <a:rect l="l" t="t" r="r" b="b"/>
            <a:pathLst>
              <a:path w="502" h="540">
                <a:moveTo>
                  <a:pt x="0" y="53"/>
                </a:moveTo>
                <a:lnTo>
                  <a:pt x="0" y="0"/>
                </a:lnTo>
                <a:lnTo>
                  <a:pt x="500" y="0"/>
                </a:lnTo>
                <a:lnTo>
                  <a:pt x="502" y="540"/>
                </a:lnTo>
              </a:path>
            </a:pathLst>
          </a:custGeom>
          <a:noFill/>
          <a:ln w="1908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95280" y="4497480"/>
            <a:ext cx="1747800" cy="1674720"/>
          </a:xfrm>
          <a:custGeom>
            <a:avLst/>
            <a:gdLst/>
            <a:ahLst/>
            <a:rect l="l" t="t" r="r" b="b"/>
            <a:pathLst>
              <a:path w="1101" h="1055">
                <a:moveTo>
                  <a:pt x="0" y="1055"/>
                </a:moveTo>
                <a:lnTo>
                  <a:pt x="0" y="1007"/>
                </a:lnTo>
                <a:lnTo>
                  <a:pt x="761" y="1001"/>
                </a:lnTo>
                <a:lnTo>
                  <a:pt x="761" y="0"/>
                </a:lnTo>
                <a:lnTo>
                  <a:pt x="1101" y="5"/>
                </a:lnTo>
              </a:path>
            </a:pathLst>
          </a:custGeom>
          <a:noFill/>
          <a:ln w="255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89840" y="2181240"/>
            <a:ext cx="520920" cy="3970440"/>
          </a:xfrm>
          <a:custGeom>
            <a:avLst/>
            <a:gdLst/>
            <a:ahLst/>
            <a:rect l="l" t="t" r="r" b="b"/>
            <a:pathLst>
              <a:path w="328" h="2501">
                <a:moveTo>
                  <a:pt x="0" y="42"/>
                </a:moveTo>
                <a:lnTo>
                  <a:pt x="7" y="0"/>
                </a:lnTo>
                <a:lnTo>
                  <a:pt x="328" y="0"/>
                </a:lnTo>
                <a:lnTo>
                  <a:pt x="328" y="2501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97480" y="4219560"/>
            <a:ext cx="3079800" cy="2054160"/>
          </a:xfrm>
          <a:custGeom>
            <a:avLst/>
            <a:gdLst/>
            <a:ahLst/>
            <a:rect l="l" t="t" r="r" b="b"/>
            <a:pathLst>
              <a:path w="1940" h="1294">
                <a:moveTo>
                  <a:pt x="0" y="5"/>
                </a:moveTo>
                <a:lnTo>
                  <a:pt x="864" y="0"/>
                </a:lnTo>
                <a:lnTo>
                  <a:pt x="869" y="1294"/>
                </a:lnTo>
                <a:lnTo>
                  <a:pt x="1940" y="1289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17720" y="4314960"/>
            <a:ext cx="2278080" cy="1296720"/>
          </a:xfrm>
          <a:custGeom>
            <a:avLst/>
            <a:gdLst/>
            <a:ahLst/>
            <a:rect l="l" t="t" r="r" b="b"/>
            <a:pathLst>
              <a:path w="1435" h="817">
                <a:moveTo>
                  <a:pt x="1029" y="43"/>
                </a:moveTo>
                <a:lnTo>
                  <a:pt x="1029" y="0"/>
                </a:lnTo>
                <a:lnTo>
                  <a:pt x="1435" y="0"/>
                </a:lnTo>
                <a:lnTo>
                  <a:pt x="1435" y="817"/>
                </a:lnTo>
                <a:lnTo>
                  <a:pt x="0" y="812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78200" y="2157480"/>
            <a:ext cx="765000" cy="2711520"/>
          </a:xfrm>
          <a:custGeom>
            <a:avLst/>
            <a:gdLst/>
            <a:ahLst/>
            <a:rect l="l" t="t" r="r" b="b"/>
            <a:pathLst>
              <a:path w="482" h="1708">
                <a:moveTo>
                  <a:pt x="0" y="43"/>
                </a:moveTo>
                <a:lnTo>
                  <a:pt x="2" y="0"/>
                </a:lnTo>
                <a:lnTo>
                  <a:pt x="482" y="0"/>
                </a:lnTo>
                <a:lnTo>
                  <a:pt x="480" y="1708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3886200"/>
            <a:ext cx="1752480" cy="1676520"/>
          </a:xfrm>
          <a:prstGeom prst="rect">
            <a:avLst/>
          </a:prstGeom>
          <a:noFill/>
          <a:ln w="648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4724280"/>
            <a:ext cx="16761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N.B.: Only 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a_sip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 need be originally populated; all other TRA properties will be automatically conferr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646128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versava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2005 Steven R. Newcom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29:40Z</dcterms:created>
  <dc:creator>Steven R. Newcomb</dc:creator>
  <dc:description/>
  <dc:language>en-US</dc:language>
  <cp:lastModifiedBy>Steven R. Newcomb</cp:lastModifiedBy>
  <dcterms:modified xsi:type="dcterms:W3CDTF">2005-06-24T00:56:57Z</dcterms:modified>
  <cp:revision>91</cp:revision>
  <dc:subject/>
  <dc:title>PowerPoint Presentation</dc:title>
</cp:coreProperties>
</file>