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071-25E7-43C1-B2F1-A6B92BA5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CCF-5AC3-4F8D-A0A6-18E9C1BA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9E4-D7E6-4176-A6B5-0EE9ACB1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AB2-483C-46F9-B60E-35C6F2EC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BF3-229D-4090-829D-D0378D9E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464-DCBB-4B81-9542-E1A32BF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342-32EE-49AF-8C16-CF5B218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14F-B8A0-46BA-9D7A-28A48477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80D-D2C3-4E48-9154-81CDB51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E7B-7C06-413C-A577-6961D252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632-06EE-4FBA-B01A-D0E9BF3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004-2EAC-4552-A597-175FC75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6EC-2570-4958-AD1C-6CD9E7D3F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_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1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A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_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79600" y="4481640"/>
            <a:ext cx="1571400" cy="1674720"/>
          </a:xfrm>
          <a:custGeom>
            <a:avLst/>
            <a:gdLst/>
            <a:ahLst/>
            <a:rect l="l" t="t" r="r" b="b"/>
            <a:pathLst>
              <a:path w="990" h="1055">
                <a:moveTo>
                  <a:pt x="0" y="1055"/>
                </a:moveTo>
                <a:lnTo>
                  <a:pt x="0" y="1007"/>
                </a:lnTo>
                <a:lnTo>
                  <a:pt x="695" y="1001"/>
                </a:lnTo>
                <a:lnTo>
                  <a:pt x="695" y="0"/>
                </a:lnTo>
                <a:lnTo>
                  <a:pt x="990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7480" y="4183200"/>
            <a:ext cx="3079800" cy="21333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7720" y="4282920"/>
            <a:ext cx="2278080" cy="1400400"/>
          </a:xfrm>
          <a:custGeom>
            <a:avLst/>
            <a:gdLst/>
            <a:ahLst/>
            <a:rect l="l" t="t" r="r" b="b"/>
            <a:pathLst>
              <a:path w="1435" h="882">
                <a:moveTo>
                  <a:pt x="1100" y="40"/>
                </a:moveTo>
                <a:lnTo>
                  <a:pt x="1100" y="1"/>
                </a:lnTo>
                <a:lnTo>
                  <a:pt x="1435" y="0"/>
                </a:lnTo>
                <a:lnTo>
                  <a:pt x="1435" y="882"/>
                </a:lnTo>
                <a:lnTo>
                  <a:pt x="0" y="877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886200"/>
            <a:ext cx="1752480" cy="152388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A_a property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12:19:05Z</dcterms:modified>
  <cp:revision>95</cp:revision>
  <dc:subject/>
  <dc:title>PowerPoint Presentation</dc:title>
</cp:coreProperties>
</file>