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394-CBBC-468A-9519-27B1021E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9679-AA9E-460C-9A7C-D14958C0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8BB-4DAC-4367-8F92-3651557A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461-79BF-4990-AAAE-A9EDF8FD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CC9-E25E-46E9-87C8-EC6D8F47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2BA-5C44-4323-905A-C61EDABF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BA0-8815-4526-B439-551D48A3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099-56A0-4556-AC25-16FE4485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C89-17B4-450C-96D2-C8E3C4A8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8C2-FFE4-483C-B5C6-4FFD9211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8FA-CA2F-478D-8596-072C4E69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362-579B-4C7D-B525-64E8024E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6F1D-73A4-4637-8516-E6EDC8D95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210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a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a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524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t_sip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, 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t_assertions {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1463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x_casting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2819520"/>
            <a:ext cx="2438280" cy="2254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“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ing” – the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</a:t>
            </a:r>
            <a:r>
              <a:rPr b="0" i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seen as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of this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c_sip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" y="1143000"/>
            <a:ext cx="2971800" cy="127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B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38720" y="1143000"/>
            <a:ext cx="2971800" cy="127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72240" y="2895480"/>
            <a:ext cx="2438280" cy="2254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act that no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has b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 in this ro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c_sip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ccffff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ccffff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3733920"/>
            <a:ext cx="2286000" cy="81000"/>
          </a:xfrm>
          <a:custGeom>
            <a:avLst/>
            <a:gdLst/>
            <a:ahLst/>
            <a:rect l="l" t="t" r="r" b="b"/>
            <a:pathLst>
              <a:path w="1440" h="51">
                <a:moveTo>
                  <a:pt x="1438" y="51"/>
                </a:moveTo>
                <a:lnTo>
                  <a:pt x="1440" y="5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54640" y="3733920"/>
            <a:ext cx="1351080" cy="81000"/>
          </a:xfrm>
          <a:custGeom>
            <a:avLst/>
            <a:gdLst/>
            <a:ahLst/>
            <a:rect l="l" t="t" r="r" b="b"/>
            <a:pathLst>
              <a:path w="864" h="52">
                <a:moveTo>
                  <a:pt x="0" y="5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7280" y="2390760"/>
            <a:ext cx="852480" cy="2013120"/>
          </a:xfrm>
          <a:custGeom>
            <a:avLst/>
            <a:gdLst/>
            <a:ahLst/>
            <a:rect l="l" t="t" r="r" b="b"/>
            <a:pathLst>
              <a:path w="537" h="1268">
                <a:moveTo>
                  <a:pt x="537" y="1268"/>
                </a:moveTo>
                <a:lnTo>
                  <a:pt x="537" y="1230"/>
                </a:lnTo>
                <a:lnTo>
                  <a:pt x="0" y="1230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70280" y="2398680"/>
            <a:ext cx="2457360" cy="1790640"/>
          </a:xfrm>
          <a:custGeom>
            <a:avLst/>
            <a:gdLst/>
            <a:ahLst/>
            <a:rect l="l" t="t" r="r" b="b"/>
            <a:pathLst>
              <a:path w="1548" h="1128">
                <a:moveTo>
                  <a:pt x="0" y="1128"/>
                </a:moveTo>
                <a:lnTo>
                  <a:pt x="0" y="1095"/>
                </a:lnTo>
                <a:lnTo>
                  <a:pt x="1548" y="1100"/>
                </a:lnTo>
                <a:lnTo>
                  <a:pt x="1548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6600" y="2406600"/>
            <a:ext cx="2039760" cy="1851120"/>
          </a:xfrm>
          <a:custGeom>
            <a:avLst/>
            <a:gdLst/>
            <a:ahLst/>
            <a:rect l="l" t="t" r="r" b="b"/>
            <a:pathLst>
              <a:path w="1285" h="1166">
                <a:moveTo>
                  <a:pt x="0" y="1166"/>
                </a:moveTo>
                <a:lnTo>
                  <a:pt x="0" y="1137"/>
                </a:lnTo>
                <a:lnTo>
                  <a:pt x="1285" y="1142"/>
                </a:lnTo>
                <a:lnTo>
                  <a:pt x="1285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406600"/>
            <a:ext cx="760680" cy="1955880"/>
          </a:xfrm>
          <a:custGeom>
            <a:avLst/>
            <a:gdLst/>
            <a:ahLst/>
            <a:rect l="l" t="t" r="r" b="b"/>
            <a:pathLst>
              <a:path w="479" h="1232">
                <a:moveTo>
                  <a:pt x="479" y="1232"/>
                </a:moveTo>
                <a:lnTo>
                  <a:pt x="479" y="1185"/>
                </a:lnTo>
                <a:lnTo>
                  <a:pt x="0" y="1182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9960" y="1771560"/>
            <a:ext cx="1084320" cy="907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98800" y="1746360"/>
            <a:ext cx="1460520" cy="115920"/>
          </a:xfrm>
          <a:custGeom>
            <a:avLst/>
            <a:gdLst/>
            <a:ahLst/>
            <a:rect l="l" t="t" r="r" b="b"/>
            <a:pathLst>
              <a:path w="920" h="73">
                <a:moveTo>
                  <a:pt x="920" y="73"/>
                </a:moveTo>
                <a:lnTo>
                  <a:pt x="920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02640" y="2157480"/>
            <a:ext cx="966600" cy="750960"/>
          </a:xfrm>
          <a:custGeom>
            <a:avLst/>
            <a:gdLst/>
            <a:ahLst/>
            <a:rect l="l" t="t" r="r" b="b"/>
            <a:pathLst>
              <a:path w="609" h="473">
                <a:moveTo>
                  <a:pt x="0" y="40"/>
                </a:moveTo>
                <a:lnTo>
                  <a:pt x="0" y="0"/>
                </a:lnTo>
                <a:lnTo>
                  <a:pt x="609" y="0"/>
                </a:lnTo>
                <a:lnTo>
                  <a:pt x="609" y="473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2157480"/>
            <a:ext cx="761760" cy="660240"/>
          </a:xfrm>
          <a:custGeom>
            <a:avLst/>
            <a:gdLst/>
            <a:ahLst/>
            <a:rect l="l" t="t" r="r" b="b"/>
            <a:pathLst>
              <a:path w="432" h="416">
                <a:moveTo>
                  <a:pt x="0" y="35"/>
                </a:moveTo>
                <a:lnTo>
                  <a:pt x="0" y="0"/>
                </a:lnTo>
                <a:lnTo>
                  <a:pt x="432" y="0"/>
                </a:lnTo>
                <a:lnTo>
                  <a:pt x="431" y="416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68320" y="5060880"/>
            <a:ext cx="662040" cy="1602000"/>
          </a:xfrm>
          <a:custGeom>
            <a:avLst/>
            <a:gdLst/>
            <a:ahLst/>
            <a:rect l="l" t="t" r="r" b="b"/>
            <a:pathLst>
              <a:path w="432" h="1009">
                <a:moveTo>
                  <a:pt x="2" y="1009"/>
                </a:moveTo>
                <a:lnTo>
                  <a:pt x="0" y="965"/>
                </a:lnTo>
                <a:lnTo>
                  <a:pt x="432" y="965"/>
                </a:lnTo>
                <a:lnTo>
                  <a:pt x="43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944720"/>
            <a:ext cx="1828800" cy="745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29200" y="1949400"/>
            <a:ext cx="1563840" cy="77760"/>
          </a:xfrm>
          <a:custGeom>
            <a:avLst/>
            <a:gdLst/>
            <a:ahLst/>
            <a:rect l="l" t="t" r="r" b="b"/>
            <a:pathLst>
              <a:path w="985" h="49">
                <a:moveTo>
                  <a:pt x="985" y="49"/>
                </a:moveTo>
                <a:lnTo>
                  <a:pt x="985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60880" y="2255760"/>
            <a:ext cx="1158840" cy="1327320"/>
          </a:xfrm>
          <a:custGeom>
            <a:avLst/>
            <a:gdLst/>
            <a:ahLst/>
            <a:rect l="l" t="t" r="r" b="b"/>
            <a:pathLst>
              <a:path w="730" h="836">
                <a:moveTo>
                  <a:pt x="730" y="836"/>
                </a:moveTo>
                <a:lnTo>
                  <a:pt x="730" y="789"/>
                </a:lnTo>
                <a:lnTo>
                  <a:pt x="0" y="79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97520" y="2021040"/>
            <a:ext cx="796680" cy="857160"/>
          </a:xfrm>
          <a:custGeom>
            <a:avLst/>
            <a:gdLst/>
            <a:ahLst/>
            <a:rect l="l" t="t" r="r" b="b"/>
            <a:pathLst>
              <a:path w="502" h="540">
                <a:moveTo>
                  <a:pt x="0" y="53"/>
                </a:moveTo>
                <a:lnTo>
                  <a:pt x="0" y="0"/>
                </a:lnTo>
                <a:lnTo>
                  <a:pt x="500" y="0"/>
                </a:lnTo>
                <a:lnTo>
                  <a:pt x="502" y="54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6600" y="4419720"/>
            <a:ext cx="2441520" cy="7596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03960" y="4495680"/>
            <a:ext cx="934920" cy="76320"/>
          </a:xfrm>
          <a:custGeom>
            <a:avLst/>
            <a:gdLst/>
            <a:ahLst/>
            <a:rect l="l" t="t" r="r" b="b"/>
            <a:pathLst>
              <a:path w="589" h="48">
                <a:moveTo>
                  <a:pt x="589" y="48"/>
                </a:moveTo>
                <a:lnTo>
                  <a:pt x="589" y="0"/>
                </a:lnTo>
                <a:lnTo>
                  <a:pt x="0" y="6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54720" y="4708440"/>
            <a:ext cx="966960" cy="1455840"/>
          </a:xfrm>
          <a:custGeom>
            <a:avLst/>
            <a:gdLst/>
            <a:ahLst/>
            <a:rect l="l" t="t" r="r" b="b"/>
            <a:pathLst>
              <a:path w="609" h="917">
                <a:moveTo>
                  <a:pt x="0" y="41"/>
                </a:moveTo>
                <a:lnTo>
                  <a:pt x="0" y="0"/>
                </a:lnTo>
                <a:lnTo>
                  <a:pt x="609" y="0"/>
                </a:lnTo>
                <a:lnTo>
                  <a:pt x="609" y="917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7480" y="4219560"/>
            <a:ext cx="3079800" cy="20541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7720" y="4338720"/>
            <a:ext cx="2278080" cy="1297080"/>
          </a:xfrm>
          <a:custGeom>
            <a:avLst/>
            <a:gdLst/>
            <a:ahLst/>
            <a:rect l="l" t="t" r="r" b="b"/>
            <a:pathLst>
              <a:path w="1435" h="817">
                <a:moveTo>
                  <a:pt x="1029" y="43"/>
                </a:moveTo>
                <a:lnTo>
                  <a:pt x="1029" y="0"/>
                </a:lnTo>
                <a:lnTo>
                  <a:pt x="1435" y="0"/>
                </a:lnTo>
                <a:lnTo>
                  <a:pt x="1435" y="817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648320"/>
            <a:ext cx="966960" cy="912600"/>
          </a:xfrm>
          <a:custGeom>
            <a:avLst/>
            <a:gdLst/>
            <a:ahLst/>
            <a:rect l="l" t="t" r="r" b="b"/>
            <a:pathLst>
              <a:path w="609" h="575">
                <a:moveTo>
                  <a:pt x="0" y="40"/>
                </a:moveTo>
                <a:lnTo>
                  <a:pt x="0" y="0"/>
                </a:lnTo>
                <a:lnTo>
                  <a:pt x="609" y="0"/>
                </a:lnTo>
                <a:lnTo>
                  <a:pt x="607" y="575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962520"/>
            <a:ext cx="1752480" cy="144756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724280"/>
            <a:ext cx="167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all other B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2T20:15:46Z</dcterms:modified>
  <cp:revision>90</cp:revision>
  <dc:subject/>
  <dc:title>PowerPoint Presentation</dc:title>
</cp:coreProperties>
</file>