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610-CAA2-4A0A-8E9E-35BE04D1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173-E01F-479D-BFF4-10369BBB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7B2-081C-4A23-ACE4-3B911CE4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627-80E6-4CA2-A148-909D4701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E7B-381E-4DA9-ADEC-C7E43FA3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501-3BBE-42FF-8A96-3DD016E0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9A1-1892-4BC1-AF15-C0881C34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D08-D6A9-44CD-8573-6A11772C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311-CFE6-4F90-814D-FAED7AB5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5E2-CDE7-4943-8BD7-1EC5ADC4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4D8-8900-4790-838A-5F162081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E0A-4884-41E9-8567-7438045A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0122-34C7-4877-92B5-797C87B66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presen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7200" y="1998720"/>
            <a:ext cx="1741320" cy="1440"/>
          </a:xfrm>
          <a:custGeom>
            <a:avLst/>
            <a:gdLst/>
            <a:ahLst/>
            <a:rect l="l" t="t" r="r" b="b"/>
            <a:pathLst>
              <a:path w="1097" h="1">
                <a:moveTo>
                  <a:pt x="0" y="0"/>
                </a:moveTo>
                <a:lnTo>
                  <a:pt x="1097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03240" y="3968640"/>
            <a:ext cx="7496280" cy="390600"/>
          </a:xfrm>
          <a:custGeom>
            <a:avLst/>
            <a:gdLst/>
            <a:ahLst/>
            <a:rect l="l" t="t" r="r" b="b"/>
            <a:pathLst>
              <a:path w="4722" h="246">
                <a:moveTo>
                  <a:pt x="160" y="32"/>
                </a:moveTo>
                <a:cubicBezTo>
                  <a:pt x="244" y="27"/>
                  <a:pt x="0" y="0"/>
                  <a:pt x="666" y="2"/>
                </a:cubicBezTo>
                <a:cubicBezTo>
                  <a:pt x="1332" y="4"/>
                  <a:pt x="3588" y="10"/>
                  <a:pt x="4155" y="46"/>
                </a:cubicBezTo>
                <a:cubicBezTo>
                  <a:pt x="4722" y="82"/>
                  <a:pt x="4186" y="188"/>
                  <a:pt x="4067" y="217"/>
                </a:cubicBezTo>
                <a:cubicBezTo>
                  <a:pt x="3948" y="246"/>
                  <a:pt x="3574" y="221"/>
                  <a:pt x="3444" y="222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9120" y="2004840"/>
            <a:ext cx="3546360" cy="155880"/>
          </a:xfrm>
          <a:custGeom>
            <a:avLst/>
            <a:gdLst/>
            <a:ahLst/>
            <a:rect l="l" t="t" r="r" b="b"/>
            <a:pathLst>
              <a:path w="2234" h="98">
                <a:moveTo>
                  <a:pt x="2155" y="0"/>
                </a:moveTo>
                <a:lnTo>
                  <a:pt x="2234" y="0"/>
                </a:lnTo>
                <a:lnTo>
                  <a:pt x="2234" y="93"/>
                </a:lnTo>
                <a:lnTo>
                  <a:pt x="0" y="98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58:26Z</dcterms:modified>
  <cp:revision>103</cp:revision>
  <dc:subject/>
  <dc:title>PowerPoint Presentation</dc:title>
</cp:coreProperties>
</file>