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AE0-5D70-4038-89F0-B6EE802B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064-BC53-421C-BCC1-C01C72B3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25A-5D40-49C2-A81D-7FB1EEE1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739-9AD5-46F8-9192-304ED44A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232-CCBB-411A-9F3D-23ACF18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12F-91B2-4129-BB7F-7747F71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E1A-94A3-41BD-BCF8-6148F100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7CF-BC03-4A00-BB5E-8E688AE2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599-50E9-4DCA-932C-E96DDF7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A1A-5EF3-4F25-A802-114E0E8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F66-10E1-4636-A3B8-5C64811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9A2-F313-467D-B800-8DAFB71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B405-23CC-4F86-9771-FCF01B823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720" y="2130480"/>
            <a:ext cx="338040" cy="1600200"/>
          </a:xfrm>
          <a:custGeom>
            <a:avLst/>
            <a:gdLst/>
            <a:ahLst/>
            <a:rect l="l" t="t" r="r" b="b"/>
            <a:pathLst>
              <a:path w="213" h="1008">
                <a:moveTo>
                  <a:pt x="213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2280" y="2133720"/>
            <a:ext cx="1298520" cy="1596960"/>
          </a:xfrm>
          <a:custGeom>
            <a:avLst/>
            <a:gdLst/>
            <a:ahLst/>
            <a:rect l="l" t="t" r="r" b="b"/>
            <a:pathLst>
              <a:path w="804" h="1096">
                <a:moveTo>
                  <a:pt x="0" y="1096"/>
                </a:moveTo>
                <a:lnTo>
                  <a:pt x="804" y="1092"/>
                </a:lnTo>
                <a:lnTo>
                  <a:pt x="804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2138400"/>
            <a:ext cx="95400" cy="4151160"/>
          </a:xfrm>
          <a:custGeom>
            <a:avLst/>
            <a:gdLst/>
            <a:ahLst/>
            <a:rect l="l" t="t" r="r" b="b"/>
            <a:pathLst>
              <a:path w="60" h="2615">
                <a:moveTo>
                  <a:pt x="60" y="2615"/>
                </a:moveTo>
                <a:lnTo>
                  <a:pt x="0" y="261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6160" y="3886200"/>
            <a:ext cx="1181160" cy="2419200"/>
          </a:xfrm>
          <a:custGeom>
            <a:avLst/>
            <a:gdLst/>
            <a:ahLst/>
            <a:rect l="l" t="t" r="r" b="b"/>
            <a:pathLst>
              <a:path w="744" h="1524">
                <a:moveTo>
                  <a:pt x="0" y="1524"/>
                </a:moveTo>
                <a:lnTo>
                  <a:pt x="744" y="1524"/>
                </a:lnTo>
                <a:lnTo>
                  <a:pt x="744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6880" y="2027160"/>
            <a:ext cx="1268280" cy="4108680"/>
          </a:xfrm>
          <a:custGeom>
            <a:avLst/>
            <a:gdLst/>
            <a:ahLst/>
            <a:rect l="l" t="t" r="r" b="b"/>
            <a:pathLst>
              <a:path w="799" h="2588">
                <a:moveTo>
                  <a:pt x="0" y="5"/>
                </a:moveTo>
                <a:lnTo>
                  <a:pt x="799" y="0"/>
                </a:lnTo>
                <a:lnTo>
                  <a:pt x="795" y="2588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3774960"/>
            <a:ext cx="2467080" cy="2498760"/>
          </a:xfrm>
          <a:custGeom>
            <a:avLst/>
            <a:gdLst/>
            <a:ahLst/>
            <a:rect l="l" t="t" r="r" b="b"/>
            <a:pathLst>
              <a:path w="1554" h="1574">
                <a:moveTo>
                  <a:pt x="0" y="0"/>
                </a:moveTo>
                <a:lnTo>
                  <a:pt x="479" y="5"/>
                </a:lnTo>
                <a:lnTo>
                  <a:pt x="483" y="1574"/>
                </a:lnTo>
                <a:lnTo>
                  <a:pt x="1554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2035080"/>
            <a:ext cx="331920" cy="3517920"/>
          </a:xfrm>
          <a:custGeom>
            <a:avLst/>
            <a:gdLst/>
            <a:ahLst/>
            <a:rect l="l" t="t" r="r" b="b"/>
            <a:pathLst>
              <a:path w="209" h="2216">
                <a:moveTo>
                  <a:pt x="0" y="0"/>
                </a:moveTo>
                <a:lnTo>
                  <a:pt x="209" y="0"/>
                </a:lnTo>
                <a:lnTo>
                  <a:pt x="209" y="2216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14:00Z</dcterms:modified>
  <cp:revision>93</cp:revision>
  <dc:subject/>
  <dc:title>PowerPoint Presentation</dc:title>
</cp:coreProperties>
</file>