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6647-9D3B-4EB6-82C8-D43D52D6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A258-D0DE-4166-8158-EEBBB054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8D14-98B1-47E5-A2AC-AFFA4677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37A-396F-49A1-83F7-52475B65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B8A7-4AFE-4143-8E88-EF6ED718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E63-8004-481C-A9AC-120A1691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8C9A-FB03-45ED-ABC4-783C3B0A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615F-07ED-4B3A-BC4A-0A148BD7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B2AC-2235-4656-807A-3D97D301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6762-3B52-428D-AC37-1161B1CB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751-56C0-4018-BB4E-0EE72F3A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3D3B-4436-48B4-B6CC-6A384964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B69C-BB38-47B5-AF7E-7872803BD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00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played by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480" y="5554800"/>
            <a:ext cx="2786040" cy="100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played </a:t>
            </a: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in asser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152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8240" y="3886200"/>
            <a:ext cx="649080" cy="2419200"/>
          </a:xfrm>
          <a:custGeom>
            <a:avLst/>
            <a:gdLst/>
            <a:ahLst/>
            <a:rect l="l" t="t" r="r" b="b"/>
            <a:pathLst>
              <a:path w="409" h="1524">
                <a:moveTo>
                  <a:pt x="0" y="1524"/>
                </a:moveTo>
                <a:lnTo>
                  <a:pt x="409" y="1524"/>
                </a:lnTo>
                <a:lnTo>
                  <a:pt x="409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41920" y="3774960"/>
            <a:ext cx="1935360" cy="2498760"/>
          </a:xfrm>
          <a:custGeom>
            <a:avLst/>
            <a:gdLst/>
            <a:ahLst/>
            <a:rect l="l" t="t" r="r" b="b"/>
            <a:pathLst>
              <a:path w="1219" h="1574">
                <a:moveTo>
                  <a:pt x="0" y="0"/>
                </a:moveTo>
                <a:lnTo>
                  <a:pt x="144" y="5"/>
                </a:lnTo>
                <a:lnTo>
                  <a:pt x="148" y="1574"/>
                </a:lnTo>
                <a:lnTo>
                  <a:pt x="1219" y="156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20880" y="3774960"/>
            <a:ext cx="501840" cy="1778040"/>
          </a:xfrm>
          <a:custGeom>
            <a:avLst/>
            <a:gdLst/>
            <a:ahLst/>
            <a:rect l="l" t="t" r="r" b="b"/>
            <a:pathLst>
              <a:path w="316" h="1120">
                <a:moveTo>
                  <a:pt x="316" y="0"/>
                </a:moveTo>
                <a:lnTo>
                  <a:pt x="0" y="0"/>
                </a:lnTo>
                <a:lnTo>
                  <a:pt x="0" y="1120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 Newcomb</cp:lastModifiedBy>
  <dcterms:modified xsi:type="dcterms:W3CDTF">2005-06-29T04:20:20Z</dcterms:modified>
  <cp:revision>94</cp:revision>
  <dc:subject/>
  <dc:title>PowerPoint Presentation</dc:title>
</cp:coreProperties>
</file>