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6A2-8C13-4A05-9E36-FA815656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07F-0E5D-4620-9D1F-8CB9C6B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403-0304-46F8-AA26-E447325B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183-CC53-4B4B-80D5-CB21993C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956-9D2D-4C18-B203-3D5196C7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D83-AF0D-420A-BCDA-1E0E339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899-D83D-4602-BD62-EA19430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01D-BA6C-402D-8CFE-075E445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C0F-1F0E-4B8A-A409-90C1DAF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FB9-E3D7-46F8-A288-68ABC6D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D3B-EC28-4EC2-B742-C226815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8BE-78F2-406B-B76C-9F5C760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B9E-7D75-402D-87B4-162D82A5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9907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U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flec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867280"/>
            <a:ext cx="3124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ctionaryK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valueOfDictionary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1392120"/>
            <a:ext cx="1676160" cy="730440"/>
          </a:xfrm>
          <a:custGeom>
            <a:avLst/>
            <a:gdLst/>
            <a:ahLst/>
            <a:rect l="l" t="t" r="r" b="b"/>
            <a:pathLst>
              <a:path w="1056" h="460">
                <a:moveTo>
                  <a:pt x="0" y="460"/>
                </a:moveTo>
                <a:lnTo>
                  <a:pt x="0" y="390"/>
                </a:lnTo>
                <a:lnTo>
                  <a:pt x="1056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1720" y="11095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67280"/>
            <a:ext cx="1676520" cy="8553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x_LrnRrnRr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U_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765440"/>
            <a:ext cx="3538800" cy="471240"/>
          </a:xfrm>
          <a:custGeom>
            <a:avLst/>
            <a:gdLst/>
            <a:ahLst/>
            <a:rect l="l" t="t" r="r" b="b"/>
            <a:pathLst>
              <a:path w="2229" h="297">
                <a:moveTo>
                  <a:pt x="2229" y="297"/>
                </a:moveTo>
                <a:lnTo>
                  <a:pt x="2229" y="250"/>
                </a:lnTo>
                <a:lnTo>
                  <a:pt x="400" y="25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86200"/>
            <a:ext cx="6680160" cy="430200"/>
          </a:xfrm>
          <a:custGeom>
            <a:avLst/>
            <a:gdLst/>
            <a:ahLst/>
            <a:rect l="l" t="t" r="r" b="b"/>
            <a:pathLst>
              <a:path w="4208" h="271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28"/>
                  <a:pt x="3708" y="72"/>
                </a:cubicBezTo>
                <a:cubicBezTo>
                  <a:pt x="4208" y="116"/>
                  <a:pt x="3624" y="230"/>
                  <a:pt x="3602" y="271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6680160" cy="396720"/>
          </a:xfrm>
          <a:custGeom>
            <a:avLst/>
            <a:gdLst/>
            <a:ahLst/>
            <a:rect l="l" t="t" r="r" b="b"/>
            <a:pathLst>
              <a:path w="4208" h="250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31"/>
                  <a:pt x="3708" y="72"/>
                </a:cubicBezTo>
                <a:cubicBezTo>
                  <a:pt x="4208" y="113"/>
                  <a:pt x="3624" y="213"/>
                  <a:pt x="3602" y="25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7T20:21:45Z</dcterms:modified>
  <cp:revision>102</cp:revision>
  <dc:subject/>
  <dc:title>PowerPoint Presentation</dc:title>
</cp:coreProperties>
</file>