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9C9-4090-4F7D-9A19-CBD255FF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8AA-0332-4CF2-A591-7C9A1D5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E61-6C06-44A1-9494-5B5F817D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7FF-5662-42AE-A860-FC2BC1CF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399-6853-4EE8-BF4E-55931E3B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5E1-8BB2-4B44-912E-1E0615F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D4D-83BE-4020-B8BA-25EB8AF5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F22-7753-4E29-BB82-8354B42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763-D4AB-4947-8786-E7AFAF3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75B-E6A2-4E81-9B6C-77DFA7A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93F-B9B3-456B-9B23-1A34836E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C06-0BD2-4CDD-A2E7-30790C9A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019-17E1-4F9B-BF44-42272639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2T20:15:46Z</dcterms:modified>
  <cp:revision>90</cp:revision>
  <dc:subject/>
  <dc:title>PowerPoint Presentation</dc:title>
</cp:coreProperties>
</file>