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441-29ED-4443-8EF6-F523AEDC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6BB-1FAD-4731-975E-C6C60E72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579-F6DD-4F43-9068-18525F59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3BA-5562-48BF-BAF8-C46CE178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F27-8E4C-46CA-B837-BF5E2C3E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350-4CB5-4A1C-821E-94D52EC0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606-34C6-4AED-9031-A122459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5E6-A29A-46F6-8CD2-85A209E1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4C5-BE88-4B68-AE85-01087688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F3C-3B09-4DB1-B6D6-85C964A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E33-AD57-45C2-8571-3FF6216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223-A8E0-48C0-82DE-C9B24DB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8A33-3B04-4CD3-8FDA-4C8619C3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3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85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2040" y="3900600"/>
            <a:ext cx="797040" cy="1440"/>
          </a:xfrm>
          <a:custGeom>
            <a:avLst/>
            <a:gdLst/>
            <a:ahLst/>
            <a:rect l="l" t="t" r="r" b="b"/>
            <a:pathLst>
              <a:path w="502" h="1">
                <a:moveTo>
                  <a:pt x="50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39085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130480"/>
            <a:ext cx="368280" cy="1630440"/>
          </a:xfrm>
          <a:custGeom>
            <a:avLst/>
            <a:gdLst/>
            <a:ahLst/>
            <a:rect l="l" t="t" r="r" b="b"/>
            <a:pathLst>
              <a:path w="232" h="1027">
                <a:moveTo>
                  <a:pt x="232" y="1027"/>
                </a:moveTo>
                <a:lnTo>
                  <a:pt x="0" y="10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2146320"/>
            <a:ext cx="1650960" cy="1622520"/>
          </a:xfrm>
          <a:custGeom>
            <a:avLst/>
            <a:gdLst/>
            <a:ahLst/>
            <a:rect l="l" t="t" r="r" b="b"/>
            <a:pathLst>
              <a:path w="1040" h="1022">
                <a:moveTo>
                  <a:pt x="0" y="1022"/>
                </a:moveTo>
                <a:lnTo>
                  <a:pt x="1040" y="1022"/>
                </a:lnTo>
                <a:lnTo>
                  <a:pt x="104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2130480"/>
            <a:ext cx="125280" cy="1962000"/>
          </a:xfrm>
          <a:custGeom>
            <a:avLst/>
            <a:gdLst/>
            <a:ahLst/>
            <a:rect l="l" t="t" r="r" b="b"/>
            <a:pathLst>
              <a:path w="79" h="1236">
                <a:moveTo>
                  <a:pt x="79" y="1236"/>
                </a:moveTo>
                <a:lnTo>
                  <a:pt x="0" y="1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40640" y="2138400"/>
            <a:ext cx="161640" cy="2043000"/>
          </a:xfrm>
          <a:custGeom>
            <a:avLst/>
            <a:gdLst/>
            <a:ahLst/>
            <a:rect l="l" t="t" r="r" b="b"/>
            <a:pathLst>
              <a:path w="102" h="1287">
                <a:moveTo>
                  <a:pt x="102" y="1282"/>
                </a:moveTo>
                <a:lnTo>
                  <a:pt x="0" y="128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5800" y="2027160"/>
            <a:ext cx="191880" cy="878040"/>
          </a:xfrm>
          <a:custGeom>
            <a:avLst/>
            <a:gdLst/>
            <a:ahLst/>
            <a:rect l="l" t="t" r="r" b="b"/>
            <a:pathLst>
              <a:path w="121" h="553">
                <a:moveTo>
                  <a:pt x="0" y="5"/>
                </a:moveTo>
                <a:lnTo>
                  <a:pt x="121" y="0"/>
                </a:lnTo>
                <a:lnTo>
                  <a:pt x="121" y="55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280" y="2035080"/>
            <a:ext cx="155520" cy="789120"/>
          </a:xfrm>
          <a:custGeom>
            <a:avLst/>
            <a:gdLst/>
            <a:ahLst/>
            <a:rect l="l" t="t" r="r" b="b"/>
            <a:pathLst>
              <a:path w="98" h="497">
                <a:moveTo>
                  <a:pt x="0" y="0"/>
                </a:moveTo>
                <a:lnTo>
                  <a:pt x="98" y="0"/>
                </a:lnTo>
                <a:lnTo>
                  <a:pt x="98" y="497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8720" y="4660920"/>
            <a:ext cx="390600" cy="1636560"/>
          </a:xfrm>
          <a:custGeom>
            <a:avLst/>
            <a:gdLst/>
            <a:ahLst/>
            <a:rect l="l" t="t" r="r" b="b"/>
            <a:pathLst>
              <a:path w="246" h="1031">
                <a:moveTo>
                  <a:pt x="0" y="1031"/>
                </a:moveTo>
                <a:lnTo>
                  <a:pt x="246" y="1031"/>
                </a:lnTo>
                <a:lnTo>
                  <a:pt x="246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120" y="3975120"/>
            <a:ext cx="1017360" cy="441360"/>
          </a:xfrm>
          <a:custGeom>
            <a:avLst/>
            <a:gdLst/>
            <a:ahLst/>
            <a:rect l="l" t="t" r="r" b="b"/>
            <a:pathLst>
              <a:path w="641" h="278">
                <a:moveTo>
                  <a:pt x="0" y="278"/>
                </a:moveTo>
                <a:lnTo>
                  <a:pt x="112" y="278"/>
                </a:lnTo>
                <a:lnTo>
                  <a:pt x="641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7480" y="4025880"/>
            <a:ext cx="619200" cy="457200"/>
          </a:xfrm>
          <a:custGeom>
            <a:avLst/>
            <a:gdLst/>
            <a:ahLst/>
            <a:rect l="l" t="t" r="r" b="b"/>
            <a:pathLst>
              <a:path w="390" h="288">
                <a:moveTo>
                  <a:pt x="390" y="28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90120" y="4653000"/>
            <a:ext cx="88920" cy="1482840"/>
          </a:xfrm>
          <a:custGeom>
            <a:avLst/>
            <a:gdLst/>
            <a:ahLst/>
            <a:rect l="l" t="t" r="r" b="b"/>
            <a:pathLst>
              <a:path w="56" h="934">
                <a:moveTo>
                  <a:pt x="0" y="0"/>
                </a:moveTo>
                <a:lnTo>
                  <a:pt x="56" y="0"/>
                </a:lnTo>
                <a:lnTo>
                  <a:pt x="56" y="934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440" y="4070520"/>
            <a:ext cx="2436840" cy="2203200"/>
          </a:xfrm>
          <a:custGeom>
            <a:avLst/>
            <a:gdLst/>
            <a:ahLst/>
            <a:rect l="l" t="t" r="r" b="b"/>
            <a:pathLst>
              <a:path w="1535" h="1388">
                <a:moveTo>
                  <a:pt x="0" y="0"/>
                </a:moveTo>
                <a:lnTo>
                  <a:pt x="460" y="5"/>
                </a:lnTo>
                <a:lnTo>
                  <a:pt x="464" y="1388"/>
                </a:lnTo>
                <a:lnTo>
                  <a:pt x="1535" y="1383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0880" y="4070520"/>
            <a:ext cx="515880" cy="1482480"/>
          </a:xfrm>
          <a:custGeom>
            <a:avLst/>
            <a:gdLst/>
            <a:ahLst/>
            <a:rect l="l" t="t" r="r" b="b"/>
            <a:pathLst>
              <a:path w="325" h="934">
                <a:moveTo>
                  <a:pt x="325" y="0"/>
                </a:moveTo>
                <a:lnTo>
                  <a:pt x="260" y="0"/>
                </a:lnTo>
                <a:lnTo>
                  <a:pt x="0" y="934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320" y="4541760"/>
            <a:ext cx="139680" cy="997200"/>
          </a:xfrm>
          <a:custGeom>
            <a:avLst/>
            <a:gdLst/>
            <a:ahLst/>
            <a:rect l="l" t="t" r="r" b="b"/>
            <a:pathLst>
              <a:path w="88" h="628">
                <a:moveTo>
                  <a:pt x="88" y="5"/>
                </a:moveTo>
                <a:lnTo>
                  <a:pt x="0" y="0"/>
                </a:lnTo>
                <a:lnTo>
                  <a:pt x="0" y="62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3:48:53Z</dcterms:modified>
  <cp:revision>92</cp:revision>
  <dc:subject/>
  <dc:title>PowerPoint Presentation</dc:title>
</cp:coreProperties>
</file>