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228-8FF9-4DFF-8118-4B550C75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ED0-A765-4F19-B74B-E5C72E0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C69-4E9C-43A5-BFA7-19EBF649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7E3-8208-4033-B9F0-72B53C39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0A5-7F54-4BB0-A825-1328D7B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0D5-1C7D-4DE0-A750-A09C78E8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99D-F75A-49BD-9AB7-8288AAB6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F96-1C6F-4C65-A934-64BA65A1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4D9-55E1-48D2-A2F2-4721D37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CC1-54C6-4EF8-B321-2C2385D8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7FA-8FC9-41D5-9072-C26601EE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0C1-A8D6-4E0F-A44D-6575D1A0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6131-89B2-481B-8207-17FE474FF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5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A_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1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A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_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A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79600" y="4481640"/>
            <a:ext cx="1571400" cy="1674720"/>
          </a:xfrm>
          <a:custGeom>
            <a:avLst/>
            <a:gdLst/>
            <a:ahLst/>
            <a:rect l="l" t="t" r="r" b="b"/>
            <a:pathLst>
              <a:path w="990" h="1055">
                <a:moveTo>
                  <a:pt x="0" y="1055"/>
                </a:moveTo>
                <a:lnTo>
                  <a:pt x="0" y="1007"/>
                </a:lnTo>
                <a:lnTo>
                  <a:pt x="695" y="1001"/>
                </a:lnTo>
                <a:lnTo>
                  <a:pt x="695" y="0"/>
                </a:lnTo>
                <a:lnTo>
                  <a:pt x="990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7480" y="4183200"/>
            <a:ext cx="3079800" cy="21333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7720" y="4282920"/>
            <a:ext cx="2278080" cy="1400400"/>
          </a:xfrm>
          <a:custGeom>
            <a:avLst/>
            <a:gdLst/>
            <a:ahLst/>
            <a:rect l="l" t="t" r="r" b="b"/>
            <a:pathLst>
              <a:path w="1435" h="882">
                <a:moveTo>
                  <a:pt x="1100" y="40"/>
                </a:moveTo>
                <a:lnTo>
                  <a:pt x="1100" y="1"/>
                </a:lnTo>
                <a:lnTo>
                  <a:pt x="1435" y="0"/>
                </a:lnTo>
                <a:lnTo>
                  <a:pt x="1435" y="882"/>
                </a:lnTo>
                <a:lnTo>
                  <a:pt x="0" y="877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886200"/>
            <a:ext cx="1752480" cy="152388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A_a property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12:19:05Z</dcterms:modified>
  <cp:revision>95</cp:revision>
  <dc:subject/>
  <dc:title>PowerPoint Presentation</dc:title>
</cp:coreProperties>
</file>