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EC2-C94D-4493-B559-BD0D811D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DAA-EE6D-43DE-BEF4-0F45F152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C5EB-5BE8-4580-829F-A2903D91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688-C92C-428A-A710-A9FB2C0F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13D-CB12-4AEE-A559-E799A39E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155-16AF-4341-B3BB-6FCEB568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841-492B-4A8A-A8B4-BFD4C6E7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6EB-8B63-47A5-A1CF-1466383E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277-69F0-46CD-8A6E-578AFA14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2B3-656F-4C33-9416-968D0008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3C9-5930-4B93-9E57-C5756BF4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865-B5DE-4692-8D0D-94CD85A1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9A01-2B43-4DBF-9953-D3D69B628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00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Type of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played by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00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that constitute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s of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100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played </a:t>
            </a: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in asser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1143000"/>
            <a:ext cx="293832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Player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152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38720" y="1143000"/>
            <a:ext cx="297180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Player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8720" y="2130480"/>
            <a:ext cx="338040" cy="1600200"/>
          </a:xfrm>
          <a:custGeom>
            <a:avLst/>
            <a:gdLst/>
            <a:ahLst/>
            <a:rect l="l" t="t" r="r" b="b"/>
            <a:pathLst>
              <a:path w="213" h="1008">
                <a:moveTo>
                  <a:pt x="213" y="1008"/>
                </a:moveTo>
                <a:lnTo>
                  <a:pt x="0" y="100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2280" y="2133720"/>
            <a:ext cx="1298520" cy="1596960"/>
          </a:xfrm>
          <a:custGeom>
            <a:avLst/>
            <a:gdLst/>
            <a:ahLst/>
            <a:rect l="l" t="t" r="r" b="b"/>
            <a:pathLst>
              <a:path w="804" h="1096">
                <a:moveTo>
                  <a:pt x="0" y="1096"/>
                </a:moveTo>
                <a:lnTo>
                  <a:pt x="804" y="1092"/>
                </a:lnTo>
                <a:lnTo>
                  <a:pt x="804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5520" y="2138400"/>
            <a:ext cx="95400" cy="4151160"/>
          </a:xfrm>
          <a:custGeom>
            <a:avLst/>
            <a:gdLst/>
            <a:ahLst/>
            <a:rect l="l" t="t" r="r" b="b"/>
            <a:pathLst>
              <a:path w="60" h="2615">
                <a:moveTo>
                  <a:pt x="60" y="2615"/>
                </a:moveTo>
                <a:lnTo>
                  <a:pt x="0" y="2615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9040" y="1541520"/>
            <a:ext cx="766800" cy="345960"/>
          </a:xfrm>
          <a:custGeom>
            <a:avLst/>
            <a:gdLst/>
            <a:ahLst/>
            <a:rect l="l" t="t" r="r" b="b"/>
            <a:pathLst>
              <a:path w="483" h="218">
                <a:moveTo>
                  <a:pt x="0" y="218"/>
                </a:moveTo>
                <a:lnTo>
                  <a:pt x="4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63880" y="1873080"/>
            <a:ext cx="4348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274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13360" y="1881360"/>
            <a:ext cx="465120" cy="14040"/>
          </a:xfrm>
          <a:custGeom>
            <a:avLst/>
            <a:gdLst/>
            <a:ahLst/>
            <a:rect l="l" t="t" r="r" b="b"/>
            <a:pathLst>
              <a:path w="293" h="9">
                <a:moveTo>
                  <a:pt x="293" y="0"/>
                </a:moveTo>
                <a:lnTo>
                  <a:pt x="0" y="9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4800" y="2138400"/>
            <a:ext cx="52200" cy="1466640"/>
          </a:xfrm>
          <a:custGeom>
            <a:avLst/>
            <a:gdLst/>
            <a:ahLst/>
            <a:rect l="l" t="t" r="r" b="b"/>
            <a:pathLst>
              <a:path w="33" h="924">
                <a:moveTo>
                  <a:pt x="33" y="924"/>
                </a:moveTo>
                <a:lnTo>
                  <a:pt x="0" y="92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25880" y="2035080"/>
            <a:ext cx="111240" cy="841320"/>
          </a:xfrm>
          <a:custGeom>
            <a:avLst/>
            <a:gdLst/>
            <a:ahLst/>
            <a:rect l="l" t="t" r="r" b="b"/>
            <a:pathLst>
              <a:path w="70" h="530">
                <a:moveTo>
                  <a:pt x="0" y="0"/>
                </a:moveTo>
                <a:lnTo>
                  <a:pt x="70" y="0"/>
                </a:lnTo>
                <a:lnTo>
                  <a:pt x="70" y="53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46160" y="3886200"/>
            <a:ext cx="1181160" cy="2419200"/>
          </a:xfrm>
          <a:custGeom>
            <a:avLst/>
            <a:gdLst/>
            <a:ahLst/>
            <a:rect l="l" t="t" r="r" b="b"/>
            <a:pathLst>
              <a:path w="744" h="1524">
                <a:moveTo>
                  <a:pt x="0" y="1524"/>
                </a:moveTo>
                <a:lnTo>
                  <a:pt x="744" y="1524"/>
                </a:lnTo>
                <a:lnTo>
                  <a:pt x="744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16880" y="2027160"/>
            <a:ext cx="1268280" cy="4108680"/>
          </a:xfrm>
          <a:custGeom>
            <a:avLst/>
            <a:gdLst/>
            <a:ahLst/>
            <a:rect l="l" t="t" r="r" b="b"/>
            <a:pathLst>
              <a:path w="799" h="2588">
                <a:moveTo>
                  <a:pt x="0" y="5"/>
                </a:moveTo>
                <a:lnTo>
                  <a:pt x="799" y="0"/>
                </a:lnTo>
                <a:lnTo>
                  <a:pt x="795" y="2588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10200" y="3774960"/>
            <a:ext cx="2467080" cy="2498760"/>
          </a:xfrm>
          <a:custGeom>
            <a:avLst/>
            <a:gdLst/>
            <a:ahLst/>
            <a:rect l="l" t="t" r="r" b="b"/>
            <a:pathLst>
              <a:path w="1554" h="1574">
                <a:moveTo>
                  <a:pt x="0" y="0"/>
                </a:moveTo>
                <a:lnTo>
                  <a:pt x="479" y="5"/>
                </a:lnTo>
                <a:lnTo>
                  <a:pt x="483" y="1574"/>
                </a:lnTo>
                <a:lnTo>
                  <a:pt x="1554" y="156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20880" y="3774960"/>
            <a:ext cx="501840" cy="1778040"/>
          </a:xfrm>
          <a:custGeom>
            <a:avLst/>
            <a:gdLst/>
            <a:ahLst/>
            <a:rect l="l" t="t" r="r" b="b"/>
            <a:pathLst>
              <a:path w="316" h="1120">
                <a:moveTo>
                  <a:pt x="316" y="0"/>
                </a:moveTo>
                <a:lnTo>
                  <a:pt x="0" y="0"/>
                </a:lnTo>
                <a:lnTo>
                  <a:pt x="0" y="1120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68480" y="1341360"/>
            <a:ext cx="1231920" cy="546120"/>
          </a:xfrm>
          <a:custGeom>
            <a:avLst/>
            <a:gdLst/>
            <a:ahLst/>
            <a:rect l="l" t="t" r="r" b="b"/>
            <a:pathLst>
              <a:path w="776" h="344">
                <a:moveTo>
                  <a:pt x="0" y="344"/>
                </a:moveTo>
                <a:lnTo>
                  <a:pt x="172" y="344"/>
                </a:lnTo>
                <a:lnTo>
                  <a:pt x="776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11280" y="2035080"/>
            <a:ext cx="331920" cy="3517920"/>
          </a:xfrm>
          <a:custGeom>
            <a:avLst/>
            <a:gdLst/>
            <a:ahLst/>
            <a:rect l="l" t="t" r="r" b="b"/>
            <a:pathLst>
              <a:path w="209" h="2216">
                <a:moveTo>
                  <a:pt x="0" y="0"/>
                </a:moveTo>
                <a:lnTo>
                  <a:pt x="209" y="0"/>
                </a:lnTo>
                <a:lnTo>
                  <a:pt x="209" y="2216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4:14:00Z</dcterms:modified>
  <cp:revision>93</cp:revision>
  <dc:subject/>
  <dc:title>PowerPoint Presentation</dc:title>
</cp:coreProperties>
</file>