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699-A72B-46FA-B837-E72B9E40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879-BE37-4D94-A27F-7F71B8ED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EE1-1590-421F-BB28-661F4C58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74C-3F0C-4058-889C-87EE0678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278-F41B-4FCC-BAF6-7AB6C15C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7F8-E96C-406B-A408-0A56FBAD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826-B2D6-422C-9841-EA346B4D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34E-DB63-44F6-83DD-AE011149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D0A-7694-4421-9A77-B31C126A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5BF-6730-4EFE-9FF6-58F85D01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E70-2ECA-4581-AA22-D77EAB0F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EE1-900F-45E4-971D-2F23F431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0683-24F4-43A1-8CC1-D5B8A1C5A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88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R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143000"/>
            <a:ext cx="2895840" cy="1493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R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4876920"/>
            <a:ext cx="2786040" cy="164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x_role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1143000"/>
            <a:ext cx="2971800" cy="145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TRA,,r_rolePlayers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R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1143000"/>
            <a:ext cx="2971800" cy="124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rolePlayers { 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2374920"/>
            <a:ext cx="852480" cy="201276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0280" y="237492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362320"/>
            <a:ext cx="530280" cy="3782880"/>
          </a:xfrm>
          <a:custGeom>
            <a:avLst/>
            <a:gdLst/>
            <a:ahLst/>
            <a:rect l="l" t="t" r="r" b="b"/>
            <a:pathLst>
              <a:path w="334" h="2191">
                <a:moveTo>
                  <a:pt x="334" y="2191"/>
                </a:moveTo>
                <a:lnTo>
                  <a:pt x="334" y="2154"/>
                </a:lnTo>
                <a:lnTo>
                  <a:pt x="0" y="215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1752480"/>
            <a:ext cx="1054080" cy="109800"/>
          </a:xfrm>
          <a:custGeom>
            <a:avLst/>
            <a:gdLst/>
            <a:ahLst/>
            <a:rect l="l" t="t" r="r" b="b"/>
            <a:pathLst>
              <a:path w="664" h="69">
                <a:moveTo>
                  <a:pt x="0" y="69"/>
                </a:moveTo>
                <a:lnTo>
                  <a:pt x="0" y="0"/>
                </a:lnTo>
                <a:lnTo>
                  <a:pt x="664" y="1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78200" y="1755720"/>
            <a:ext cx="1693800" cy="106560"/>
          </a:xfrm>
          <a:custGeom>
            <a:avLst/>
            <a:gdLst/>
            <a:ahLst/>
            <a:rect l="l" t="t" r="r" b="b"/>
            <a:pathLst>
              <a:path w="1067" h="67">
                <a:moveTo>
                  <a:pt x="1067" y="67"/>
                </a:moveTo>
                <a:lnTo>
                  <a:pt x="1067" y="0"/>
                </a:lnTo>
                <a:lnTo>
                  <a:pt x="0" y="4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944720"/>
            <a:ext cx="167652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29200" y="1952640"/>
            <a:ext cx="1690920" cy="7452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004840"/>
            <a:ext cx="688680" cy="86544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4497480"/>
            <a:ext cx="1747800" cy="1674720"/>
          </a:xfrm>
          <a:custGeom>
            <a:avLst/>
            <a:gdLst/>
            <a:ahLst/>
            <a:rect l="l" t="t" r="r" b="b"/>
            <a:pathLst>
              <a:path w="1101" h="1055">
                <a:moveTo>
                  <a:pt x="0" y="1055"/>
                </a:moveTo>
                <a:lnTo>
                  <a:pt x="0" y="1007"/>
                </a:lnTo>
                <a:lnTo>
                  <a:pt x="761" y="1001"/>
                </a:lnTo>
                <a:lnTo>
                  <a:pt x="761" y="0"/>
                </a:lnTo>
                <a:lnTo>
                  <a:pt x="1101" y="5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89840" y="2181240"/>
            <a:ext cx="520920" cy="3970440"/>
          </a:xfrm>
          <a:custGeom>
            <a:avLst/>
            <a:gdLst/>
            <a:ahLst/>
            <a:rect l="l" t="t" r="r" b="b"/>
            <a:pathLst>
              <a:path w="328" h="2501">
                <a:moveTo>
                  <a:pt x="0" y="42"/>
                </a:moveTo>
                <a:lnTo>
                  <a:pt x="7" y="0"/>
                </a:lnTo>
                <a:lnTo>
                  <a:pt x="328" y="0"/>
                </a:lnTo>
                <a:lnTo>
                  <a:pt x="328" y="2501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7720" y="4314960"/>
            <a:ext cx="2278080" cy="129672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78200" y="2157480"/>
            <a:ext cx="765000" cy="2711520"/>
          </a:xfrm>
          <a:custGeom>
            <a:avLst/>
            <a:gdLst/>
            <a:ahLst/>
            <a:rect l="l" t="t" r="r" b="b"/>
            <a:pathLst>
              <a:path w="482" h="1708">
                <a:moveTo>
                  <a:pt x="0" y="43"/>
                </a:moveTo>
                <a:lnTo>
                  <a:pt x="2" y="0"/>
                </a:lnTo>
                <a:lnTo>
                  <a:pt x="482" y="0"/>
                </a:lnTo>
                <a:lnTo>
                  <a:pt x="480" y="1708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886200"/>
            <a:ext cx="1752480" cy="167652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724280"/>
            <a:ext cx="1676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TR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4T00:56:57Z</dcterms:modified>
  <cp:revision>91</cp:revision>
  <dc:subject/>
  <dc:title>PowerPoint Presentation</dc:title>
</cp:coreProperties>
</file>