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C39-6D80-461B-9300-20D9DFD3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491-103D-4D9E-88FA-FC00FD5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F39-5BD9-46A2-941D-3738054D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AB0-ED08-4518-A616-45A6EB3F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BC7-EA5C-400D-B6B1-7A720BE7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33C-113C-474F-962A-05C98D0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BD3-1E22-40A4-A687-01248E0C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D2F-213A-4FB1-BE3B-D83CBA7A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5DB-9126-4E02-9EDE-969D66D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27A-E6FD-4F71-8F47-EBA60E0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692-CBE3-435F-944A-AAC2B38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CA5-97E1-42A8-86F2-F5058B3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011-4572-4EE4-A374-89792D8D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presen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200" y="1998720"/>
            <a:ext cx="1741320" cy="1440"/>
          </a:xfrm>
          <a:custGeom>
            <a:avLst/>
            <a:gdLst/>
            <a:ahLst/>
            <a:rect l="l" t="t" r="r" b="b"/>
            <a:pathLst>
              <a:path w="1097" h="1">
                <a:moveTo>
                  <a:pt x="0" y="0"/>
                </a:moveTo>
                <a:lnTo>
                  <a:pt x="1097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3240" y="3968640"/>
            <a:ext cx="7496280" cy="390600"/>
          </a:xfrm>
          <a:custGeom>
            <a:avLst/>
            <a:gdLst/>
            <a:ahLst/>
            <a:rect l="l" t="t" r="r" b="b"/>
            <a:pathLst>
              <a:path w="4722" h="246">
                <a:moveTo>
                  <a:pt x="160" y="32"/>
                </a:moveTo>
                <a:cubicBezTo>
                  <a:pt x="244" y="27"/>
                  <a:pt x="0" y="0"/>
                  <a:pt x="666" y="2"/>
                </a:cubicBezTo>
                <a:cubicBezTo>
                  <a:pt x="1332" y="4"/>
                  <a:pt x="3588" y="10"/>
                  <a:pt x="4155" y="46"/>
                </a:cubicBezTo>
                <a:cubicBezTo>
                  <a:pt x="4722" y="82"/>
                  <a:pt x="4186" y="188"/>
                  <a:pt x="4067" y="217"/>
                </a:cubicBezTo>
                <a:cubicBezTo>
                  <a:pt x="3948" y="246"/>
                  <a:pt x="3574" y="221"/>
                  <a:pt x="3444" y="222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9120" y="2004840"/>
            <a:ext cx="3546360" cy="155880"/>
          </a:xfrm>
          <a:custGeom>
            <a:avLst/>
            <a:gdLst/>
            <a:ahLst/>
            <a:rect l="l" t="t" r="r" b="b"/>
            <a:pathLst>
              <a:path w="2234" h="98">
                <a:moveTo>
                  <a:pt x="2155" y="0"/>
                </a:moveTo>
                <a:lnTo>
                  <a:pt x="2234" y="0"/>
                </a:lnTo>
                <a:lnTo>
                  <a:pt x="2234" y="93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58:26Z</dcterms:modified>
  <cp:revision>103</cp:revision>
  <dc:subject/>
  <dc:title>PowerPoint Presentation</dc:title>
</cp:coreProperties>
</file>