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E1FD-0944-4197-88FF-3D9CBF708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F821-1A23-4513-A444-ACB83C93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26A1-28C0-40CA-BEC3-927445865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9256-2485-49C9-A9EF-6EC8E679B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70A9-4D91-4942-8273-CFB1013C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707B-D3A8-4954-B8CE-9E84C870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4A5C-86D3-403F-88A1-145F1D70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6B22-83A4-434B-ADBE-15C3175B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CBA6-FD2F-4DAA-9655-2687CA74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013D-C4BB-4C3A-812B-61BB1C66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F609-F516-4579-B55D-EEF026D0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2C0A-4F12-4D9A-B5C0-20F3D2CF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AFBE-8F0E-4DD7-8A42-7118DFB17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680" y="990720"/>
            <a:ext cx="4152960" cy="6363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X-proxy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(Subject: Any.  Role player </a:t>
            </a:r>
            <a:r>
              <a:rPr b="1" lang="en-US" sz="1200" spc="-1" strike="noStrike" u="sng">
                <a:solidFill>
                  <a:srgbClr val="800080"/>
                </a:solidFill>
                <a:uFillTx/>
                <a:latin typeface="Arial"/>
              </a:rPr>
              <a:t>X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(SIP not governed by U_a SM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U_a,,x_LrnRrnRrp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local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remote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remoteRolePlayerProxyId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U_a,,x_LrnRrpRr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local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remoteRolePlayerProxyId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remoteRoleNam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U_a,,x_RrnRrpLr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remote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remoteRolePlayerProxyId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localRoleNam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U_a,,x_RrnLrnRrp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remote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local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remoteRolePlayerProxyId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U_a,,x_RrpLrnRr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remoteRolePlayerProxyId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local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remoteRoleNam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U_a,,x_RrpRrnLr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remoteRolePlayerProxyId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remote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localRoleNam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76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_ass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(U_a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 map patter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MP), shown reflecting an unreified (but always mutual) 2-role asser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71800" y="5867280"/>
            <a:ext cx="312408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IP = Subject Identity Proper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Others are OPs – Other Properties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{ }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{ } = property values are 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dictionaryKe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valueOfDictionary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68800" y="1392120"/>
            <a:ext cx="1676160" cy="730440"/>
          </a:xfrm>
          <a:custGeom>
            <a:avLst/>
            <a:gdLst/>
            <a:ahLst/>
            <a:rect l="l" t="t" r="r" b="b"/>
            <a:pathLst>
              <a:path w="1056" h="460">
                <a:moveTo>
                  <a:pt x="0" y="460"/>
                </a:moveTo>
                <a:lnTo>
                  <a:pt x="0" y="390"/>
                </a:lnTo>
                <a:lnTo>
                  <a:pt x="1056" y="0"/>
                </a:lnTo>
              </a:path>
            </a:pathLst>
          </a:custGeom>
          <a:noFill/>
          <a:ln w="2556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41720" y="1109520"/>
            <a:ext cx="4152960" cy="6363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X-proxy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(Subject: Any.  Role player </a:t>
            </a:r>
            <a:r>
              <a:rPr b="1" lang="en-US" sz="1200" spc="-1" strike="noStrike" u="sng">
                <a:solidFill>
                  <a:srgbClr val="800080"/>
                </a:solidFill>
                <a:uFillTx/>
                <a:latin typeface="Arial"/>
              </a:rPr>
              <a:t>X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(SIP not governed by U_a SM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U_a,,x_LrnRrnRrp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local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remote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remoteRolePlayerProxyId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U_a,,x_LrnRrpRr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local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remoteRolePlayerProxyId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remoteRoleNam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U_a,,x_RrnRrpLr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remote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remoteRolePlayerProxyId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localRoleNam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U_a,,x_RrnLrnRrp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remote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local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remoteRolePlayerProxyId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U_a,,x_RrpLrnRr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remoteRolePlayerProxyId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local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remoteRoleNam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U_a,,x_RrpRrnLr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remoteRolePlayerProxyId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remote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localRoleNam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5867280"/>
            <a:ext cx="1676520" cy="855360"/>
          </a:xfrm>
          <a:prstGeom prst="rect">
            <a:avLst/>
          </a:prstGeom>
          <a:noFill/>
          <a:ln w="6480">
            <a:solidFill>
              <a:srgbClr val="cc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N.B.: Only </a:t>
            </a:r>
            <a:r>
              <a:rPr b="1" lang="en-US" sz="1000" spc="-1" strike="noStrike">
                <a:solidFill>
                  <a:srgbClr val="cc3300"/>
                </a:solidFill>
                <a:latin typeface="Lucida Console"/>
              </a:rPr>
              <a:t>x_LrnRrnRrp</a:t>
            </a: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 need be originally populated; the other U_a properties will be automatically conferr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62920" y="6461280"/>
            <a:ext cx="19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versava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2005 Steven R. Newcomb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59080" y="1765440"/>
            <a:ext cx="3538800" cy="471240"/>
          </a:xfrm>
          <a:custGeom>
            <a:avLst/>
            <a:gdLst/>
            <a:ahLst/>
            <a:rect l="l" t="t" r="r" b="b"/>
            <a:pathLst>
              <a:path w="2229" h="297">
                <a:moveTo>
                  <a:pt x="2229" y="297"/>
                </a:moveTo>
                <a:lnTo>
                  <a:pt x="2229" y="250"/>
                </a:lnTo>
                <a:lnTo>
                  <a:pt x="400" y="255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11560" y="2438280"/>
            <a:ext cx="50760" cy="76320"/>
          </a:xfrm>
          <a:custGeom>
            <a:avLst/>
            <a:gdLst/>
            <a:ahLst/>
            <a:rect l="l" t="t" r="r" b="b"/>
            <a:pathLst>
              <a:path w="32" h="48">
                <a:moveTo>
                  <a:pt x="32" y="48"/>
                </a:moveTo>
                <a:cubicBezTo>
                  <a:pt x="16" y="44"/>
                  <a:pt x="0" y="40"/>
                  <a:pt x="3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38280" y="2986200"/>
            <a:ext cx="6680160" cy="430200"/>
          </a:xfrm>
          <a:custGeom>
            <a:avLst/>
            <a:gdLst/>
            <a:ahLst/>
            <a:rect l="l" t="t" r="r" b="b"/>
            <a:pathLst>
              <a:path w="4208" h="271">
                <a:moveTo>
                  <a:pt x="96" y="36"/>
                </a:moveTo>
                <a:cubicBezTo>
                  <a:pt x="180" y="31"/>
                  <a:pt x="0" y="0"/>
                  <a:pt x="602" y="6"/>
                </a:cubicBezTo>
                <a:cubicBezTo>
                  <a:pt x="1204" y="12"/>
                  <a:pt x="3208" y="28"/>
                  <a:pt x="3708" y="72"/>
                </a:cubicBezTo>
                <a:cubicBezTo>
                  <a:pt x="4208" y="116"/>
                  <a:pt x="3624" y="230"/>
                  <a:pt x="3602" y="271"/>
                </a:cubicBezTo>
              </a:path>
            </a:pathLst>
          </a:custGeom>
          <a:noFill/>
          <a:ln w="25560">
            <a:solidFill>
              <a:srgbClr val="008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2362320"/>
            <a:ext cx="6680160" cy="396720"/>
          </a:xfrm>
          <a:custGeom>
            <a:avLst/>
            <a:gdLst/>
            <a:ahLst/>
            <a:rect l="l" t="t" r="r" b="b"/>
            <a:pathLst>
              <a:path w="4208" h="250">
                <a:moveTo>
                  <a:pt x="96" y="36"/>
                </a:moveTo>
                <a:cubicBezTo>
                  <a:pt x="180" y="31"/>
                  <a:pt x="0" y="0"/>
                  <a:pt x="602" y="6"/>
                </a:cubicBezTo>
                <a:cubicBezTo>
                  <a:pt x="1204" y="12"/>
                  <a:pt x="3208" y="31"/>
                  <a:pt x="3708" y="72"/>
                </a:cubicBezTo>
                <a:cubicBezTo>
                  <a:pt x="4208" y="113"/>
                  <a:pt x="3624" y="213"/>
                  <a:pt x="3602" y="250"/>
                </a:cubicBezTo>
              </a:path>
            </a:pathLst>
          </a:custGeom>
          <a:noFill/>
          <a:ln w="25560">
            <a:solidFill>
              <a:srgbClr val="008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29:40Z</dcterms:created>
  <dc:creator>Steven R. Newcomb</dc:creator>
  <dc:description/>
  <dc:language>en-US</dc:language>
  <cp:lastModifiedBy>Steven R. Newcomb</cp:lastModifiedBy>
  <dcterms:modified xsi:type="dcterms:W3CDTF">2005-06-27T20:21:45Z</dcterms:modified>
  <cp:revision>102</cp:revision>
  <dc:subject/>
  <dc:title>PowerPoint Presentation</dc:title>
</cp:coreProperties>
</file>