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1E3-EA3F-4745-A985-89C7343F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FFE-0CB7-4035-BDF7-C089C76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855-06A6-4FF7-BF40-9D61650E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556-F3BF-44C8-89B4-4E67D56A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737-53BA-46DD-985E-E9FFDDF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F5A-92CF-4824-9A8B-FD6746C8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1D5-91E6-4BA3-96FC-AA5A7F84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F12-BF83-4011-9DAB-1B0DA8CC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1CD-B8B8-4C8D-AC9A-0AAC6CA8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E6C-3B29-4FFE-801B-F85579C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6AE-0038-4F1C-B279-BED42E1C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1DC-35DD-4405-9894-66A2688E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D679-5FE9-4B06-B06B-8EB4B4A00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8240" y="3886200"/>
            <a:ext cx="649080" cy="2419200"/>
          </a:xfrm>
          <a:custGeom>
            <a:avLst/>
            <a:gdLst/>
            <a:ahLst/>
            <a:rect l="l" t="t" r="r" b="b"/>
            <a:pathLst>
              <a:path w="409" h="1524">
                <a:moveTo>
                  <a:pt x="0" y="1524"/>
                </a:moveTo>
                <a:lnTo>
                  <a:pt x="409" y="1524"/>
                </a:lnTo>
                <a:lnTo>
                  <a:pt x="409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41920" y="3774960"/>
            <a:ext cx="1935360" cy="2498760"/>
          </a:xfrm>
          <a:custGeom>
            <a:avLst/>
            <a:gdLst/>
            <a:ahLst/>
            <a:rect l="l" t="t" r="r" b="b"/>
            <a:pathLst>
              <a:path w="1219" h="1574">
                <a:moveTo>
                  <a:pt x="0" y="0"/>
                </a:moveTo>
                <a:lnTo>
                  <a:pt x="144" y="5"/>
                </a:lnTo>
                <a:lnTo>
                  <a:pt x="148" y="1574"/>
                </a:lnTo>
                <a:lnTo>
                  <a:pt x="1219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20:20Z</dcterms:modified>
  <cp:revision>94</cp:revision>
  <dc:subject/>
  <dc:title>PowerPoint Presentation</dc:title>
</cp:coreProperties>
</file>