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396-D46A-456B-AAA2-C229065F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2E0-9334-43A4-A591-F7A7D6EA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B0B-8051-472D-A2C4-93570124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DFF-06B6-4DB6-9E8E-DD09D879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E52-FB29-4FCA-A79C-797356E6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EAC-D7A7-43ED-8AB2-905BC501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AFC-DA53-4919-9D9B-F3E9F45B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F86-7E1C-4B59-A7A7-77F08D62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5AE-B13B-47B5-9632-D545F288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EF6-6251-4214-BF7F-AB1EEE2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5FC-AA53-4B5C-8F22-6D72570A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981-5772-4DE7-B707-F7599F6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0EF-57E2-4757-9B56-CE4342936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210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524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463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x_casting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B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733920"/>
            <a:ext cx="2286000" cy="81000"/>
          </a:xfrm>
          <a:custGeom>
            <a:avLst/>
            <a:gdLst/>
            <a:ahLst/>
            <a:rect l="l" t="t" r="r" b="b"/>
            <a:pathLst>
              <a:path w="1440" h="51">
                <a:moveTo>
                  <a:pt x="1438" y="51"/>
                </a:moveTo>
                <a:lnTo>
                  <a:pt x="1440" y="5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4640" y="3733920"/>
            <a:ext cx="1351080" cy="81000"/>
          </a:xfrm>
          <a:custGeom>
            <a:avLst/>
            <a:gdLst/>
            <a:ahLst/>
            <a:rect l="l" t="t" r="r" b="b"/>
            <a:pathLst>
              <a:path w="864" h="52">
                <a:moveTo>
                  <a:pt x="0" y="5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7280" y="2390760"/>
            <a:ext cx="852480" cy="201312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70280" y="239868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6600" y="2406600"/>
            <a:ext cx="2039760" cy="1851120"/>
          </a:xfrm>
          <a:custGeom>
            <a:avLst/>
            <a:gdLst/>
            <a:ahLst/>
            <a:rect l="l" t="t" r="r" b="b"/>
            <a:pathLst>
              <a:path w="1285" h="1166">
                <a:moveTo>
                  <a:pt x="0" y="1166"/>
                </a:moveTo>
                <a:lnTo>
                  <a:pt x="0" y="1137"/>
                </a:lnTo>
                <a:lnTo>
                  <a:pt x="1285" y="1142"/>
                </a:lnTo>
                <a:lnTo>
                  <a:pt x="1285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406600"/>
            <a:ext cx="760680" cy="1955880"/>
          </a:xfrm>
          <a:custGeom>
            <a:avLst/>
            <a:gdLst/>
            <a:ahLst/>
            <a:rect l="l" t="t" r="r" b="b"/>
            <a:pathLst>
              <a:path w="479" h="1232">
                <a:moveTo>
                  <a:pt x="479" y="1232"/>
                </a:moveTo>
                <a:lnTo>
                  <a:pt x="479" y="1185"/>
                </a:lnTo>
                <a:lnTo>
                  <a:pt x="0" y="1182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960" y="1771560"/>
            <a:ext cx="1084320" cy="907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8800" y="1746360"/>
            <a:ext cx="1460520" cy="115920"/>
          </a:xfrm>
          <a:custGeom>
            <a:avLst/>
            <a:gdLst/>
            <a:ahLst/>
            <a:rect l="l" t="t" r="r" b="b"/>
            <a:pathLst>
              <a:path w="920" h="73">
                <a:moveTo>
                  <a:pt x="920" y="73"/>
                </a:moveTo>
                <a:lnTo>
                  <a:pt x="92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2640" y="2157480"/>
            <a:ext cx="966600" cy="750960"/>
          </a:xfrm>
          <a:custGeom>
            <a:avLst/>
            <a:gdLst/>
            <a:ahLst/>
            <a:rect l="l" t="t" r="r" b="b"/>
            <a:pathLst>
              <a:path w="609" h="473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9" y="47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157480"/>
            <a:ext cx="761760" cy="660240"/>
          </a:xfrm>
          <a:custGeom>
            <a:avLst/>
            <a:gdLst/>
            <a:ahLst/>
            <a:rect l="l" t="t" r="r" b="b"/>
            <a:pathLst>
              <a:path w="432" h="416">
                <a:moveTo>
                  <a:pt x="0" y="35"/>
                </a:moveTo>
                <a:lnTo>
                  <a:pt x="0" y="0"/>
                </a:lnTo>
                <a:lnTo>
                  <a:pt x="432" y="0"/>
                </a:lnTo>
                <a:lnTo>
                  <a:pt x="431" y="4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8320" y="5060880"/>
            <a:ext cx="662040" cy="1602000"/>
          </a:xfrm>
          <a:custGeom>
            <a:avLst/>
            <a:gdLst/>
            <a:ahLst/>
            <a:rect l="l" t="t" r="r" b="b"/>
            <a:pathLst>
              <a:path w="432" h="1009">
                <a:moveTo>
                  <a:pt x="2" y="1009"/>
                </a:moveTo>
                <a:lnTo>
                  <a:pt x="0" y="965"/>
                </a:lnTo>
                <a:lnTo>
                  <a:pt x="432" y="965"/>
                </a:lnTo>
                <a:lnTo>
                  <a:pt x="43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944720"/>
            <a:ext cx="182880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29200" y="1949400"/>
            <a:ext cx="1563840" cy="7776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97520" y="2021040"/>
            <a:ext cx="796680" cy="85716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4419720"/>
            <a:ext cx="2441520" cy="7596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3960" y="4495680"/>
            <a:ext cx="934920" cy="76320"/>
          </a:xfrm>
          <a:custGeom>
            <a:avLst/>
            <a:gdLst/>
            <a:ahLst/>
            <a:rect l="l" t="t" r="r" b="b"/>
            <a:pathLst>
              <a:path w="589" h="48">
                <a:moveTo>
                  <a:pt x="589" y="48"/>
                </a:moveTo>
                <a:lnTo>
                  <a:pt x="589" y="0"/>
                </a:lnTo>
                <a:lnTo>
                  <a:pt x="0" y="6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54720" y="4708440"/>
            <a:ext cx="966960" cy="1455840"/>
          </a:xfrm>
          <a:custGeom>
            <a:avLst/>
            <a:gdLst/>
            <a:ahLst/>
            <a:rect l="l" t="t" r="r" b="b"/>
            <a:pathLst>
              <a:path w="609" h="917">
                <a:moveTo>
                  <a:pt x="0" y="41"/>
                </a:moveTo>
                <a:lnTo>
                  <a:pt x="0" y="0"/>
                </a:lnTo>
                <a:lnTo>
                  <a:pt x="609" y="0"/>
                </a:lnTo>
                <a:lnTo>
                  <a:pt x="609" y="917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7720" y="4338720"/>
            <a:ext cx="2278080" cy="129708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648320"/>
            <a:ext cx="966960" cy="912600"/>
          </a:xfrm>
          <a:custGeom>
            <a:avLst/>
            <a:gdLst/>
            <a:ahLst/>
            <a:rect l="l" t="t" r="r" b="b"/>
            <a:pathLst>
              <a:path w="609" h="575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7" y="575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962520"/>
            <a:ext cx="1752480" cy="14475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B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2T20:15:46Z</dcterms:modified>
  <cp:revision>90</cp:revision>
  <dc:subject/>
  <dc:title>PowerPoint Presentation</dc:title>
</cp:coreProperties>
</file>