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3F7-5F0D-4AAA-AD67-1CBEB634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AD6-9827-4FF6-8360-2602B8B5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6C9-C65E-4AD2-87EA-0F6FDA77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06E-361B-4764-8D44-497C3B75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DEB-7509-4C03-A0B4-49EA2BEC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C78-BDD4-4A09-B13E-CB2910BE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73C-A813-4AA5-8B57-AA113363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FE5-287B-47AA-B0F2-AE084E2F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060-7C42-4DF1-A9A9-D878EF86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925-DBBE-40AC-9579-162FC8AF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6A2-ED59-49C2-AD74-5AD6EED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EFE-A6A9-43B0-95C4-E592CFEB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A572-9DA3-4C0A-B52A-18E51D291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85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A_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1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2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" y="4876920"/>
            <a:ext cx="2786040" cy="164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A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_a,,x_role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2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A_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79600" y="4481640"/>
            <a:ext cx="1571400" cy="1674720"/>
          </a:xfrm>
          <a:custGeom>
            <a:avLst/>
            <a:gdLst/>
            <a:ahLst/>
            <a:rect l="l" t="t" r="r" b="b"/>
            <a:pathLst>
              <a:path w="990" h="1055">
                <a:moveTo>
                  <a:pt x="0" y="1055"/>
                </a:moveTo>
                <a:lnTo>
                  <a:pt x="0" y="1007"/>
                </a:lnTo>
                <a:lnTo>
                  <a:pt x="695" y="1001"/>
                </a:lnTo>
                <a:lnTo>
                  <a:pt x="695" y="0"/>
                </a:lnTo>
                <a:lnTo>
                  <a:pt x="990" y="5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7480" y="4183200"/>
            <a:ext cx="3079800" cy="21333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7720" y="4282920"/>
            <a:ext cx="2278080" cy="1400400"/>
          </a:xfrm>
          <a:custGeom>
            <a:avLst/>
            <a:gdLst/>
            <a:ahLst/>
            <a:rect l="l" t="t" r="r" b="b"/>
            <a:pathLst>
              <a:path w="1435" h="882">
                <a:moveTo>
                  <a:pt x="1100" y="40"/>
                </a:moveTo>
                <a:lnTo>
                  <a:pt x="1100" y="1"/>
                </a:lnTo>
                <a:lnTo>
                  <a:pt x="1435" y="0"/>
                </a:lnTo>
                <a:lnTo>
                  <a:pt x="1435" y="882"/>
                </a:lnTo>
                <a:lnTo>
                  <a:pt x="0" y="877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3886200"/>
            <a:ext cx="1752480" cy="152388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the other A_a property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4T12:19:05Z</dcterms:modified>
  <cp:revision>95</cp:revision>
  <dc:subject/>
  <dc:title>PowerPoint Presentation</dc:title>
</cp:coreProperties>
</file>