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032-7D6D-4081-9412-9409F8B4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230-3AA5-485F-B11D-84D5CFD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002-83F9-4FA5-8CBC-CC6A2850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DB2-135F-48B4-9736-8D18DF8C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995-C4C2-46C3-BFB1-55A80973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0ED-B93E-4280-82A7-CA96DB3D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032-F512-4904-AF5B-5C49AFE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1C2-954F-426A-AFC0-EC5DB09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9A1-2657-41C0-9A64-49172CE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C5A-96B9-41D8-87F0-59B66C4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E21-5BDD-4AD1-BE81-D2A3A34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F6E-A697-441E-A79C-77907DC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39C-B472-47C4-A307-925309AE5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2130480"/>
            <a:ext cx="338040" cy="1600200"/>
          </a:xfrm>
          <a:custGeom>
            <a:avLst/>
            <a:gdLst/>
            <a:ahLst/>
            <a:rect l="l" t="t" r="r" b="b"/>
            <a:pathLst>
              <a:path w="213" h="1008">
                <a:moveTo>
                  <a:pt x="213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2280" y="2133720"/>
            <a:ext cx="1298520" cy="1596960"/>
          </a:xfrm>
          <a:custGeom>
            <a:avLst/>
            <a:gdLst/>
            <a:ahLst/>
            <a:rect l="l" t="t" r="r" b="b"/>
            <a:pathLst>
              <a:path w="804" h="1096">
                <a:moveTo>
                  <a:pt x="0" y="1096"/>
                </a:moveTo>
                <a:lnTo>
                  <a:pt x="804" y="1092"/>
                </a:lnTo>
                <a:lnTo>
                  <a:pt x="804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2138400"/>
            <a:ext cx="95400" cy="4151160"/>
          </a:xfrm>
          <a:custGeom>
            <a:avLst/>
            <a:gdLst/>
            <a:ahLst/>
            <a:rect l="l" t="t" r="r" b="b"/>
            <a:pathLst>
              <a:path w="60" h="2615">
                <a:moveTo>
                  <a:pt x="60" y="2615"/>
                </a:moveTo>
                <a:lnTo>
                  <a:pt x="0" y="261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6160" y="3886200"/>
            <a:ext cx="1181160" cy="2419200"/>
          </a:xfrm>
          <a:custGeom>
            <a:avLst/>
            <a:gdLst/>
            <a:ahLst/>
            <a:rect l="l" t="t" r="r" b="b"/>
            <a:pathLst>
              <a:path w="744" h="1524">
                <a:moveTo>
                  <a:pt x="0" y="1524"/>
                </a:moveTo>
                <a:lnTo>
                  <a:pt x="744" y="1524"/>
                </a:lnTo>
                <a:lnTo>
                  <a:pt x="744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6880" y="2027160"/>
            <a:ext cx="1268280" cy="4108680"/>
          </a:xfrm>
          <a:custGeom>
            <a:avLst/>
            <a:gdLst/>
            <a:ahLst/>
            <a:rect l="l" t="t" r="r" b="b"/>
            <a:pathLst>
              <a:path w="799" h="2588">
                <a:moveTo>
                  <a:pt x="0" y="5"/>
                </a:moveTo>
                <a:lnTo>
                  <a:pt x="799" y="0"/>
                </a:lnTo>
                <a:lnTo>
                  <a:pt x="795" y="2588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3774960"/>
            <a:ext cx="2467080" cy="2498760"/>
          </a:xfrm>
          <a:custGeom>
            <a:avLst/>
            <a:gdLst/>
            <a:ahLst/>
            <a:rect l="l" t="t" r="r" b="b"/>
            <a:pathLst>
              <a:path w="1554" h="1574">
                <a:moveTo>
                  <a:pt x="0" y="0"/>
                </a:moveTo>
                <a:lnTo>
                  <a:pt x="479" y="5"/>
                </a:lnTo>
                <a:lnTo>
                  <a:pt x="483" y="1574"/>
                </a:lnTo>
                <a:lnTo>
                  <a:pt x="1554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2035080"/>
            <a:ext cx="331920" cy="3517920"/>
          </a:xfrm>
          <a:custGeom>
            <a:avLst/>
            <a:gdLst/>
            <a:ahLst/>
            <a:rect l="l" t="t" r="r" b="b"/>
            <a:pathLst>
              <a:path w="209" h="2216">
                <a:moveTo>
                  <a:pt x="0" y="0"/>
                </a:moveTo>
                <a:lnTo>
                  <a:pt x="209" y="0"/>
                </a:lnTo>
                <a:lnTo>
                  <a:pt x="209" y="2216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14:00Z</dcterms:modified>
  <cp:revision>93</cp:revision>
  <dc:subject/>
  <dc:title>PowerPoint Presentation</dc:title>
</cp:coreProperties>
</file>