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AC5-179E-42B5-B2F5-2AB34850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7DC-C26B-4F03-A830-2D7789F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4A8-B3D5-481C-AD58-B37A8E39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FEF-8456-49DF-BF26-BA2D007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889-30EC-4018-AF69-A241171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F50-67A1-4840-B091-387B9434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8D5-7F52-4321-B7E1-5D84489B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057-71A6-4FCB-9E64-B723671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044-9CC0-4167-BD2A-666C0473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0A2-2BB4-4EDF-BBE5-3692C45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33F-ACFA-4C49-B582-0534CB9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531-F2C7-4BC9-A483-F7BA50D7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BD8C-4B55-4461-B4F1-4930DE4A7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presen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200" y="1998720"/>
            <a:ext cx="1741320" cy="1440"/>
          </a:xfrm>
          <a:custGeom>
            <a:avLst/>
            <a:gdLst/>
            <a:ahLst/>
            <a:rect l="l" t="t" r="r" b="b"/>
            <a:pathLst>
              <a:path w="1097" h="1">
                <a:moveTo>
                  <a:pt x="0" y="0"/>
                </a:moveTo>
                <a:lnTo>
                  <a:pt x="1097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3240" y="3968640"/>
            <a:ext cx="7496280" cy="390600"/>
          </a:xfrm>
          <a:custGeom>
            <a:avLst/>
            <a:gdLst/>
            <a:ahLst/>
            <a:rect l="l" t="t" r="r" b="b"/>
            <a:pathLst>
              <a:path w="4722" h="246">
                <a:moveTo>
                  <a:pt x="160" y="32"/>
                </a:moveTo>
                <a:cubicBezTo>
                  <a:pt x="244" y="27"/>
                  <a:pt x="0" y="0"/>
                  <a:pt x="666" y="2"/>
                </a:cubicBezTo>
                <a:cubicBezTo>
                  <a:pt x="1332" y="4"/>
                  <a:pt x="3588" y="10"/>
                  <a:pt x="4155" y="46"/>
                </a:cubicBezTo>
                <a:cubicBezTo>
                  <a:pt x="4722" y="82"/>
                  <a:pt x="4186" y="188"/>
                  <a:pt x="4067" y="217"/>
                </a:cubicBezTo>
                <a:cubicBezTo>
                  <a:pt x="3948" y="246"/>
                  <a:pt x="3574" y="221"/>
                  <a:pt x="3444" y="222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9120" y="2004840"/>
            <a:ext cx="3546360" cy="155880"/>
          </a:xfrm>
          <a:custGeom>
            <a:avLst/>
            <a:gdLst/>
            <a:ahLst/>
            <a:rect l="l" t="t" r="r" b="b"/>
            <a:pathLst>
              <a:path w="2234" h="98">
                <a:moveTo>
                  <a:pt x="2155" y="0"/>
                </a:moveTo>
                <a:lnTo>
                  <a:pt x="2234" y="0"/>
                </a:lnTo>
                <a:lnTo>
                  <a:pt x="2234" y="93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58:26Z</dcterms:modified>
  <cp:revision>103</cp:revision>
  <dc:subject/>
  <dc:title>PowerPoint Presentation</dc:title>
</cp:coreProperties>
</file>