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710-FF08-4F8B-9870-6CAD6F71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830-4371-49E1-8FF1-2AD70069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DF28-B9BB-4637-B1A8-ADAE473C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A8F7-FBB4-4EC0-8CE2-4C2F6D91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A65-6781-489A-8E29-10A78787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E86-704A-45B5-A2EA-DB50C74B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DCFF-E776-4A2B-847F-3A78B314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CA8-6A72-43FE-88EC-05AABF92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ECA-2BDC-404F-878D-91B526FF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9BD1-C7D9-4F98-9F1C-F9206C24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D4CF-5C4D-45E8-B5AE-E89AA312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43F-74EC-4837-88FD-AF9559FA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AD8A-0893-47D2-A946-EFF68EEFC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88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a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RA,,a_sip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ffff99"/>
                </a:solidFill>
                <a:latin typeface="Monotype Corsiva"/>
              </a:rPr>
              <a:t>, 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,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143000"/>
            <a:ext cx="2895840" cy="1493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-proxy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Arial"/>
              </a:rPr>
              <a:t>t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RA,,t_sip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, 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t_assertions {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4876920"/>
            <a:ext cx="2786040" cy="1645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may or may no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governed by TR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x_roles 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" y="1143000"/>
            <a:ext cx="2971800" cy="145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TR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 TRA,,r_rolePlayers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52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TR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38720" y="1143000"/>
            <a:ext cx="2971800" cy="124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TR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r_rolePlayers { 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5715000"/>
            <a:ext cx="3505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IP = Subject Identity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thers are OPs – Other Properti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{ 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{ } = property values are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]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[ ] = property values are lists/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der is signific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2374920"/>
            <a:ext cx="852480" cy="2012760"/>
          </a:xfrm>
          <a:custGeom>
            <a:avLst/>
            <a:gdLst/>
            <a:ahLst/>
            <a:rect l="l" t="t" r="r" b="b"/>
            <a:pathLst>
              <a:path w="537" h="1268">
                <a:moveTo>
                  <a:pt x="537" y="1268"/>
                </a:moveTo>
                <a:lnTo>
                  <a:pt x="537" y="1230"/>
                </a:lnTo>
                <a:lnTo>
                  <a:pt x="0" y="1230"/>
                </a:lnTo>
                <a:lnTo>
                  <a:pt x="2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0280" y="2374920"/>
            <a:ext cx="2457360" cy="1790640"/>
          </a:xfrm>
          <a:custGeom>
            <a:avLst/>
            <a:gdLst/>
            <a:ahLst/>
            <a:rect l="l" t="t" r="r" b="b"/>
            <a:pathLst>
              <a:path w="1548" h="1128">
                <a:moveTo>
                  <a:pt x="0" y="1128"/>
                </a:moveTo>
                <a:lnTo>
                  <a:pt x="0" y="1095"/>
                </a:lnTo>
                <a:lnTo>
                  <a:pt x="1548" y="1100"/>
                </a:lnTo>
                <a:lnTo>
                  <a:pt x="1548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362320"/>
            <a:ext cx="530280" cy="3782880"/>
          </a:xfrm>
          <a:custGeom>
            <a:avLst/>
            <a:gdLst/>
            <a:ahLst/>
            <a:rect l="l" t="t" r="r" b="b"/>
            <a:pathLst>
              <a:path w="334" h="2191">
                <a:moveTo>
                  <a:pt x="334" y="2191"/>
                </a:moveTo>
                <a:lnTo>
                  <a:pt x="334" y="2154"/>
                </a:lnTo>
                <a:lnTo>
                  <a:pt x="0" y="215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1752480"/>
            <a:ext cx="1054080" cy="109800"/>
          </a:xfrm>
          <a:custGeom>
            <a:avLst/>
            <a:gdLst/>
            <a:ahLst/>
            <a:rect l="l" t="t" r="r" b="b"/>
            <a:pathLst>
              <a:path w="664" h="69">
                <a:moveTo>
                  <a:pt x="0" y="69"/>
                </a:moveTo>
                <a:lnTo>
                  <a:pt x="0" y="0"/>
                </a:lnTo>
                <a:lnTo>
                  <a:pt x="664" y="1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78200" y="1755720"/>
            <a:ext cx="1693800" cy="106560"/>
          </a:xfrm>
          <a:custGeom>
            <a:avLst/>
            <a:gdLst/>
            <a:ahLst/>
            <a:rect l="l" t="t" r="r" b="b"/>
            <a:pathLst>
              <a:path w="1067" h="67">
                <a:moveTo>
                  <a:pt x="1067" y="67"/>
                </a:moveTo>
                <a:lnTo>
                  <a:pt x="1067" y="0"/>
                </a:lnTo>
                <a:lnTo>
                  <a:pt x="0" y="4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1944720"/>
            <a:ext cx="1676520" cy="7452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29200" y="1952640"/>
            <a:ext cx="1690920" cy="74520"/>
          </a:xfrm>
          <a:custGeom>
            <a:avLst/>
            <a:gdLst/>
            <a:ahLst/>
            <a:rect l="l" t="t" r="r" b="b"/>
            <a:pathLst>
              <a:path w="985" h="49">
                <a:moveTo>
                  <a:pt x="985" y="49"/>
                </a:moveTo>
                <a:lnTo>
                  <a:pt x="985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60880" y="2255760"/>
            <a:ext cx="1158840" cy="1327320"/>
          </a:xfrm>
          <a:custGeom>
            <a:avLst/>
            <a:gdLst/>
            <a:ahLst/>
            <a:rect l="l" t="t" r="r" b="b"/>
            <a:pathLst>
              <a:path w="730" h="836">
                <a:moveTo>
                  <a:pt x="730" y="836"/>
                </a:moveTo>
                <a:lnTo>
                  <a:pt x="730" y="789"/>
                </a:lnTo>
                <a:lnTo>
                  <a:pt x="0" y="79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004840"/>
            <a:ext cx="688680" cy="865440"/>
          </a:xfrm>
          <a:custGeom>
            <a:avLst/>
            <a:gdLst/>
            <a:ahLst/>
            <a:rect l="l" t="t" r="r" b="b"/>
            <a:pathLst>
              <a:path w="502" h="540">
                <a:moveTo>
                  <a:pt x="0" y="53"/>
                </a:moveTo>
                <a:lnTo>
                  <a:pt x="0" y="0"/>
                </a:lnTo>
                <a:lnTo>
                  <a:pt x="500" y="0"/>
                </a:lnTo>
                <a:lnTo>
                  <a:pt x="502" y="540"/>
                </a:ln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4497480"/>
            <a:ext cx="1747800" cy="1674720"/>
          </a:xfrm>
          <a:custGeom>
            <a:avLst/>
            <a:gdLst/>
            <a:ahLst/>
            <a:rect l="l" t="t" r="r" b="b"/>
            <a:pathLst>
              <a:path w="1101" h="1055">
                <a:moveTo>
                  <a:pt x="0" y="1055"/>
                </a:moveTo>
                <a:lnTo>
                  <a:pt x="0" y="1007"/>
                </a:lnTo>
                <a:lnTo>
                  <a:pt x="761" y="1001"/>
                </a:lnTo>
                <a:lnTo>
                  <a:pt x="761" y="0"/>
                </a:lnTo>
                <a:lnTo>
                  <a:pt x="1101" y="5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89840" y="2181240"/>
            <a:ext cx="520920" cy="3970440"/>
          </a:xfrm>
          <a:custGeom>
            <a:avLst/>
            <a:gdLst/>
            <a:ahLst/>
            <a:rect l="l" t="t" r="r" b="b"/>
            <a:pathLst>
              <a:path w="328" h="2501">
                <a:moveTo>
                  <a:pt x="0" y="42"/>
                </a:moveTo>
                <a:lnTo>
                  <a:pt x="7" y="0"/>
                </a:lnTo>
                <a:lnTo>
                  <a:pt x="328" y="0"/>
                </a:lnTo>
                <a:lnTo>
                  <a:pt x="328" y="2501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7480" y="4219560"/>
            <a:ext cx="3079800" cy="2054160"/>
          </a:xfrm>
          <a:custGeom>
            <a:avLst/>
            <a:gdLst/>
            <a:ahLst/>
            <a:rect l="l" t="t" r="r" b="b"/>
            <a:pathLst>
              <a:path w="1940" h="1294">
                <a:moveTo>
                  <a:pt x="0" y="5"/>
                </a:moveTo>
                <a:lnTo>
                  <a:pt x="864" y="0"/>
                </a:lnTo>
                <a:lnTo>
                  <a:pt x="869" y="1294"/>
                </a:lnTo>
                <a:lnTo>
                  <a:pt x="1940" y="128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7720" y="4314960"/>
            <a:ext cx="2278080" cy="1296720"/>
          </a:xfrm>
          <a:custGeom>
            <a:avLst/>
            <a:gdLst/>
            <a:ahLst/>
            <a:rect l="l" t="t" r="r" b="b"/>
            <a:pathLst>
              <a:path w="1435" h="817">
                <a:moveTo>
                  <a:pt x="1029" y="43"/>
                </a:moveTo>
                <a:lnTo>
                  <a:pt x="1029" y="0"/>
                </a:lnTo>
                <a:lnTo>
                  <a:pt x="1435" y="0"/>
                </a:lnTo>
                <a:lnTo>
                  <a:pt x="1435" y="817"/>
                </a:lnTo>
                <a:lnTo>
                  <a:pt x="0" y="812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78200" y="2157480"/>
            <a:ext cx="765000" cy="2711520"/>
          </a:xfrm>
          <a:custGeom>
            <a:avLst/>
            <a:gdLst/>
            <a:ahLst/>
            <a:rect l="l" t="t" r="r" b="b"/>
            <a:pathLst>
              <a:path w="482" h="1708">
                <a:moveTo>
                  <a:pt x="0" y="43"/>
                </a:moveTo>
                <a:lnTo>
                  <a:pt x="2" y="0"/>
                </a:lnTo>
                <a:lnTo>
                  <a:pt x="482" y="0"/>
                </a:lnTo>
                <a:lnTo>
                  <a:pt x="480" y="1708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886200"/>
            <a:ext cx="1752480" cy="167652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4724280"/>
            <a:ext cx="1676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N.B.: Only 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a_sip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need be originally populated; all other TRA properties will be automatically confer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n R. Newcomb</cp:lastModifiedBy>
  <dcterms:modified xsi:type="dcterms:W3CDTF">2005-06-24T00:56:57Z</dcterms:modified>
  <cp:revision>91</cp:revision>
  <dc:subject/>
  <dc:title>PowerPoint Presentation</dc:title>
</cp:coreProperties>
</file>