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1D3-E133-45F4-BF62-28FCB0C5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B28-84C6-4220-9EA8-B8AE48B1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C71-F908-4A47-9AA0-53668A91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36A-2254-4DAE-8CD9-DA4E31CC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044-6F3E-49D1-899E-A4002BC6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49A-3FAD-4461-B568-F2644B5C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E85-9C83-4F20-AD78-83208649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F22-46A5-4834-ACC4-0237D33F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4E8-ED37-4892-8231-CE1D2577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EA7-E095-47DD-94BE-0F66E3CF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9FF-5B1C-48E2-B0EB-F6414839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E28-4C38-419A-A7D5-D8031AAC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E7AB-4FD6-4CC5-AF4E-879EDCD36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00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played by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480" y="5554800"/>
            <a:ext cx="2786040" cy="100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played </a:t>
            </a: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in asser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152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8240" y="3886200"/>
            <a:ext cx="649080" cy="2419200"/>
          </a:xfrm>
          <a:custGeom>
            <a:avLst/>
            <a:gdLst/>
            <a:ahLst/>
            <a:rect l="l" t="t" r="r" b="b"/>
            <a:pathLst>
              <a:path w="409" h="1524">
                <a:moveTo>
                  <a:pt x="0" y="1524"/>
                </a:moveTo>
                <a:lnTo>
                  <a:pt x="409" y="1524"/>
                </a:lnTo>
                <a:lnTo>
                  <a:pt x="409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41920" y="3774960"/>
            <a:ext cx="1935360" cy="2498760"/>
          </a:xfrm>
          <a:custGeom>
            <a:avLst/>
            <a:gdLst/>
            <a:ahLst/>
            <a:rect l="l" t="t" r="r" b="b"/>
            <a:pathLst>
              <a:path w="1219" h="1574">
                <a:moveTo>
                  <a:pt x="0" y="0"/>
                </a:moveTo>
                <a:lnTo>
                  <a:pt x="144" y="5"/>
                </a:lnTo>
                <a:lnTo>
                  <a:pt x="148" y="1574"/>
                </a:lnTo>
                <a:lnTo>
                  <a:pt x="1219" y="156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20880" y="3774960"/>
            <a:ext cx="501840" cy="1778040"/>
          </a:xfrm>
          <a:custGeom>
            <a:avLst/>
            <a:gdLst/>
            <a:ahLst/>
            <a:rect l="l" t="t" r="r" b="b"/>
            <a:pathLst>
              <a:path w="316" h="1120">
                <a:moveTo>
                  <a:pt x="316" y="0"/>
                </a:moveTo>
                <a:lnTo>
                  <a:pt x="0" y="0"/>
                </a:lnTo>
                <a:lnTo>
                  <a:pt x="0" y="1120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4:20:20Z</dcterms:modified>
  <cp:revision>94</cp:revision>
  <dc:subject/>
  <dc:title>PowerPoint Presentation</dc:title>
</cp:coreProperties>
</file>