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92F-B139-4C3E-87BD-10E8D7B0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B23-E41C-4DC2-9824-561D821F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DD7-0DA8-4016-AA6F-CD1F6DB0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AF1-B568-425F-AA14-A6B092D9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95C-1C90-4DF9-B454-64AD49BB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415-7715-44AC-AF84-7E919A6C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4F6-2B7B-49A3-993E-52B72C8A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CF1-03DB-42E7-88CD-5ED04535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EC5-C7D5-48C2-B691-F341CA17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BB5-B80F-4243-BCB6-F496128B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301-FEE4-4A22-B4CF-4818CD4C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0C0-B520-4446-88F7-28602073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A2B0-E5BA-4D33-B4D7-536D3371C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" y="990720"/>
            <a:ext cx="4152960" cy="636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U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p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Rrp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L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Lrn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Rrn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U_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reflecting an unreified (but always mutual)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867280"/>
            <a:ext cx="31240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ictionaryKe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valueOfDictionary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68800" y="1392120"/>
            <a:ext cx="1676160" cy="730440"/>
          </a:xfrm>
          <a:custGeom>
            <a:avLst/>
            <a:gdLst/>
            <a:ahLst/>
            <a:rect l="l" t="t" r="r" b="b"/>
            <a:pathLst>
              <a:path w="1056" h="460">
                <a:moveTo>
                  <a:pt x="0" y="460"/>
                </a:moveTo>
                <a:lnTo>
                  <a:pt x="0" y="390"/>
                </a:lnTo>
                <a:lnTo>
                  <a:pt x="1056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1720" y="1109520"/>
            <a:ext cx="4152960" cy="636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U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p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Rrp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L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Lrn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Rrn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867280"/>
            <a:ext cx="1676520" cy="85536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x_LrnRrnRr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the other U_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59080" y="1765440"/>
            <a:ext cx="3538800" cy="471240"/>
          </a:xfrm>
          <a:custGeom>
            <a:avLst/>
            <a:gdLst/>
            <a:ahLst/>
            <a:rect l="l" t="t" r="r" b="b"/>
            <a:pathLst>
              <a:path w="2229" h="297">
                <a:moveTo>
                  <a:pt x="2229" y="297"/>
                </a:moveTo>
                <a:lnTo>
                  <a:pt x="2229" y="250"/>
                </a:lnTo>
                <a:lnTo>
                  <a:pt x="400" y="255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11560" y="24382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32" y="48"/>
                </a:moveTo>
                <a:cubicBezTo>
                  <a:pt x="16" y="44"/>
                  <a:pt x="0" y="40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2986200"/>
            <a:ext cx="6680160" cy="430200"/>
          </a:xfrm>
          <a:custGeom>
            <a:avLst/>
            <a:gdLst/>
            <a:ahLst/>
            <a:rect l="l" t="t" r="r" b="b"/>
            <a:pathLst>
              <a:path w="4208" h="271">
                <a:moveTo>
                  <a:pt x="96" y="36"/>
                </a:moveTo>
                <a:cubicBezTo>
                  <a:pt x="180" y="31"/>
                  <a:pt x="0" y="0"/>
                  <a:pt x="602" y="6"/>
                </a:cubicBezTo>
                <a:cubicBezTo>
                  <a:pt x="1204" y="12"/>
                  <a:pt x="3208" y="28"/>
                  <a:pt x="3708" y="72"/>
                </a:cubicBezTo>
                <a:cubicBezTo>
                  <a:pt x="4208" y="116"/>
                  <a:pt x="3624" y="230"/>
                  <a:pt x="3602" y="271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362320"/>
            <a:ext cx="6680160" cy="396720"/>
          </a:xfrm>
          <a:custGeom>
            <a:avLst/>
            <a:gdLst/>
            <a:ahLst/>
            <a:rect l="l" t="t" r="r" b="b"/>
            <a:pathLst>
              <a:path w="4208" h="250">
                <a:moveTo>
                  <a:pt x="96" y="36"/>
                </a:moveTo>
                <a:cubicBezTo>
                  <a:pt x="180" y="31"/>
                  <a:pt x="0" y="0"/>
                  <a:pt x="602" y="6"/>
                </a:cubicBezTo>
                <a:cubicBezTo>
                  <a:pt x="1204" y="12"/>
                  <a:pt x="3208" y="31"/>
                  <a:pt x="3708" y="72"/>
                </a:cubicBezTo>
                <a:cubicBezTo>
                  <a:pt x="4208" y="113"/>
                  <a:pt x="3624" y="213"/>
                  <a:pt x="3602" y="250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7T20:21:45Z</dcterms:modified>
  <cp:revision>102</cp:revision>
  <dc:subject/>
  <dc:title>PowerPoint Presentation</dc:title>
</cp:coreProperties>
</file>