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148-A28D-4B73-8F23-A9F94085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463-E29A-484D-8B13-3239883F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1A3-A18B-423E-81C4-80CA8F43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A9D-A8EC-4D72-9081-EE95C648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E46-992A-4AF5-A3AD-6A6B845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2BD-A3A5-4B23-88F5-4DD03B2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50B-9287-4851-A67A-E03623E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D33-1B5E-47B3-A688-4D175E2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B37-F751-4312-8A18-722A138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5DD-D805-40B8-A47E-8C3C80B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844-B1FA-4DD3-93E7-18D1BFE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347-BDC8-4C62-B982-9E0DFFBE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2BC-1B77-45E5-90E1-5903375B4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_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1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A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_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79600" y="4481640"/>
            <a:ext cx="1571400" cy="1674720"/>
          </a:xfrm>
          <a:custGeom>
            <a:avLst/>
            <a:gdLst/>
            <a:ahLst/>
            <a:rect l="l" t="t" r="r" b="b"/>
            <a:pathLst>
              <a:path w="990" h="1055">
                <a:moveTo>
                  <a:pt x="0" y="1055"/>
                </a:moveTo>
                <a:lnTo>
                  <a:pt x="0" y="1007"/>
                </a:lnTo>
                <a:lnTo>
                  <a:pt x="695" y="1001"/>
                </a:lnTo>
                <a:lnTo>
                  <a:pt x="695" y="0"/>
                </a:lnTo>
                <a:lnTo>
                  <a:pt x="990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7480" y="4183200"/>
            <a:ext cx="3079800" cy="21333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7720" y="4282920"/>
            <a:ext cx="2278080" cy="1400400"/>
          </a:xfrm>
          <a:custGeom>
            <a:avLst/>
            <a:gdLst/>
            <a:ahLst/>
            <a:rect l="l" t="t" r="r" b="b"/>
            <a:pathLst>
              <a:path w="1435" h="882">
                <a:moveTo>
                  <a:pt x="1100" y="40"/>
                </a:moveTo>
                <a:lnTo>
                  <a:pt x="1100" y="1"/>
                </a:lnTo>
                <a:lnTo>
                  <a:pt x="1435" y="0"/>
                </a:lnTo>
                <a:lnTo>
                  <a:pt x="1435" y="882"/>
                </a:lnTo>
                <a:lnTo>
                  <a:pt x="0" y="877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886200"/>
            <a:ext cx="1752480" cy="152388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A_a property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12:19:05Z</dcterms:modified>
  <cp:revision>95</cp:revision>
  <dc:subject/>
  <dc:title>PowerPoint Presentation</dc:title>
</cp:coreProperties>
</file>