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461-72BC-4B14-A10F-52735045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88A-0F17-4539-A7C7-655157C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E3B-B139-41C6-9EA1-F52C80E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D26-EF23-4360-B9DE-3573B103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B43-A9BA-4B3A-A28F-9D2BDAB1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930-1341-431A-8ACD-B990B0A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7CA-3A20-4C9D-AC29-BDFDB4D6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74A-7BF3-416C-94FE-A2C324C0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62D-E34A-418F-A3D3-EFA95A2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654-E27B-49A7-A3C5-5152BC7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EB0-F66D-4C91-A536-BF065A1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55D-973C-4D5D-9C44-9411330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2B6-AE9B-409C-ABBB-6E0E9BFDF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presen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200" y="1998720"/>
            <a:ext cx="1741320" cy="1440"/>
          </a:xfrm>
          <a:custGeom>
            <a:avLst/>
            <a:gdLst/>
            <a:ahLst/>
            <a:rect l="l" t="t" r="r" b="b"/>
            <a:pathLst>
              <a:path w="1097" h="1">
                <a:moveTo>
                  <a:pt x="0" y="0"/>
                </a:moveTo>
                <a:lnTo>
                  <a:pt x="1097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3240" y="3968640"/>
            <a:ext cx="7496280" cy="390600"/>
          </a:xfrm>
          <a:custGeom>
            <a:avLst/>
            <a:gdLst/>
            <a:ahLst/>
            <a:rect l="l" t="t" r="r" b="b"/>
            <a:pathLst>
              <a:path w="4722" h="246">
                <a:moveTo>
                  <a:pt x="160" y="32"/>
                </a:moveTo>
                <a:cubicBezTo>
                  <a:pt x="244" y="27"/>
                  <a:pt x="0" y="0"/>
                  <a:pt x="666" y="2"/>
                </a:cubicBezTo>
                <a:cubicBezTo>
                  <a:pt x="1332" y="4"/>
                  <a:pt x="3588" y="10"/>
                  <a:pt x="4155" y="46"/>
                </a:cubicBezTo>
                <a:cubicBezTo>
                  <a:pt x="4722" y="82"/>
                  <a:pt x="4186" y="188"/>
                  <a:pt x="4067" y="217"/>
                </a:cubicBezTo>
                <a:cubicBezTo>
                  <a:pt x="3948" y="246"/>
                  <a:pt x="3574" y="221"/>
                  <a:pt x="3444" y="222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9120" y="2004840"/>
            <a:ext cx="3546360" cy="155880"/>
          </a:xfrm>
          <a:custGeom>
            <a:avLst/>
            <a:gdLst/>
            <a:ahLst/>
            <a:rect l="l" t="t" r="r" b="b"/>
            <a:pathLst>
              <a:path w="2234" h="98">
                <a:moveTo>
                  <a:pt x="2155" y="0"/>
                </a:moveTo>
                <a:lnTo>
                  <a:pt x="2234" y="0"/>
                </a:lnTo>
                <a:lnTo>
                  <a:pt x="2234" y="93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58:26Z</dcterms:modified>
  <cp:revision>103</cp:revision>
  <dc:subject/>
  <dc:title>PowerPoint Presentation</dc:title>
</cp:coreProperties>
</file>