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16A-9753-4B11-BF39-4DD02699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093-3E3B-4AC3-A539-E4144329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762-5878-4DC4-8148-F17FE2B9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D8E2-301C-44B6-934F-32211863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9AB-1A93-41A3-A34A-B2A7255D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422-DF25-4B07-A523-086FA1F1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3DA-FE71-4549-A8D5-17C45808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AD6-D975-4103-AC67-15357335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E26-F52F-45A5-825A-F1B3D44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005-896C-4A2D-8DFD-D5367C8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623-73FB-4174-8833-83ADFA9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BAE-39A2-40A1-A643-3FD29F44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919E-927C-4C00-9732-8BBEC35BB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8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143000"/>
            <a:ext cx="2895840" cy="149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71800" cy="145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TRA,,r_rolePlayers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R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24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rolePlayers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2374920"/>
            <a:ext cx="852480" cy="201276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0280" y="237492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530280" cy="3782880"/>
          </a:xfrm>
          <a:custGeom>
            <a:avLst/>
            <a:gdLst/>
            <a:ahLst/>
            <a:rect l="l" t="t" r="r" b="b"/>
            <a:pathLst>
              <a:path w="334" h="2191">
                <a:moveTo>
                  <a:pt x="334" y="2191"/>
                </a:moveTo>
                <a:lnTo>
                  <a:pt x="334" y="2154"/>
                </a:lnTo>
                <a:lnTo>
                  <a:pt x="0" y="215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752480"/>
            <a:ext cx="1054080" cy="109800"/>
          </a:xfrm>
          <a:custGeom>
            <a:avLst/>
            <a:gdLst/>
            <a:ahLst/>
            <a:rect l="l" t="t" r="r" b="b"/>
            <a:pathLst>
              <a:path w="664" h="69">
                <a:moveTo>
                  <a:pt x="0" y="69"/>
                </a:moveTo>
                <a:lnTo>
                  <a:pt x="0" y="0"/>
                </a:lnTo>
                <a:lnTo>
                  <a:pt x="664" y="1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8200" y="1755720"/>
            <a:ext cx="1693800" cy="106560"/>
          </a:xfrm>
          <a:custGeom>
            <a:avLst/>
            <a:gdLst/>
            <a:ahLst/>
            <a:rect l="l" t="t" r="r" b="b"/>
            <a:pathLst>
              <a:path w="1067" h="67">
                <a:moveTo>
                  <a:pt x="1067" y="67"/>
                </a:moveTo>
                <a:lnTo>
                  <a:pt x="1067" y="0"/>
                </a:lnTo>
                <a:lnTo>
                  <a:pt x="0" y="4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944720"/>
            <a:ext cx="167652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29200" y="1952640"/>
            <a:ext cx="1690920" cy="7452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004840"/>
            <a:ext cx="688680" cy="86544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497480"/>
            <a:ext cx="1747800" cy="1674720"/>
          </a:xfrm>
          <a:custGeom>
            <a:avLst/>
            <a:gdLst/>
            <a:ahLst/>
            <a:rect l="l" t="t" r="r" b="b"/>
            <a:pathLst>
              <a:path w="1101" h="1055">
                <a:moveTo>
                  <a:pt x="0" y="1055"/>
                </a:moveTo>
                <a:lnTo>
                  <a:pt x="0" y="1007"/>
                </a:lnTo>
                <a:lnTo>
                  <a:pt x="761" y="1001"/>
                </a:lnTo>
                <a:lnTo>
                  <a:pt x="761" y="0"/>
                </a:lnTo>
                <a:lnTo>
                  <a:pt x="1101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9840" y="2181240"/>
            <a:ext cx="520920" cy="3970440"/>
          </a:xfrm>
          <a:custGeom>
            <a:avLst/>
            <a:gdLst/>
            <a:ahLst/>
            <a:rect l="l" t="t" r="r" b="b"/>
            <a:pathLst>
              <a:path w="328" h="2501">
                <a:moveTo>
                  <a:pt x="0" y="42"/>
                </a:moveTo>
                <a:lnTo>
                  <a:pt x="7" y="0"/>
                </a:lnTo>
                <a:lnTo>
                  <a:pt x="328" y="0"/>
                </a:lnTo>
                <a:lnTo>
                  <a:pt x="328" y="2501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7720" y="4314960"/>
            <a:ext cx="2278080" cy="129672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2157480"/>
            <a:ext cx="765000" cy="2711520"/>
          </a:xfrm>
          <a:custGeom>
            <a:avLst/>
            <a:gdLst/>
            <a:ahLst/>
            <a:rect l="l" t="t" r="r" b="b"/>
            <a:pathLst>
              <a:path w="482" h="1708">
                <a:moveTo>
                  <a:pt x="0" y="43"/>
                </a:moveTo>
                <a:lnTo>
                  <a:pt x="2" y="0"/>
                </a:lnTo>
                <a:lnTo>
                  <a:pt x="482" y="0"/>
                </a:lnTo>
                <a:lnTo>
                  <a:pt x="480" y="170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886200"/>
            <a:ext cx="1752480" cy="167652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724280"/>
            <a:ext cx="167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TR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00:56:57Z</dcterms:modified>
  <cp:revision>91</cp:revision>
  <dc:subject/>
  <dc:title>PowerPoint Presentation</dc:title>
</cp:coreProperties>
</file>