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58F-74C2-482C-968B-5C8E2CE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3AC-341A-438B-859C-C22A6C2D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375-054D-41DB-9593-6B24A46A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993-795C-4BD2-8CFD-2C295698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CC7-F3C7-4427-A696-C3D2BDF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FDD-AAD9-4EEE-A888-744CB9C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A62-B8E1-43EB-8A97-13BC3A59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5F5-A79D-4CEA-B57A-8E75477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803-5CD5-4B2D-99FE-44DE7DA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22A-4E65-4FA8-9734-803C29D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2F4-9FBF-4438-961A-09F4378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45C-5133-4274-A8A8-4C76D409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7FE0-F909-4939-BDC5-1777554D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Victoria T. Newcomb</dc:creator>
  <dc:description/>
  <dc:language>en-US</dc:language>
  <cp:lastModifiedBy>Steven R. Newcomb</cp:lastModifiedBy>
  <dcterms:modified xsi:type="dcterms:W3CDTF">2005-06-19T16:36:35Z</dcterms:modified>
  <cp:revision>89</cp:revision>
  <dc:subject/>
  <dc:title>PowerPoint Presentation</dc:title>
</cp:coreProperties>
</file>