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6854-CCEE-4C50-9094-49EEE310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4E40-149C-4C89-B0EE-C3DC7FEC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DD5B-B093-4B9D-BBCA-F278FAD4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51C-0B68-4DCF-BD4D-79BB9FA6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ACE-C50C-4B66-BEA4-98094257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75F-64F1-4C39-8FCC-A11F2EDF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27B-8E0C-4B90-BA12-3996EC1A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99FC-3328-4480-9633-9A8F21A5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DE4-24C8-4BAB-BAAB-A5F7DFB4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859-C92D-423D-B131-3582589E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B9D-E81F-4050-998C-49801170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C25D-4EDE-440E-ADBC-83C3AE9F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404B-FE0B-4AB2-A5EE-22152CC7E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210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a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a_castings {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a_sip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ffff99"/>
                </a:solidFill>
                <a:latin typeface="Monotype Corsiva"/>
              </a:rPr>
              <a:t>, 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,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143000"/>
            <a:ext cx="2743200" cy="1524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-proxy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Arial"/>
              </a:rPr>
              <a:t>t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t_sip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, 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t_assertions {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5554800"/>
            <a:ext cx="2786040" cy="1463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may or may no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governed by B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x_castings 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" y="2819520"/>
            <a:ext cx="2438280" cy="2254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“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ing” – the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</a:t>
            </a:r>
            <a:r>
              <a:rPr b="0" i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seen as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of this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c_sip 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cc3300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cc3300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" y="1143000"/>
            <a:ext cx="2971800" cy="1274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B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castings {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B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38720" y="1143000"/>
            <a:ext cx="2971800" cy="1274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B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castings {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72240" y="2895480"/>
            <a:ext cx="2438280" cy="2254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act that no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has b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 in this ro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c_sip 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cc3300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ccffff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ccffff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5715000"/>
            <a:ext cx="3505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IP = Subject Identity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thers are OPs – Other Properti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{ 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{ } = property values are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]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[ ] = property values are lists/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der is signific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3733920"/>
            <a:ext cx="2286000" cy="81000"/>
          </a:xfrm>
          <a:custGeom>
            <a:avLst/>
            <a:gdLst/>
            <a:ahLst/>
            <a:rect l="l" t="t" r="r" b="b"/>
            <a:pathLst>
              <a:path w="1440" h="51">
                <a:moveTo>
                  <a:pt x="1438" y="51"/>
                </a:moveTo>
                <a:lnTo>
                  <a:pt x="1440" y="5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54640" y="3733920"/>
            <a:ext cx="1351080" cy="81000"/>
          </a:xfrm>
          <a:custGeom>
            <a:avLst/>
            <a:gdLst/>
            <a:ahLst/>
            <a:rect l="l" t="t" r="r" b="b"/>
            <a:pathLst>
              <a:path w="864" h="52">
                <a:moveTo>
                  <a:pt x="0" y="5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7280" y="2390760"/>
            <a:ext cx="852480" cy="2013120"/>
          </a:xfrm>
          <a:custGeom>
            <a:avLst/>
            <a:gdLst/>
            <a:ahLst/>
            <a:rect l="l" t="t" r="r" b="b"/>
            <a:pathLst>
              <a:path w="537" h="1268">
                <a:moveTo>
                  <a:pt x="537" y="1268"/>
                </a:moveTo>
                <a:lnTo>
                  <a:pt x="537" y="1230"/>
                </a:lnTo>
                <a:lnTo>
                  <a:pt x="0" y="1230"/>
                </a:lnTo>
                <a:lnTo>
                  <a:pt x="2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70280" y="2398680"/>
            <a:ext cx="2457360" cy="1790640"/>
          </a:xfrm>
          <a:custGeom>
            <a:avLst/>
            <a:gdLst/>
            <a:ahLst/>
            <a:rect l="l" t="t" r="r" b="b"/>
            <a:pathLst>
              <a:path w="1548" h="1128">
                <a:moveTo>
                  <a:pt x="0" y="1128"/>
                </a:moveTo>
                <a:lnTo>
                  <a:pt x="0" y="1095"/>
                </a:lnTo>
                <a:lnTo>
                  <a:pt x="1548" y="1100"/>
                </a:lnTo>
                <a:lnTo>
                  <a:pt x="1548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6600" y="2406600"/>
            <a:ext cx="2039760" cy="1851120"/>
          </a:xfrm>
          <a:custGeom>
            <a:avLst/>
            <a:gdLst/>
            <a:ahLst/>
            <a:rect l="l" t="t" r="r" b="b"/>
            <a:pathLst>
              <a:path w="1285" h="1166">
                <a:moveTo>
                  <a:pt x="0" y="1166"/>
                </a:moveTo>
                <a:lnTo>
                  <a:pt x="0" y="1137"/>
                </a:lnTo>
                <a:lnTo>
                  <a:pt x="1285" y="1142"/>
                </a:lnTo>
                <a:lnTo>
                  <a:pt x="1285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406600"/>
            <a:ext cx="760680" cy="1955880"/>
          </a:xfrm>
          <a:custGeom>
            <a:avLst/>
            <a:gdLst/>
            <a:ahLst/>
            <a:rect l="l" t="t" r="r" b="b"/>
            <a:pathLst>
              <a:path w="479" h="1232">
                <a:moveTo>
                  <a:pt x="479" y="1232"/>
                </a:moveTo>
                <a:lnTo>
                  <a:pt x="479" y="1185"/>
                </a:lnTo>
                <a:lnTo>
                  <a:pt x="0" y="1182"/>
                </a:lnTo>
                <a:lnTo>
                  <a:pt x="2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9960" y="1771560"/>
            <a:ext cx="1084320" cy="9072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98800" y="1746360"/>
            <a:ext cx="1460520" cy="115920"/>
          </a:xfrm>
          <a:custGeom>
            <a:avLst/>
            <a:gdLst/>
            <a:ahLst/>
            <a:rect l="l" t="t" r="r" b="b"/>
            <a:pathLst>
              <a:path w="920" h="73">
                <a:moveTo>
                  <a:pt x="920" y="73"/>
                </a:moveTo>
                <a:lnTo>
                  <a:pt x="920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02640" y="2157480"/>
            <a:ext cx="966600" cy="750960"/>
          </a:xfrm>
          <a:custGeom>
            <a:avLst/>
            <a:gdLst/>
            <a:ahLst/>
            <a:rect l="l" t="t" r="r" b="b"/>
            <a:pathLst>
              <a:path w="609" h="473">
                <a:moveTo>
                  <a:pt x="0" y="40"/>
                </a:moveTo>
                <a:lnTo>
                  <a:pt x="0" y="0"/>
                </a:lnTo>
                <a:lnTo>
                  <a:pt x="609" y="0"/>
                </a:lnTo>
                <a:lnTo>
                  <a:pt x="609" y="473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2157480"/>
            <a:ext cx="761760" cy="660240"/>
          </a:xfrm>
          <a:custGeom>
            <a:avLst/>
            <a:gdLst/>
            <a:ahLst/>
            <a:rect l="l" t="t" r="r" b="b"/>
            <a:pathLst>
              <a:path w="432" h="416">
                <a:moveTo>
                  <a:pt x="0" y="35"/>
                </a:moveTo>
                <a:lnTo>
                  <a:pt x="0" y="0"/>
                </a:lnTo>
                <a:lnTo>
                  <a:pt x="432" y="0"/>
                </a:lnTo>
                <a:lnTo>
                  <a:pt x="431" y="416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68320" y="5060880"/>
            <a:ext cx="662040" cy="1602000"/>
          </a:xfrm>
          <a:custGeom>
            <a:avLst/>
            <a:gdLst/>
            <a:ahLst/>
            <a:rect l="l" t="t" r="r" b="b"/>
            <a:pathLst>
              <a:path w="432" h="1009">
                <a:moveTo>
                  <a:pt x="2" y="1009"/>
                </a:moveTo>
                <a:lnTo>
                  <a:pt x="0" y="965"/>
                </a:lnTo>
                <a:lnTo>
                  <a:pt x="432" y="965"/>
                </a:lnTo>
                <a:lnTo>
                  <a:pt x="430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944720"/>
            <a:ext cx="1828800" cy="7452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29200" y="1949400"/>
            <a:ext cx="1563840" cy="77760"/>
          </a:xfrm>
          <a:custGeom>
            <a:avLst/>
            <a:gdLst/>
            <a:ahLst/>
            <a:rect l="l" t="t" r="r" b="b"/>
            <a:pathLst>
              <a:path w="985" h="49">
                <a:moveTo>
                  <a:pt x="985" y="49"/>
                </a:moveTo>
                <a:lnTo>
                  <a:pt x="985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60880" y="2255760"/>
            <a:ext cx="1158840" cy="1327320"/>
          </a:xfrm>
          <a:custGeom>
            <a:avLst/>
            <a:gdLst/>
            <a:ahLst/>
            <a:rect l="l" t="t" r="r" b="b"/>
            <a:pathLst>
              <a:path w="730" h="836">
                <a:moveTo>
                  <a:pt x="730" y="836"/>
                </a:moveTo>
                <a:lnTo>
                  <a:pt x="730" y="789"/>
                </a:lnTo>
                <a:lnTo>
                  <a:pt x="0" y="79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97520" y="2021040"/>
            <a:ext cx="796680" cy="857160"/>
          </a:xfrm>
          <a:custGeom>
            <a:avLst/>
            <a:gdLst/>
            <a:ahLst/>
            <a:rect l="l" t="t" r="r" b="b"/>
            <a:pathLst>
              <a:path w="502" h="540">
                <a:moveTo>
                  <a:pt x="0" y="53"/>
                </a:moveTo>
                <a:lnTo>
                  <a:pt x="0" y="0"/>
                </a:lnTo>
                <a:lnTo>
                  <a:pt x="500" y="0"/>
                </a:lnTo>
                <a:lnTo>
                  <a:pt x="502" y="540"/>
                </a:ln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6600" y="4419720"/>
            <a:ext cx="2441520" cy="7596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03960" y="4495680"/>
            <a:ext cx="934920" cy="76320"/>
          </a:xfrm>
          <a:custGeom>
            <a:avLst/>
            <a:gdLst/>
            <a:ahLst/>
            <a:rect l="l" t="t" r="r" b="b"/>
            <a:pathLst>
              <a:path w="589" h="48">
                <a:moveTo>
                  <a:pt x="589" y="48"/>
                </a:moveTo>
                <a:lnTo>
                  <a:pt x="589" y="0"/>
                </a:lnTo>
                <a:lnTo>
                  <a:pt x="0" y="6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54720" y="4708440"/>
            <a:ext cx="966960" cy="1455840"/>
          </a:xfrm>
          <a:custGeom>
            <a:avLst/>
            <a:gdLst/>
            <a:ahLst/>
            <a:rect l="l" t="t" r="r" b="b"/>
            <a:pathLst>
              <a:path w="609" h="917">
                <a:moveTo>
                  <a:pt x="0" y="41"/>
                </a:moveTo>
                <a:lnTo>
                  <a:pt x="0" y="0"/>
                </a:lnTo>
                <a:lnTo>
                  <a:pt x="609" y="0"/>
                </a:lnTo>
                <a:lnTo>
                  <a:pt x="609" y="917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7480" y="4219560"/>
            <a:ext cx="3079800" cy="2054160"/>
          </a:xfrm>
          <a:custGeom>
            <a:avLst/>
            <a:gdLst/>
            <a:ahLst/>
            <a:rect l="l" t="t" r="r" b="b"/>
            <a:pathLst>
              <a:path w="1940" h="1294">
                <a:moveTo>
                  <a:pt x="0" y="5"/>
                </a:moveTo>
                <a:lnTo>
                  <a:pt x="864" y="0"/>
                </a:lnTo>
                <a:lnTo>
                  <a:pt x="869" y="1294"/>
                </a:lnTo>
                <a:lnTo>
                  <a:pt x="1940" y="128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7720" y="4338720"/>
            <a:ext cx="2278080" cy="1297080"/>
          </a:xfrm>
          <a:custGeom>
            <a:avLst/>
            <a:gdLst/>
            <a:ahLst/>
            <a:rect l="l" t="t" r="r" b="b"/>
            <a:pathLst>
              <a:path w="1435" h="817">
                <a:moveTo>
                  <a:pt x="1029" y="43"/>
                </a:moveTo>
                <a:lnTo>
                  <a:pt x="1029" y="0"/>
                </a:lnTo>
                <a:lnTo>
                  <a:pt x="1435" y="0"/>
                </a:lnTo>
                <a:lnTo>
                  <a:pt x="1435" y="817"/>
                </a:lnTo>
                <a:lnTo>
                  <a:pt x="0" y="812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4648320"/>
            <a:ext cx="966960" cy="912600"/>
          </a:xfrm>
          <a:custGeom>
            <a:avLst/>
            <a:gdLst/>
            <a:ahLst/>
            <a:rect l="l" t="t" r="r" b="b"/>
            <a:pathLst>
              <a:path w="609" h="575">
                <a:moveTo>
                  <a:pt x="0" y="40"/>
                </a:moveTo>
                <a:lnTo>
                  <a:pt x="0" y="0"/>
                </a:lnTo>
                <a:lnTo>
                  <a:pt x="609" y="0"/>
                </a:lnTo>
                <a:lnTo>
                  <a:pt x="607" y="575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3962520"/>
            <a:ext cx="1752480" cy="144756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724280"/>
            <a:ext cx="1676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N.B.: Only 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a_sip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need be originally populated; all other BA properties will be automatically confer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Victoria T. Newcomb</dc:creator>
  <dc:description/>
  <dc:language>en-US</dc:language>
  <cp:lastModifiedBy>Steven R. Newcomb</cp:lastModifiedBy>
  <dcterms:modified xsi:type="dcterms:W3CDTF">2005-06-19T16:36:35Z</dcterms:modified>
  <cp:revision>89</cp:revision>
  <dc:subject/>
  <dc:title>PowerPoint Presentation</dc:title>
</cp:coreProperties>
</file>