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48F8-9A93-42B3-9FA4-B528135FA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017-EE14-46FF-8593-167313EC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3F06-AF96-49E4-82C1-AB07A6F7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B11-47CC-4AF6-8F7D-6875FE8F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6D1-8E36-40FC-8CAF-5ECD5B8C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A204-0178-48D7-935B-826F1828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E9D-21F3-4954-9567-D5CDA936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B91-126A-4F15-BA7A-FFEF6EBE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D93-8DBB-49B0-9144-7483206B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D0E-70A9-489A-B467-DEE4748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4A3-18A2-4BEE-9368-ADB6D50C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1A59-71D7-4DFB-8C8B-579F853F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6 Patrick Durusau and Steven R. Newcomb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80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399C-C30B-46ED-96D1-13345F13B6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Systems, Tribalism, and Subject Ma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rick Durusau, Snowfall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ve Newcomb, Coolheads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Markup Languages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al, August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Slides and files: http://www.versavant.org/EML2006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80880" y="6019920"/>
            <a:ext cx="114300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S pub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581280" y="5943600"/>
            <a:ext cx="2286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in IRS pubs and making proxies for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114800" y="5029200"/>
            <a:ext cx="762120" cy="609480"/>
            <a:chOff x="4114800" y="5029200"/>
            <a:chExt cx="762120" cy="609480"/>
          </a:xfrm>
        </p:grpSpPr>
        <p:sp>
          <p:nvSpPr>
            <p:cNvPr id="612" name="Gear"/>
            <p:cNvSpPr/>
            <p:nvPr/>
          </p:nvSpPr>
          <p:spPr>
            <a:xfrm>
              <a:off x="4537440" y="5029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14800" y="5144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77960" y="5267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15" name=""/>
          <p:cNvCxnSpPr/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2438280" y="281952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S Publications DT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62920" y="5943600"/>
            <a:ext cx="16002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RS Tax Map (in the abstract; not yet rend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57200" y="4952880"/>
            <a:ext cx="1062000" cy="75744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486400" y="2819520"/>
            <a:ext cx="220968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95880" y="342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133720" y="4876920"/>
            <a:ext cx="4876560" cy="99036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523880" y="4343400"/>
            <a:ext cx="1067040" cy="53352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934320" y="4191120"/>
            <a:ext cx="533160" cy="53316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05320" y="4343400"/>
            <a:ext cx="838080" cy="685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028840" y="4267080"/>
            <a:ext cx="1143000" cy="76212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200" y="457200"/>
            <a:ext cx="1062000" cy="75708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057400" y="457200"/>
            <a:ext cx="762120" cy="609480"/>
            <a:chOff x="2057400" y="457200"/>
            <a:chExt cx="762120" cy="609480"/>
          </a:xfrm>
        </p:grpSpPr>
        <p:sp>
          <p:nvSpPr>
            <p:cNvPr id="628" name="Gear"/>
            <p:cNvSpPr/>
            <p:nvPr/>
          </p:nvSpPr>
          <p:spPr>
            <a:xfrm>
              <a:off x="2480040" y="457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57400" y="572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20560" y="695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3657600" y="3808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60020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380880"/>
            <a:ext cx="381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7692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380880"/>
            <a:ext cx="28954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an expression of a subject m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120" y="2590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57200" y="137160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et of informatio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905120" y="1371600"/>
            <a:ext cx="1447560" cy="115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and making  proxies for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5320" y="1371600"/>
            <a:ext cx="129528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2819520"/>
            <a:ext cx="1828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rst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RS Tax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1980720" y="0"/>
            <a:ext cx="2667600" cy="990720"/>
            <a:chOff x="1980720" y="0"/>
            <a:chExt cx="2667600" cy="990720"/>
          </a:xfrm>
        </p:grpSpPr>
        <p:sp>
          <p:nvSpPr>
            <p:cNvPr id="642" name=""/>
            <p:cNvSpPr/>
            <p:nvPr/>
          </p:nvSpPr>
          <p:spPr>
            <a:xfrm flipV="1">
              <a:off x="198108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1980720" y="380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464832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594160" y="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“leg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438280" y="3505320"/>
            <a:ext cx="1219320" cy="1218960"/>
            <a:chOff x="2438280" y="3505320"/>
            <a:chExt cx="1219320" cy="1218960"/>
          </a:xfrm>
        </p:grpSpPr>
        <p:sp>
          <p:nvSpPr>
            <p:cNvPr id="647" name=""/>
            <p:cNvSpPr/>
            <p:nvPr/>
          </p:nvSpPr>
          <p:spPr>
            <a:xfrm>
              <a:off x="2438280" y="350532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90920" y="365760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43200" y="380988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7315200" y="4495680"/>
            <a:ext cx="1676520" cy="1371600"/>
            <a:chOff x="7315200" y="4495680"/>
            <a:chExt cx="1676520" cy="1371600"/>
          </a:xfrm>
        </p:grpSpPr>
        <p:sp>
          <p:nvSpPr>
            <p:cNvPr id="651" name=""/>
            <p:cNvSpPr/>
            <p:nvPr/>
          </p:nvSpPr>
          <p:spPr>
            <a:xfrm>
              <a:off x="7315200" y="4495680"/>
              <a:ext cx="1676520" cy="1371600"/>
            </a:xfrm>
            <a:prstGeom prst="cloudCallout">
              <a:avLst>
                <a:gd name="adj1" fmla="val 49050"/>
                <a:gd name="adj2" fmla="val -1065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153280" y="4838760"/>
              <a:ext cx="6699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07160" y="5378400"/>
              <a:ext cx="217800" cy="195480"/>
            </a:xfrm>
            <a:prstGeom prst="hexagon">
              <a:avLst>
                <a:gd name="adj" fmla="val 27855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985160" y="4695840"/>
              <a:ext cx="189000" cy="1951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269200" y="5378400"/>
              <a:ext cx="198360" cy="19548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953480" y="5394240"/>
              <a:ext cx="188640" cy="195480"/>
            </a:xfrm>
            <a:prstGeom prst="octagon">
              <a:avLst>
                <a:gd name="adj" fmla="val 292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91320" y="5102280"/>
              <a:ext cx="216000" cy="195120"/>
            </a:xfrm>
            <a:custGeom>
              <a:avLst/>
              <a:gdLst>
                <a:gd name="textAreaLeft" fmla="*/ 50760 w 216000"/>
                <a:gd name="textAreaRight" fmla="*/ 165240 w 216000"/>
                <a:gd name="textAreaTop" fmla="*/ 22680 h 195120"/>
                <a:gd name="textAreaBottom" fmla="*/ 122400 h 195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716960" y="4859280"/>
              <a:ext cx="188640" cy="193680"/>
            </a:xfrm>
            <a:custGeom>
              <a:avLst/>
              <a:gdLst>
                <a:gd name="textAreaLeft" fmla="*/ 21960 w 188640"/>
                <a:gd name="textAreaRight" fmla="*/ 166680 w 188640"/>
                <a:gd name="textAreaTop" fmla="*/ 21960 h 193680"/>
                <a:gd name="textAreaBottom" fmla="*/ 171720 h 193680"/>
              </a:gdLst>
              <a:ahLst/>
              <a:rect l="textAreaLeft" t="textAreaTop" r="textAreaRight" b="textAreaBottom"/>
              <a:pathLst>
                <a:path w="21600" h="22176">
                  <a:moveTo>
                    <a:pt x="3600" y="0"/>
                  </a:moveTo>
                  <a:arcTo wR="3600" hR="3600" stAng="0" swAng="5400000"/>
                  <a:lnTo>
                    <a:pt x="0" y="18576"/>
                  </a:lnTo>
                  <a:arcTo wR="3600" hR="3600" stAng="16200000" swAng="5400000"/>
                  <a:lnTo>
                    <a:pt x="18000" y="22176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82784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69320" y="4940280"/>
              <a:ext cx="189000" cy="19368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3680"/>
                <a:gd name="textAreaBottom" fmla="*/ 1494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2628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237520" y="4859280"/>
              <a:ext cx="250920" cy="193680"/>
            </a:xfrm>
            <a:custGeom>
              <a:avLst/>
              <a:gdLst>
                <a:gd name="textAreaLeft" fmla="*/ 55080 w 250920"/>
                <a:gd name="textAreaRight" fmla="*/ 195840 w 250920"/>
                <a:gd name="textAreaTop" fmla="*/ 42480 h 193680"/>
                <a:gd name="textAreaBottom" fmla="*/ 1512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62800" y="5070600"/>
              <a:ext cx="252720" cy="25848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126280" y="4618080"/>
              <a:ext cx="633600" cy="906480"/>
            </a:xfrm>
            <a:custGeom>
              <a:avLst/>
              <a:gdLst/>
              <a:ahLst/>
              <a:rect l="l" t="t" r="r" b="b"/>
              <a:pathLst>
                <a:path w="1928" h="2680">
                  <a:moveTo>
                    <a:pt x="960" y="2680"/>
                  </a:moveTo>
                  <a:cubicBezTo>
                    <a:pt x="1340" y="2660"/>
                    <a:pt x="1720" y="2640"/>
                    <a:pt x="1824" y="2248"/>
                  </a:cubicBezTo>
                  <a:cubicBezTo>
                    <a:pt x="1928" y="1856"/>
                    <a:pt x="1888" y="656"/>
                    <a:pt x="1584" y="328"/>
                  </a:cubicBezTo>
                  <a:cubicBezTo>
                    <a:pt x="1280" y="0"/>
                    <a:pt x="640" y="140"/>
                    <a:pt x="0" y="280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9200" y="5345280"/>
              <a:ext cx="173160" cy="1792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528"/>
                  </a:moveTo>
                  <a:cubicBezTo>
                    <a:pt x="528" y="528"/>
                    <a:pt x="264" y="264"/>
                    <a:pt x="0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910640" y="5365800"/>
              <a:ext cx="41040" cy="144360"/>
            </a:xfrm>
            <a:custGeom>
              <a:avLst/>
              <a:gdLst/>
              <a:ahLst/>
              <a:rect l="l" t="t" r="r" b="b"/>
              <a:pathLst>
                <a:path w="103" h="320">
                  <a:moveTo>
                    <a:pt x="103" y="320"/>
                  </a:moveTo>
                  <a:cubicBezTo>
                    <a:pt x="88" y="294"/>
                    <a:pt x="26" y="219"/>
                    <a:pt x="13" y="166"/>
                  </a:cubicBezTo>
                  <a:cubicBezTo>
                    <a:pt x="0" y="113"/>
                    <a:pt x="23" y="35"/>
                    <a:pt x="2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885080" y="5502240"/>
              <a:ext cx="66600" cy="79560"/>
            </a:xfrm>
            <a:custGeom>
              <a:avLst/>
              <a:gdLst/>
              <a:ahLst/>
              <a:rect l="l" t="t" r="r" b="b"/>
              <a:pathLst>
                <a:path w="169" h="176">
                  <a:moveTo>
                    <a:pt x="169" y="9"/>
                  </a:moveTo>
                  <a:cubicBezTo>
                    <a:pt x="152" y="9"/>
                    <a:pt x="93" y="0"/>
                    <a:pt x="66" y="9"/>
                  </a:cubicBezTo>
                  <a:cubicBezTo>
                    <a:pt x="39" y="18"/>
                    <a:pt x="18" y="33"/>
                    <a:pt x="9" y="61"/>
                  </a:cubicBezTo>
                  <a:cubicBezTo>
                    <a:pt x="0" y="89"/>
                    <a:pt x="9" y="152"/>
                    <a:pt x="9" y="176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31200" y="4753080"/>
              <a:ext cx="453960" cy="349200"/>
            </a:xfrm>
            <a:custGeom>
              <a:avLst/>
              <a:gdLst/>
              <a:ahLst/>
              <a:rect l="l" t="t" r="r" b="b"/>
              <a:pathLst>
                <a:path w="1384" h="1032">
                  <a:moveTo>
                    <a:pt x="1384" y="24"/>
                  </a:moveTo>
                  <a:cubicBezTo>
                    <a:pt x="876" y="12"/>
                    <a:pt x="368" y="0"/>
                    <a:pt x="184" y="168"/>
                  </a:cubicBezTo>
                  <a:cubicBezTo>
                    <a:pt x="0" y="336"/>
                    <a:pt x="140" y="684"/>
                    <a:pt x="280" y="1032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85160" y="4761000"/>
              <a:ext cx="293760" cy="439560"/>
            </a:xfrm>
            <a:custGeom>
              <a:avLst/>
              <a:gdLst/>
              <a:ahLst/>
              <a:rect l="l" t="t" r="r" b="b"/>
              <a:pathLst>
                <a:path w="896" h="1296">
                  <a:moveTo>
                    <a:pt x="0" y="0"/>
                  </a:moveTo>
                  <a:cubicBezTo>
                    <a:pt x="320" y="228"/>
                    <a:pt x="640" y="456"/>
                    <a:pt x="768" y="672"/>
                  </a:cubicBezTo>
                  <a:cubicBezTo>
                    <a:pt x="896" y="888"/>
                    <a:pt x="768" y="1192"/>
                    <a:pt x="768" y="1296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97960" y="5203800"/>
              <a:ext cx="63360" cy="9216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160" y="46"/>
                  </a:moveTo>
                  <a:cubicBezTo>
                    <a:pt x="143" y="43"/>
                    <a:pt x="84" y="0"/>
                    <a:pt x="57" y="26"/>
                  </a:cubicBezTo>
                  <a:cubicBezTo>
                    <a:pt x="30" y="52"/>
                    <a:pt x="12" y="168"/>
                    <a:pt x="0" y="205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859880" y="5038560"/>
              <a:ext cx="109440" cy="17784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0" y="528"/>
                  </a:moveTo>
                  <a:cubicBezTo>
                    <a:pt x="44" y="356"/>
                    <a:pt x="88" y="184"/>
                    <a:pt x="144" y="96"/>
                  </a:cubicBezTo>
                  <a:cubicBezTo>
                    <a:pt x="200" y="8"/>
                    <a:pt x="268" y="4"/>
                    <a:pt x="33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151840" y="5033880"/>
              <a:ext cx="39600" cy="9864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cubicBezTo>
                    <a:pt x="15" y="7"/>
                    <a:pt x="77" y="25"/>
                    <a:pt x="90" y="45"/>
                  </a:cubicBezTo>
                  <a:cubicBezTo>
                    <a:pt x="103" y="65"/>
                    <a:pt x="87" y="92"/>
                    <a:pt x="77" y="121"/>
                  </a:cubicBezTo>
                  <a:cubicBezTo>
                    <a:pt x="67" y="150"/>
                    <a:pt x="41" y="197"/>
                    <a:pt x="32" y="217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080200" y="4927680"/>
              <a:ext cx="98640" cy="10152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173" y="226"/>
                  </a:moveTo>
                  <a:cubicBezTo>
                    <a:pt x="184" y="221"/>
                    <a:pt x="237" y="222"/>
                    <a:pt x="243" y="194"/>
                  </a:cubicBezTo>
                  <a:cubicBezTo>
                    <a:pt x="249" y="166"/>
                    <a:pt x="238" y="92"/>
                    <a:pt x="211" y="60"/>
                  </a:cubicBezTo>
                  <a:cubicBezTo>
                    <a:pt x="184" y="28"/>
                    <a:pt x="118" y="4"/>
                    <a:pt x="83" y="2"/>
                  </a:cubicBezTo>
                  <a:cubicBezTo>
                    <a:pt x="48" y="0"/>
                    <a:pt x="17" y="38"/>
                    <a:pt x="0" y="47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80880" y="6019920"/>
            <a:ext cx="114300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XTM topic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5943600"/>
            <a:ext cx="243864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in XTM instances and making proxies for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4114800" y="5029200"/>
            <a:ext cx="762120" cy="609480"/>
            <a:chOff x="4114800" y="5029200"/>
            <a:chExt cx="762120" cy="609480"/>
          </a:xfrm>
        </p:grpSpPr>
        <p:sp>
          <p:nvSpPr>
            <p:cNvPr id="677" name="Gear"/>
            <p:cNvSpPr/>
            <p:nvPr/>
          </p:nvSpPr>
          <p:spPr>
            <a:xfrm>
              <a:off x="4537440" y="5029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14800" y="5144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77960" y="5267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0" name=""/>
          <p:cNvCxnSpPr/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81" name=""/>
          <p:cNvSpPr/>
          <p:nvPr/>
        </p:nvSpPr>
        <p:spPr>
          <a:xfrm>
            <a:off x="2590920" y="3276720"/>
            <a:ext cx="114300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M DT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162920" y="5943600"/>
            <a:ext cx="16002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M topic map seen as a subject ma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952880"/>
            <a:ext cx="1062000" cy="75744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486400" y="2819520"/>
            <a:ext cx="220968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XTM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95880" y="342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33720" y="4876920"/>
            <a:ext cx="4876560" cy="99036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23880" y="4343400"/>
            <a:ext cx="1067040" cy="53352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934320" y="4191120"/>
            <a:ext cx="533160" cy="53316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05320" y="4343400"/>
            <a:ext cx="838080" cy="685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5028840" y="4267080"/>
            <a:ext cx="1143000" cy="76212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666880" y="3733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457200"/>
            <a:ext cx="1062000" cy="75708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057400" y="457200"/>
            <a:ext cx="762120" cy="609480"/>
            <a:chOff x="2057400" y="457200"/>
            <a:chExt cx="762120" cy="609480"/>
          </a:xfrm>
        </p:grpSpPr>
        <p:sp>
          <p:nvSpPr>
            <p:cNvPr id="694" name="Gear"/>
            <p:cNvSpPr/>
            <p:nvPr/>
          </p:nvSpPr>
          <p:spPr>
            <a:xfrm>
              <a:off x="2480040" y="457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057400" y="572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320560" y="695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657600" y="3808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0020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24080" y="380880"/>
            <a:ext cx="381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87692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562720" y="380880"/>
            <a:ext cx="28954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an expression of a subject m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62120" y="2590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57200" y="137160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et of informatio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905120" y="1371600"/>
            <a:ext cx="1447560" cy="115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and making  proxies for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05320" y="1371600"/>
            <a:ext cx="129528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819520"/>
            <a:ext cx="228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cond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 XTM topic 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1980720" y="0"/>
            <a:ext cx="2667600" cy="990720"/>
            <a:chOff x="1980720" y="0"/>
            <a:chExt cx="2667600" cy="990720"/>
          </a:xfrm>
        </p:grpSpPr>
        <p:sp>
          <p:nvSpPr>
            <p:cNvPr id="708" name=""/>
            <p:cNvSpPr/>
            <p:nvPr/>
          </p:nvSpPr>
          <p:spPr>
            <a:xfrm flipV="1">
              <a:off x="198108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1980720" y="380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464832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94160" y="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“leg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7315200" y="4495680"/>
            <a:ext cx="1676520" cy="1371600"/>
            <a:chOff x="7315200" y="4495680"/>
            <a:chExt cx="1676520" cy="1371600"/>
          </a:xfrm>
        </p:grpSpPr>
        <p:sp>
          <p:nvSpPr>
            <p:cNvPr id="713" name=""/>
            <p:cNvSpPr/>
            <p:nvPr/>
          </p:nvSpPr>
          <p:spPr>
            <a:xfrm>
              <a:off x="7315200" y="4495680"/>
              <a:ext cx="1676520" cy="1371600"/>
            </a:xfrm>
            <a:prstGeom prst="cloudCallout">
              <a:avLst>
                <a:gd name="adj1" fmla="val 49050"/>
                <a:gd name="adj2" fmla="val -1065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53280" y="4838760"/>
              <a:ext cx="6699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07160" y="5378400"/>
              <a:ext cx="217800" cy="195480"/>
            </a:xfrm>
            <a:prstGeom prst="hexagon">
              <a:avLst>
                <a:gd name="adj" fmla="val 27855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985160" y="4695840"/>
              <a:ext cx="189000" cy="1951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269200" y="5378400"/>
              <a:ext cx="198360" cy="19548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53480" y="5394240"/>
              <a:ext cx="188640" cy="195480"/>
            </a:xfrm>
            <a:prstGeom prst="octagon">
              <a:avLst>
                <a:gd name="adj" fmla="val 292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91320" y="5102280"/>
              <a:ext cx="216000" cy="195120"/>
            </a:xfrm>
            <a:custGeom>
              <a:avLst/>
              <a:gdLst>
                <a:gd name="textAreaLeft" fmla="*/ 50760 w 216000"/>
                <a:gd name="textAreaRight" fmla="*/ 165240 w 216000"/>
                <a:gd name="textAreaTop" fmla="*/ 22680 h 195120"/>
                <a:gd name="textAreaBottom" fmla="*/ 122400 h 195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716960" y="4859280"/>
              <a:ext cx="188640" cy="193680"/>
            </a:xfrm>
            <a:custGeom>
              <a:avLst/>
              <a:gdLst>
                <a:gd name="textAreaLeft" fmla="*/ 21960 w 188640"/>
                <a:gd name="textAreaRight" fmla="*/ 166680 w 188640"/>
                <a:gd name="textAreaTop" fmla="*/ 21960 h 193680"/>
                <a:gd name="textAreaBottom" fmla="*/ 171720 h 193680"/>
              </a:gdLst>
              <a:ahLst/>
              <a:rect l="textAreaLeft" t="textAreaTop" r="textAreaRight" b="textAreaBottom"/>
              <a:pathLst>
                <a:path w="21600" h="22176">
                  <a:moveTo>
                    <a:pt x="3600" y="0"/>
                  </a:moveTo>
                  <a:arcTo wR="3600" hR="3600" stAng="0" swAng="5400000"/>
                  <a:lnTo>
                    <a:pt x="0" y="18576"/>
                  </a:lnTo>
                  <a:arcTo wR="3600" hR="3600" stAng="16200000" swAng="5400000"/>
                  <a:lnTo>
                    <a:pt x="18000" y="22176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82784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969320" y="4940280"/>
              <a:ext cx="189000" cy="19368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3680"/>
                <a:gd name="textAreaBottom" fmla="*/ 1494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12628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37520" y="4859280"/>
              <a:ext cx="250920" cy="193680"/>
            </a:xfrm>
            <a:custGeom>
              <a:avLst/>
              <a:gdLst>
                <a:gd name="textAreaLeft" fmla="*/ 55080 w 250920"/>
                <a:gd name="textAreaRight" fmla="*/ 195840 w 250920"/>
                <a:gd name="textAreaTop" fmla="*/ 42480 h 193680"/>
                <a:gd name="textAreaBottom" fmla="*/ 1512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362800" y="5070600"/>
              <a:ext cx="252720" cy="25848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26280" y="4618080"/>
              <a:ext cx="633600" cy="906480"/>
            </a:xfrm>
            <a:custGeom>
              <a:avLst/>
              <a:gdLst/>
              <a:ahLst/>
              <a:rect l="l" t="t" r="r" b="b"/>
              <a:pathLst>
                <a:path w="1928" h="2680">
                  <a:moveTo>
                    <a:pt x="960" y="2680"/>
                  </a:moveTo>
                  <a:cubicBezTo>
                    <a:pt x="1340" y="2660"/>
                    <a:pt x="1720" y="2640"/>
                    <a:pt x="1824" y="2248"/>
                  </a:cubicBezTo>
                  <a:cubicBezTo>
                    <a:pt x="1928" y="1856"/>
                    <a:pt x="1888" y="656"/>
                    <a:pt x="1584" y="328"/>
                  </a:cubicBezTo>
                  <a:cubicBezTo>
                    <a:pt x="1280" y="0"/>
                    <a:pt x="640" y="140"/>
                    <a:pt x="0" y="280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269200" y="5345280"/>
              <a:ext cx="173160" cy="1792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528"/>
                  </a:moveTo>
                  <a:cubicBezTo>
                    <a:pt x="528" y="528"/>
                    <a:pt x="264" y="264"/>
                    <a:pt x="0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910640" y="5365800"/>
              <a:ext cx="41040" cy="144360"/>
            </a:xfrm>
            <a:custGeom>
              <a:avLst/>
              <a:gdLst/>
              <a:ahLst/>
              <a:rect l="l" t="t" r="r" b="b"/>
              <a:pathLst>
                <a:path w="103" h="320">
                  <a:moveTo>
                    <a:pt x="103" y="320"/>
                  </a:moveTo>
                  <a:cubicBezTo>
                    <a:pt x="88" y="294"/>
                    <a:pt x="26" y="219"/>
                    <a:pt x="13" y="166"/>
                  </a:cubicBezTo>
                  <a:cubicBezTo>
                    <a:pt x="0" y="113"/>
                    <a:pt x="23" y="35"/>
                    <a:pt x="2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85080" y="5502240"/>
              <a:ext cx="66600" cy="79560"/>
            </a:xfrm>
            <a:custGeom>
              <a:avLst/>
              <a:gdLst/>
              <a:ahLst/>
              <a:rect l="l" t="t" r="r" b="b"/>
              <a:pathLst>
                <a:path w="169" h="176">
                  <a:moveTo>
                    <a:pt x="169" y="9"/>
                  </a:moveTo>
                  <a:cubicBezTo>
                    <a:pt x="152" y="9"/>
                    <a:pt x="93" y="0"/>
                    <a:pt x="66" y="9"/>
                  </a:cubicBezTo>
                  <a:cubicBezTo>
                    <a:pt x="39" y="18"/>
                    <a:pt x="18" y="33"/>
                    <a:pt x="9" y="61"/>
                  </a:cubicBezTo>
                  <a:cubicBezTo>
                    <a:pt x="0" y="89"/>
                    <a:pt x="9" y="152"/>
                    <a:pt x="9" y="176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31200" y="4753080"/>
              <a:ext cx="453960" cy="349200"/>
            </a:xfrm>
            <a:custGeom>
              <a:avLst/>
              <a:gdLst/>
              <a:ahLst/>
              <a:rect l="l" t="t" r="r" b="b"/>
              <a:pathLst>
                <a:path w="1384" h="1032">
                  <a:moveTo>
                    <a:pt x="1384" y="24"/>
                  </a:moveTo>
                  <a:cubicBezTo>
                    <a:pt x="876" y="12"/>
                    <a:pt x="368" y="0"/>
                    <a:pt x="184" y="168"/>
                  </a:cubicBezTo>
                  <a:cubicBezTo>
                    <a:pt x="0" y="336"/>
                    <a:pt x="140" y="684"/>
                    <a:pt x="280" y="1032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985160" y="4761000"/>
              <a:ext cx="293760" cy="439560"/>
            </a:xfrm>
            <a:custGeom>
              <a:avLst/>
              <a:gdLst/>
              <a:ahLst/>
              <a:rect l="l" t="t" r="r" b="b"/>
              <a:pathLst>
                <a:path w="896" h="1296">
                  <a:moveTo>
                    <a:pt x="0" y="0"/>
                  </a:moveTo>
                  <a:cubicBezTo>
                    <a:pt x="320" y="228"/>
                    <a:pt x="640" y="456"/>
                    <a:pt x="768" y="672"/>
                  </a:cubicBezTo>
                  <a:cubicBezTo>
                    <a:pt x="896" y="888"/>
                    <a:pt x="768" y="1192"/>
                    <a:pt x="768" y="1296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797960" y="5203800"/>
              <a:ext cx="63360" cy="9216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160" y="46"/>
                  </a:moveTo>
                  <a:cubicBezTo>
                    <a:pt x="143" y="43"/>
                    <a:pt x="84" y="0"/>
                    <a:pt x="57" y="26"/>
                  </a:cubicBezTo>
                  <a:cubicBezTo>
                    <a:pt x="30" y="52"/>
                    <a:pt x="12" y="168"/>
                    <a:pt x="0" y="205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859880" y="5038560"/>
              <a:ext cx="109440" cy="17784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0" y="528"/>
                  </a:moveTo>
                  <a:cubicBezTo>
                    <a:pt x="44" y="356"/>
                    <a:pt x="88" y="184"/>
                    <a:pt x="144" y="96"/>
                  </a:cubicBezTo>
                  <a:cubicBezTo>
                    <a:pt x="200" y="8"/>
                    <a:pt x="268" y="4"/>
                    <a:pt x="33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151840" y="5033880"/>
              <a:ext cx="39600" cy="9864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cubicBezTo>
                    <a:pt x="15" y="7"/>
                    <a:pt x="77" y="25"/>
                    <a:pt x="90" y="45"/>
                  </a:cubicBezTo>
                  <a:cubicBezTo>
                    <a:pt x="103" y="65"/>
                    <a:pt x="87" y="92"/>
                    <a:pt x="77" y="121"/>
                  </a:cubicBezTo>
                  <a:cubicBezTo>
                    <a:pt x="67" y="150"/>
                    <a:pt x="41" y="197"/>
                    <a:pt x="32" y="217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80200" y="4927680"/>
              <a:ext cx="98640" cy="10152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173" y="226"/>
                  </a:moveTo>
                  <a:cubicBezTo>
                    <a:pt x="184" y="221"/>
                    <a:pt x="237" y="222"/>
                    <a:pt x="243" y="194"/>
                  </a:cubicBezTo>
                  <a:cubicBezTo>
                    <a:pt x="249" y="166"/>
                    <a:pt x="238" y="92"/>
                    <a:pt x="211" y="60"/>
                  </a:cubicBezTo>
                  <a:cubicBezTo>
                    <a:pt x="184" y="28"/>
                    <a:pt x="118" y="4"/>
                    <a:pt x="83" y="2"/>
                  </a:cubicBezTo>
                  <a:cubicBezTo>
                    <a:pt x="48" y="0"/>
                    <a:pt x="17" y="38"/>
                    <a:pt x="0" y="47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380880" y="6019920"/>
            <a:ext cx="114300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MDM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581280" y="5943600"/>
            <a:ext cx="243864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in TMDM instances and making proxies for th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4114800" y="5029200"/>
            <a:ext cx="762120" cy="609480"/>
            <a:chOff x="4114800" y="5029200"/>
            <a:chExt cx="762120" cy="609480"/>
          </a:xfrm>
        </p:grpSpPr>
        <p:sp>
          <p:nvSpPr>
            <p:cNvPr id="739" name="Gear"/>
            <p:cNvSpPr/>
            <p:nvPr/>
          </p:nvSpPr>
          <p:spPr>
            <a:xfrm>
              <a:off x="4537440" y="5029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114800" y="5144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377960" y="5267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42" name=""/>
          <p:cNvCxnSpPr/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2438280" y="3124080"/>
            <a:ext cx="144792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DM info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SO 13250-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162920" y="5943600"/>
            <a:ext cx="16002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MDM instance seen as a subject ma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" y="4952880"/>
            <a:ext cx="1062000" cy="75744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410080" y="2666880"/>
            <a:ext cx="32004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the properties of proxies found in subject map views of TMDM instan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5880" y="342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133720" y="4876920"/>
            <a:ext cx="4876560" cy="99036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1523880" y="4343400"/>
            <a:ext cx="1067040" cy="53352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934320" y="4191120"/>
            <a:ext cx="533160" cy="53316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4343400"/>
            <a:ext cx="838080" cy="685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028840" y="4267080"/>
            <a:ext cx="1143000" cy="76212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66880" y="373392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" y="457200"/>
            <a:ext cx="1062000" cy="75708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57400" y="457200"/>
            <a:ext cx="762120" cy="609480"/>
            <a:chOff x="2057400" y="457200"/>
            <a:chExt cx="762120" cy="609480"/>
          </a:xfrm>
        </p:grpSpPr>
        <p:sp>
          <p:nvSpPr>
            <p:cNvPr id="756" name="Gear"/>
            <p:cNvSpPr/>
            <p:nvPr/>
          </p:nvSpPr>
          <p:spPr>
            <a:xfrm>
              <a:off x="2480040" y="457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057400" y="572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0560" y="695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3657600" y="3808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60020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124080" y="380880"/>
            <a:ext cx="381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87692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562720" y="380880"/>
            <a:ext cx="28954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an expression of a subject m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120" y="2590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137160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et of informatio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05120" y="1371600"/>
            <a:ext cx="1447560" cy="115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and making  proxies for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05320" y="1371600"/>
            <a:ext cx="129528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04920" y="2819520"/>
            <a:ext cx="2057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TMDM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1980720" y="0"/>
            <a:ext cx="2667600" cy="990720"/>
            <a:chOff x="1980720" y="0"/>
            <a:chExt cx="2667600" cy="990720"/>
          </a:xfrm>
        </p:grpSpPr>
        <p:sp>
          <p:nvSpPr>
            <p:cNvPr id="770" name=""/>
            <p:cNvSpPr/>
            <p:nvPr/>
          </p:nvSpPr>
          <p:spPr>
            <a:xfrm flipV="1">
              <a:off x="198108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1980720" y="380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64832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94160" y="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“leg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7315200" y="4495680"/>
            <a:ext cx="1676520" cy="1371600"/>
            <a:chOff x="7315200" y="4495680"/>
            <a:chExt cx="1676520" cy="1371600"/>
          </a:xfrm>
        </p:grpSpPr>
        <p:sp>
          <p:nvSpPr>
            <p:cNvPr id="775" name=""/>
            <p:cNvSpPr/>
            <p:nvPr/>
          </p:nvSpPr>
          <p:spPr>
            <a:xfrm>
              <a:off x="7315200" y="4495680"/>
              <a:ext cx="1676520" cy="1371600"/>
            </a:xfrm>
            <a:prstGeom prst="cloudCallout">
              <a:avLst>
                <a:gd name="adj1" fmla="val 49050"/>
                <a:gd name="adj2" fmla="val -1065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153280" y="4838760"/>
              <a:ext cx="6699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607160" y="5378400"/>
              <a:ext cx="217800" cy="195480"/>
            </a:xfrm>
            <a:prstGeom prst="hexagon">
              <a:avLst>
                <a:gd name="adj" fmla="val 27855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985160" y="4695840"/>
              <a:ext cx="189000" cy="1951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269200" y="5378400"/>
              <a:ext cx="198360" cy="19548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953480" y="5394240"/>
              <a:ext cx="188640" cy="195480"/>
            </a:xfrm>
            <a:prstGeom prst="octagon">
              <a:avLst>
                <a:gd name="adj" fmla="val 292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591320" y="5102280"/>
              <a:ext cx="216000" cy="195120"/>
            </a:xfrm>
            <a:custGeom>
              <a:avLst/>
              <a:gdLst>
                <a:gd name="textAreaLeft" fmla="*/ 50760 w 216000"/>
                <a:gd name="textAreaRight" fmla="*/ 165240 w 216000"/>
                <a:gd name="textAreaTop" fmla="*/ 22680 h 195120"/>
                <a:gd name="textAreaBottom" fmla="*/ 122400 h 195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16960" y="4859280"/>
              <a:ext cx="188640" cy="193680"/>
            </a:xfrm>
            <a:custGeom>
              <a:avLst/>
              <a:gdLst>
                <a:gd name="textAreaLeft" fmla="*/ 21960 w 188640"/>
                <a:gd name="textAreaRight" fmla="*/ 166680 w 188640"/>
                <a:gd name="textAreaTop" fmla="*/ 21960 h 193680"/>
                <a:gd name="textAreaBottom" fmla="*/ 171720 h 193680"/>
              </a:gdLst>
              <a:ahLst/>
              <a:rect l="textAreaLeft" t="textAreaTop" r="textAreaRight" b="textAreaBottom"/>
              <a:pathLst>
                <a:path w="21600" h="22176">
                  <a:moveTo>
                    <a:pt x="3600" y="0"/>
                  </a:moveTo>
                  <a:arcTo wR="3600" hR="3600" stAng="0" swAng="5400000"/>
                  <a:lnTo>
                    <a:pt x="0" y="18576"/>
                  </a:lnTo>
                  <a:arcTo wR="3600" hR="3600" stAng="16200000" swAng="5400000"/>
                  <a:lnTo>
                    <a:pt x="18000" y="22176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82784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969320" y="4940280"/>
              <a:ext cx="189000" cy="19368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3680"/>
                <a:gd name="textAreaBottom" fmla="*/ 1494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12628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37520" y="4859280"/>
              <a:ext cx="250920" cy="193680"/>
            </a:xfrm>
            <a:custGeom>
              <a:avLst/>
              <a:gdLst>
                <a:gd name="textAreaLeft" fmla="*/ 55080 w 250920"/>
                <a:gd name="textAreaRight" fmla="*/ 195840 w 250920"/>
                <a:gd name="textAreaTop" fmla="*/ 42480 h 193680"/>
                <a:gd name="textAreaBottom" fmla="*/ 1512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8362800" y="5070600"/>
              <a:ext cx="252720" cy="25848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126280" y="4618080"/>
              <a:ext cx="633600" cy="906480"/>
            </a:xfrm>
            <a:custGeom>
              <a:avLst/>
              <a:gdLst/>
              <a:ahLst/>
              <a:rect l="l" t="t" r="r" b="b"/>
              <a:pathLst>
                <a:path w="1928" h="2680">
                  <a:moveTo>
                    <a:pt x="960" y="2680"/>
                  </a:moveTo>
                  <a:cubicBezTo>
                    <a:pt x="1340" y="2660"/>
                    <a:pt x="1720" y="2640"/>
                    <a:pt x="1824" y="2248"/>
                  </a:cubicBezTo>
                  <a:cubicBezTo>
                    <a:pt x="1928" y="1856"/>
                    <a:pt x="1888" y="656"/>
                    <a:pt x="1584" y="328"/>
                  </a:cubicBezTo>
                  <a:cubicBezTo>
                    <a:pt x="1280" y="0"/>
                    <a:pt x="640" y="140"/>
                    <a:pt x="0" y="280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269200" y="5345280"/>
              <a:ext cx="173160" cy="1792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528"/>
                  </a:moveTo>
                  <a:cubicBezTo>
                    <a:pt x="528" y="528"/>
                    <a:pt x="264" y="264"/>
                    <a:pt x="0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10640" y="5365800"/>
              <a:ext cx="41040" cy="144360"/>
            </a:xfrm>
            <a:custGeom>
              <a:avLst/>
              <a:gdLst/>
              <a:ahLst/>
              <a:rect l="l" t="t" r="r" b="b"/>
              <a:pathLst>
                <a:path w="103" h="320">
                  <a:moveTo>
                    <a:pt x="103" y="320"/>
                  </a:moveTo>
                  <a:cubicBezTo>
                    <a:pt x="88" y="294"/>
                    <a:pt x="26" y="219"/>
                    <a:pt x="13" y="166"/>
                  </a:cubicBezTo>
                  <a:cubicBezTo>
                    <a:pt x="0" y="113"/>
                    <a:pt x="23" y="35"/>
                    <a:pt x="2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885080" y="5502240"/>
              <a:ext cx="66600" cy="79560"/>
            </a:xfrm>
            <a:custGeom>
              <a:avLst/>
              <a:gdLst/>
              <a:ahLst/>
              <a:rect l="l" t="t" r="r" b="b"/>
              <a:pathLst>
                <a:path w="169" h="176">
                  <a:moveTo>
                    <a:pt x="169" y="9"/>
                  </a:moveTo>
                  <a:cubicBezTo>
                    <a:pt x="152" y="9"/>
                    <a:pt x="93" y="0"/>
                    <a:pt x="66" y="9"/>
                  </a:cubicBezTo>
                  <a:cubicBezTo>
                    <a:pt x="39" y="18"/>
                    <a:pt x="18" y="33"/>
                    <a:pt x="9" y="61"/>
                  </a:cubicBezTo>
                  <a:cubicBezTo>
                    <a:pt x="0" y="89"/>
                    <a:pt x="9" y="152"/>
                    <a:pt x="9" y="176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531200" y="4753080"/>
              <a:ext cx="453960" cy="349200"/>
            </a:xfrm>
            <a:custGeom>
              <a:avLst/>
              <a:gdLst/>
              <a:ahLst/>
              <a:rect l="l" t="t" r="r" b="b"/>
              <a:pathLst>
                <a:path w="1384" h="1032">
                  <a:moveTo>
                    <a:pt x="1384" y="24"/>
                  </a:moveTo>
                  <a:cubicBezTo>
                    <a:pt x="876" y="12"/>
                    <a:pt x="368" y="0"/>
                    <a:pt x="184" y="168"/>
                  </a:cubicBezTo>
                  <a:cubicBezTo>
                    <a:pt x="0" y="336"/>
                    <a:pt x="140" y="684"/>
                    <a:pt x="280" y="1032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85160" y="4761000"/>
              <a:ext cx="293760" cy="439560"/>
            </a:xfrm>
            <a:custGeom>
              <a:avLst/>
              <a:gdLst/>
              <a:ahLst/>
              <a:rect l="l" t="t" r="r" b="b"/>
              <a:pathLst>
                <a:path w="896" h="1296">
                  <a:moveTo>
                    <a:pt x="0" y="0"/>
                  </a:moveTo>
                  <a:cubicBezTo>
                    <a:pt x="320" y="228"/>
                    <a:pt x="640" y="456"/>
                    <a:pt x="768" y="672"/>
                  </a:cubicBezTo>
                  <a:cubicBezTo>
                    <a:pt x="896" y="888"/>
                    <a:pt x="768" y="1192"/>
                    <a:pt x="768" y="1296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97960" y="5203800"/>
              <a:ext cx="63360" cy="9216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160" y="46"/>
                  </a:moveTo>
                  <a:cubicBezTo>
                    <a:pt x="143" y="43"/>
                    <a:pt x="84" y="0"/>
                    <a:pt x="57" y="26"/>
                  </a:cubicBezTo>
                  <a:cubicBezTo>
                    <a:pt x="30" y="52"/>
                    <a:pt x="12" y="168"/>
                    <a:pt x="0" y="205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859880" y="5038560"/>
              <a:ext cx="109440" cy="17784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0" y="528"/>
                  </a:moveTo>
                  <a:cubicBezTo>
                    <a:pt x="44" y="356"/>
                    <a:pt x="88" y="184"/>
                    <a:pt x="144" y="96"/>
                  </a:cubicBezTo>
                  <a:cubicBezTo>
                    <a:pt x="200" y="8"/>
                    <a:pt x="268" y="4"/>
                    <a:pt x="33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151840" y="5033880"/>
              <a:ext cx="39600" cy="9864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cubicBezTo>
                    <a:pt x="15" y="7"/>
                    <a:pt x="77" y="25"/>
                    <a:pt x="90" y="45"/>
                  </a:cubicBezTo>
                  <a:cubicBezTo>
                    <a:pt x="103" y="65"/>
                    <a:pt x="87" y="92"/>
                    <a:pt x="77" y="121"/>
                  </a:cubicBezTo>
                  <a:cubicBezTo>
                    <a:pt x="67" y="150"/>
                    <a:pt x="41" y="197"/>
                    <a:pt x="32" y="217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080200" y="4927680"/>
              <a:ext cx="98640" cy="10152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173" y="226"/>
                  </a:moveTo>
                  <a:cubicBezTo>
                    <a:pt x="184" y="221"/>
                    <a:pt x="237" y="222"/>
                    <a:pt x="243" y="194"/>
                  </a:cubicBezTo>
                  <a:cubicBezTo>
                    <a:pt x="249" y="166"/>
                    <a:pt x="238" y="92"/>
                    <a:pt x="211" y="60"/>
                  </a:cubicBezTo>
                  <a:cubicBezTo>
                    <a:pt x="184" y="28"/>
                    <a:pt x="118" y="4"/>
                    <a:pt x="83" y="2"/>
                  </a:cubicBezTo>
                  <a:cubicBezTo>
                    <a:pt x="48" y="0"/>
                    <a:pt x="17" y="38"/>
                    <a:pt x="0" y="47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380880" y="6019920"/>
            <a:ext cx="114300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rpus of e-mai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5943600"/>
            <a:ext cx="266724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in e-mail instances and making proxies for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4114800" y="5029200"/>
            <a:ext cx="762120" cy="609480"/>
            <a:chOff x="4114800" y="5029200"/>
            <a:chExt cx="762120" cy="609480"/>
          </a:xfrm>
        </p:grpSpPr>
        <p:sp>
          <p:nvSpPr>
            <p:cNvPr id="801" name="Gear"/>
            <p:cNvSpPr/>
            <p:nvPr/>
          </p:nvSpPr>
          <p:spPr>
            <a:xfrm>
              <a:off x="4537440" y="5029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14800" y="5144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377960" y="5267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04" name=""/>
          <p:cNvCxnSpPr/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05" name=""/>
          <p:cNvSpPr/>
          <p:nvPr/>
        </p:nvSpPr>
        <p:spPr>
          <a:xfrm>
            <a:off x="2286000" y="2819520"/>
            <a:ext cx="144792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ructures of the e-mails in the corp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162920" y="5943600"/>
            <a:ext cx="16002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us of e-mails seen as a subject ma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7200" y="4952880"/>
            <a:ext cx="1062000" cy="75744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486400" y="2819520"/>
            <a:ext cx="236232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e-mail proxy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95880" y="342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133720" y="4876920"/>
            <a:ext cx="4876560" cy="99036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1523880" y="4343400"/>
            <a:ext cx="1067040" cy="53352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934320" y="4191120"/>
            <a:ext cx="533160" cy="53316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05320" y="4343400"/>
            <a:ext cx="838080" cy="685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5028840" y="4267080"/>
            <a:ext cx="1143000" cy="76212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" y="457200"/>
            <a:ext cx="1062000" cy="75708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57400" y="457200"/>
            <a:ext cx="762120" cy="609480"/>
            <a:chOff x="2057400" y="457200"/>
            <a:chExt cx="762120" cy="609480"/>
          </a:xfrm>
        </p:grpSpPr>
        <p:sp>
          <p:nvSpPr>
            <p:cNvPr id="817" name="Gear"/>
            <p:cNvSpPr/>
            <p:nvPr/>
          </p:nvSpPr>
          <p:spPr>
            <a:xfrm>
              <a:off x="2480040" y="457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57400" y="572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20560" y="695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57600" y="3808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60020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124080" y="380880"/>
            <a:ext cx="381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876920" y="3808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562720" y="380880"/>
            <a:ext cx="28954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an expression of a subject m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2120" y="2590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57200" y="137160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et of informatio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905120" y="1371600"/>
            <a:ext cx="1447560" cy="115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and making  proxies for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505320" y="1371600"/>
            <a:ext cx="129528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04920" y="2819520"/>
            <a:ext cx="1828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st 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corpus of e-m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980720" y="0"/>
            <a:ext cx="2667600" cy="990720"/>
            <a:chOff x="1980720" y="0"/>
            <a:chExt cx="2667600" cy="990720"/>
          </a:xfrm>
        </p:grpSpPr>
        <p:sp>
          <p:nvSpPr>
            <p:cNvPr id="831" name=""/>
            <p:cNvSpPr/>
            <p:nvPr/>
          </p:nvSpPr>
          <p:spPr>
            <a:xfrm flipV="1">
              <a:off x="198108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1980720" y="3808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4648320" y="3808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94160" y="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“leg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438280" y="3505320"/>
            <a:ext cx="1219320" cy="1218960"/>
            <a:chOff x="2438280" y="3505320"/>
            <a:chExt cx="1219320" cy="1218960"/>
          </a:xfrm>
        </p:grpSpPr>
        <p:sp>
          <p:nvSpPr>
            <p:cNvPr id="836" name=""/>
            <p:cNvSpPr/>
            <p:nvPr/>
          </p:nvSpPr>
          <p:spPr>
            <a:xfrm>
              <a:off x="2438280" y="350532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590920" y="365760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743200" y="380988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7315200" y="4495680"/>
            <a:ext cx="1676520" cy="1371600"/>
          </a:xfrm>
          <a:prstGeom prst="cloudCallout">
            <a:avLst>
              <a:gd name="adj1" fmla="val 49050"/>
              <a:gd name="adj2" fmla="val -1065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153280" y="4838760"/>
            <a:ext cx="66996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07160" y="5378400"/>
            <a:ext cx="217800" cy="195480"/>
          </a:xfrm>
          <a:prstGeom prst="hexagon">
            <a:avLst>
              <a:gd name="adj" fmla="val 27855"/>
              <a:gd name="vf" fmla="val 1154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985160" y="4695840"/>
            <a:ext cx="189000" cy="19512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269200" y="5378400"/>
            <a:ext cx="198360" cy="1954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953480" y="5394240"/>
            <a:ext cx="188640" cy="1954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91320" y="5102280"/>
            <a:ext cx="216000" cy="195120"/>
          </a:xfrm>
          <a:custGeom>
            <a:avLst/>
            <a:gdLst>
              <a:gd name="textAreaLeft" fmla="*/ 50760 w 216000"/>
              <a:gd name="textAreaRight" fmla="*/ 165240 w 216000"/>
              <a:gd name="textAreaTop" fmla="*/ 22680 h 195120"/>
              <a:gd name="textAreaBottom" fmla="*/ 122400 h 195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716960" y="4859280"/>
            <a:ext cx="188640" cy="193680"/>
          </a:xfrm>
          <a:custGeom>
            <a:avLst/>
            <a:gdLst>
              <a:gd name="textAreaLeft" fmla="*/ 21960 w 188640"/>
              <a:gd name="textAreaRight" fmla="*/ 166680 w 188640"/>
              <a:gd name="textAreaTop" fmla="*/ 21960 h 193680"/>
              <a:gd name="textAreaBottom" fmla="*/ 171720 h 193680"/>
            </a:gdLst>
            <a:ahLst/>
            <a:rect l="textAreaLeft" t="textAreaTop" r="textAreaRight" b="textAreaBottom"/>
            <a:pathLst>
              <a:path w="21600" h="22176">
                <a:moveTo>
                  <a:pt x="3600" y="0"/>
                </a:moveTo>
                <a:arcTo wR="3600" hR="3600" stAng="0" swAng="5400000"/>
                <a:lnTo>
                  <a:pt x="0" y="18576"/>
                </a:lnTo>
                <a:arcTo wR="3600" hR="3600" stAng="16200000" swAng="5400000"/>
                <a:lnTo>
                  <a:pt x="18000" y="22176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827840" y="5183280"/>
            <a:ext cx="189000" cy="195120"/>
          </a:xfrm>
          <a:custGeom>
            <a:avLst/>
            <a:gdLst>
              <a:gd name="textAreaLeft" fmla="*/ 43200 w 189000"/>
              <a:gd name="textAreaRight" fmla="*/ 145800 w 189000"/>
              <a:gd name="textAreaTop" fmla="*/ 44280 h 195120"/>
              <a:gd name="textAreaBottom" fmla="*/ 150840 h 19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969320" y="4940280"/>
            <a:ext cx="189000" cy="193680"/>
          </a:xfrm>
          <a:custGeom>
            <a:avLst/>
            <a:gdLst>
              <a:gd name="textAreaLeft" fmla="*/ 43200 w 189000"/>
              <a:gd name="textAreaRight" fmla="*/ 145800 w 189000"/>
              <a:gd name="textAreaTop" fmla="*/ 44280 h 193680"/>
              <a:gd name="textAreaBottom" fmla="*/ 149400 h 193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126280" y="5183280"/>
            <a:ext cx="189000" cy="195120"/>
          </a:xfrm>
          <a:custGeom>
            <a:avLst/>
            <a:gdLst>
              <a:gd name="textAreaLeft" fmla="*/ 43200 w 189000"/>
              <a:gd name="textAreaRight" fmla="*/ 145800 w 189000"/>
              <a:gd name="textAreaTop" fmla="*/ 44280 h 195120"/>
              <a:gd name="textAreaBottom" fmla="*/ 150840 h 19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8237520" y="4859280"/>
            <a:ext cx="250920" cy="193680"/>
          </a:xfrm>
          <a:custGeom>
            <a:avLst/>
            <a:gdLst>
              <a:gd name="textAreaLeft" fmla="*/ 55080 w 250920"/>
              <a:gd name="textAreaRight" fmla="*/ 195840 w 250920"/>
              <a:gd name="textAreaTop" fmla="*/ 42480 h 193680"/>
              <a:gd name="textAreaBottom" fmla="*/ 15120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362800" y="5070600"/>
            <a:ext cx="252720" cy="25848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126280" y="4618080"/>
            <a:ext cx="633600" cy="906480"/>
          </a:xfrm>
          <a:custGeom>
            <a:avLst/>
            <a:gdLst/>
            <a:ahLst/>
            <a:rect l="l" t="t" r="r" b="b"/>
            <a:pathLst>
              <a:path w="1928" h="2680">
                <a:moveTo>
                  <a:pt x="960" y="2680"/>
                </a:moveTo>
                <a:cubicBezTo>
                  <a:pt x="1340" y="2660"/>
                  <a:pt x="1720" y="2640"/>
                  <a:pt x="1824" y="2248"/>
                </a:cubicBezTo>
                <a:cubicBezTo>
                  <a:pt x="1928" y="1856"/>
                  <a:pt x="1888" y="656"/>
                  <a:pt x="1584" y="328"/>
                </a:cubicBezTo>
                <a:cubicBezTo>
                  <a:pt x="1280" y="0"/>
                  <a:pt x="640" y="140"/>
                  <a:pt x="0" y="280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269200" y="5345280"/>
            <a:ext cx="173160" cy="1792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528"/>
                </a:moveTo>
                <a:cubicBezTo>
                  <a:pt x="528" y="528"/>
                  <a:pt x="264" y="264"/>
                  <a:pt x="0" y="0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910640" y="5365800"/>
            <a:ext cx="41040" cy="144360"/>
          </a:xfrm>
          <a:custGeom>
            <a:avLst/>
            <a:gdLst/>
            <a:ahLst/>
            <a:rect l="l" t="t" r="r" b="b"/>
            <a:pathLst>
              <a:path w="103" h="320">
                <a:moveTo>
                  <a:pt x="103" y="320"/>
                </a:moveTo>
                <a:cubicBezTo>
                  <a:pt x="88" y="294"/>
                  <a:pt x="26" y="219"/>
                  <a:pt x="13" y="166"/>
                </a:cubicBezTo>
                <a:cubicBezTo>
                  <a:pt x="0" y="113"/>
                  <a:pt x="23" y="35"/>
                  <a:pt x="26" y="0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885080" y="5502240"/>
            <a:ext cx="66600" cy="79560"/>
          </a:xfrm>
          <a:custGeom>
            <a:avLst/>
            <a:gdLst/>
            <a:ahLst/>
            <a:rect l="l" t="t" r="r" b="b"/>
            <a:pathLst>
              <a:path w="169" h="176">
                <a:moveTo>
                  <a:pt x="169" y="9"/>
                </a:moveTo>
                <a:cubicBezTo>
                  <a:pt x="152" y="9"/>
                  <a:pt x="93" y="0"/>
                  <a:pt x="66" y="9"/>
                </a:cubicBezTo>
                <a:cubicBezTo>
                  <a:pt x="39" y="18"/>
                  <a:pt x="18" y="33"/>
                  <a:pt x="9" y="61"/>
                </a:cubicBezTo>
                <a:cubicBezTo>
                  <a:pt x="0" y="89"/>
                  <a:pt x="9" y="152"/>
                  <a:pt x="9" y="176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33840" bIns="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531200" y="4753080"/>
            <a:ext cx="453960" cy="349200"/>
          </a:xfrm>
          <a:custGeom>
            <a:avLst/>
            <a:gdLst/>
            <a:ahLst/>
            <a:rect l="l" t="t" r="r" b="b"/>
            <a:pathLst>
              <a:path w="1384" h="1032">
                <a:moveTo>
                  <a:pt x="1384" y="24"/>
                </a:moveTo>
                <a:cubicBezTo>
                  <a:pt x="876" y="12"/>
                  <a:pt x="368" y="0"/>
                  <a:pt x="184" y="168"/>
                </a:cubicBezTo>
                <a:cubicBezTo>
                  <a:pt x="0" y="336"/>
                  <a:pt x="140" y="684"/>
                  <a:pt x="280" y="1032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985160" y="4761000"/>
            <a:ext cx="293760" cy="439560"/>
          </a:xfrm>
          <a:custGeom>
            <a:avLst/>
            <a:gdLst/>
            <a:ahLst/>
            <a:rect l="l" t="t" r="r" b="b"/>
            <a:pathLst>
              <a:path w="896" h="1296">
                <a:moveTo>
                  <a:pt x="0" y="0"/>
                </a:moveTo>
                <a:cubicBezTo>
                  <a:pt x="320" y="228"/>
                  <a:pt x="640" y="456"/>
                  <a:pt x="768" y="672"/>
                </a:cubicBezTo>
                <a:cubicBezTo>
                  <a:pt x="896" y="888"/>
                  <a:pt x="768" y="1192"/>
                  <a:pt x="768" y="1296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797960" y="5203800"/>
            <a:ext cx="63360" cy="92160"/>
          </a:xfrm>
          <a:custGeom>
            <a:avLst/>
            <a:gdLst/>
            <a:ahLst/>
            <a:rect l="l" t="t" r="r" b="b"/>
            <a:pathLst>
              <a:path w="160" h="205">
                <a:moveTo>
                  <a:pt x="160" y="46"/>
                </a:moveTo>
                <a:cubicBezTo>
                  <a:pt x="143" y="43"/>
                  <a:pt x="84" y="0"/>
                  <a:pt x="57" y="26"/>
                </a:cubicBezTo>
                <a:cubicBezTo>
                  <a:pt x="30" y="52"/>
                  <a:pt x="12" y="168"/>
                  <a:pt x="0" y="205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59880" y="5038560"/>
            <a:ext cx="109440" cy="17784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528"/>
                </a:moveTo>
                <a:cubicBezTo>
                  <a:pt x="44" y="356"/>
                  <a:pt x="88" y="184"/>
                  <a:pt x="144" y="96"/>
                </a:cubicBezTo>
                <a:cubicBezTo>
                  <a:pt x="200" y="8"/>
                  <a:pt x="268" y="4"/>
                  <a:pt x="336" y="0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151840" y="5033880"/>
            <a:ext cx="39600" cy="98640"/>
          </a:xfrm>
          <a:custGeom>
            <a:avLst/>
            <a:gdLst/>
            <a:ahLst/>
            <a:rect l="l" t="t" r="r" b="b"/>
            <a:pathLst>
              <a:path w="103" h="217">
                <a:moveTo>
                  <a:pt x="0" y="0"/>
                </a:moveTo>
                <a:cubicBezTo>
                  <a:pt x="15" y="7"/>
                  <a:pt x="77" y="25"/>
                  <a:pt x="90" y="45"/>
                </a:cubicBezTo>
                <a:cubicBezTo>
                  <a:pt x="103" y="65"/>
                  <a:pt x="87" y="92"/>
                  <a:pt x="77" y="121"/>
                </a:cubicBezTo>
                <a:cubicBezTo>
                  <a:pt x="67" y="150"/>
                  <a:pt x="41" y="197"/>
                  <a:pt x="32" y="217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080200" y="4927680"/>
            <a:ext cx="98640" cy="101520"/>
          </a:xfrm>
          <a:custGeom>
            <a:avLst/>
            <a:gdLst/>
            <a:ahLst/>
            <a:rect l="l" t="t" r="r" b="b"/>
            <a:pathLst>
              <a:path w="249" h="226">
                <a:moveTo>
                  <a:pt x="173" y="226"/>
                </a:moveTo>
                <a:cubicBezTo>
                  <a:pt x="184" y="221"/>
                  <a:pt x="237" y="222"/>
                  <a:pt x="243" y="194"/>
                </a:cubicBezTo>
                <a:cubicBezTo>
                  <a:pt x="249" y="166"/>
                  <a:pt x="238" y="92"/>
                  <a:pt x="211" y="60"/>
                </a:cubicBezTo>
                <a:cubicBezTo>
                  <a:pt x="184" y="28"/>
                  <a:pt x="118" y="4"/>
                  <a:pt x="83" y="2"/>
                </a:cubicBezTo>
                <a:cubicBezTo>
                  <a:pt x="48" y="0"/>
                  <a:pt x="17" y="38"/>
                  <a:pt x="0" y="47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381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t of subject prox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438280"/>
            <a:ext cx="7924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2590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bject prox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t of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53352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31240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753640" y="3048120"/>
            <a:ext cx="5495040" cy="825120"/>
            <a:chOff x="2753640" y="3048120"/>
            <a:chExt cx="5495040" cy="825120"/>
          </a:xfrm>
        </p:grpSpPr>
        <p:sp>
          <p:nvSpPr>
            <p:cNvPr id="50" name=""/>
            <p:cNvSpPr/>
            <p:nvPr/>
          </p:nvSpPr>
          <p:spPr>
            <a:xfrm>
              <a:off x="2753640" y="3048120"/>
              <a:ext cx="5495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{    ,    ,    ,    ,    ,    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973600" y="3200400"/>
              <a:ext cx="794520" cy="596880"/>
              <a:chOff x="2973600" y="3200400"/>
              <a:chExt cx="794520" cy="5968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3124080" y="3200400"/>
                <a:ext cx="571680" cy="456840"/>
                <a:chOff x="3124080" y="3200400"/>
                <a:chExt cx="571680" cy="45684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124080" y="3200400"/>
                  <a:ext cx="303480" cy="241200"/>
                </a:xfrm>
                <a:custGeom>
                  <a:avLst/>
                  <a:gdLst/>
                  <a:ahLst/>
                  <a:rect l="l" t="t" r="r" b="b"/>
                  <a:pathLst>
                    <a:path w="1384" h="1032">
                      <a:moveTo>
                        <a:pt x="1384" y="24"/>
                      </a:moveTo>
                      <a:cubicBezTo>
                        <a:pt x="876" y="12"/>
                        <a:pt x="368" y="0"/>
                        <a:pt x="184" y="168"/>
                      </a:cubicBezTo>
                      <a:cubicBezTo>
                        <a:pt x="0" y="336"/>
                        <a:pt x="140" y="684"/>
                        <a:pt x="280" y="1032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3429000" y="3200400"/>
                  <a:ext cx="173160" cy="314640"/>
                </a:xfrm>
                <a:custGeom>
                  <a:avLst/>
                  <a:gdLst/>
                  <a:ahLst/>
                  <a:rect l="l" t="t" r="r" b="b"/>
                  <a:pathLst>
                    <a:path w="789" h="1344">
                      <a:moveTo>
                        <a:pt x="0" y="0"/>
                      </a:moveTo>
                      <a:cubicBezTo>
                        <a:pt x="107" y="27"/>
                        <a:pt x="513" y="47"/>
                        <a:pt x="641" y="163"/>
                      </a:cubicBezTo>
                      <a:cubicBezTo>
                        <a:pt x="769" y="279"/>
                        <a:pt x="747" y="500"/>
                        <a:pt x="768" y="697"/>
                      </a:cubicBezTo>
                      <a:cubicBezTo>
                        <a:pt x="789" y="894"/>
                        <a:pt x="768" y="1236"/>
                        <a:pt x="768" y="1344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prstDash val="sysDot"/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492720" y="3447360"/>
                  <a:ext cx="203040" cy="209880"/>
                </a:xfrm>
                <a:custGeom>
                  <a:avLst/>
                  <a:gdLst>
                    <a:gd name="textAreaLeft" fmla="*/ 46080 w 203040"/>
                    <a:gd name="textAreaRight" fmla="*/ 156960 w 203040"/>
                    <a:gd name="textAreaTop" fmla="*/ 47880 h 209880"/>
                    <a:gd name="textAreaBottom" fmla="*/ 162000 h 20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2973600" y="335304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52680" y="3581640"/>
                <a:ext cx="41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las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240680" y="3200400"/>
              <a:ext cx="794520" cy="596880"/>
              <a:chOff x="7240680" y="3200400"/>
              <a:chExt cx="794520" cy="59688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7391160" y="3200400"/>
                <a:ext cx="571680" cy="456840"/>
                <a:chOff x="7391160" y="3200400"/>
                <a:chExt cx="571680" cy="45684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391160" y="3200400"/>
                  <a:ext cx="303480" cy="241200"/>
                </a:xfrm>
                <a:custGeom>
                  <a:avLst/>
                  <a:gdLst/>
                  <a:ahLst/>
                  <a:rect l="l" t="t" r="r" b="b"/>
                  <a:pathLst>
                    <a:path w="1384" h="1032">
                      <a:moveTo>
                        <a:pt x="1384" y="24"/>
                      </a:moveTo>
                      <a:cubicBezTo>
                        <a:pt x="876" y="12"/>
                        <a:pt x="368" y="0"/>
                        <a:pt x="184" y="168"/>
                      </a:cubicBezTo>
                      <a:cubicBezTo>
                        <a:pt x="0" y="336"/>
                        <a:pt x="140" y="684"/>
                        <a:pt x="280" y="1032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6080" y="3200400"/>
                  <a:ext cx="173160" cy="314640"/>
                </a:xfrm>
                <a:custGeom>
                  <a:avLst/>
                  <a:gdLst/>
                  <a:ahLst/>
                  <a:rect l="l" t="t" r="r" b="b"/>
                  <a:pathLst>
                    <a:path w="789" h="1344">
                      <a:moveTo>
                        <a:pt x="0" y="0"/>
                      </a:moveTo>
                      <a:cubicBezTo>
                        <a:pt x="107" y="27"/>
                        <a:pt x="513" y="47"/>
                        <a:pt x="641" y="163"/>
                      </a:cubicBezTo>
                      <a:cubicBezTo>
                        <a:pt x="769" y="279"/>
                        <a:pt x="747" y="500"/>
                        <a:pt x="768" y="697"/>
                      </a:cubicBezTo>
                      <a:cubicBezTo>
                        <a:pt x="789" y="894"/>
                        <a:pt x="768" y="1236"/>
                        <a:pt x="768" y="1344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prstDash val="sysDot"/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759800" y="3447360"/>
                  <a:ext cx="203040" cy="209880"/>
                </a:xfrm>
                <a:custGeom>
                  <a:avLst/>
                  <a:gdLst>
                    <a:gd name="textAreaLeft" fmla="*/ 46080 w 203040"/>
                    <a:gd name="textAreaRight" fmla="*/ 156960 w 203040"/>
                    <a:gd name="textAreaTop" fmla="*/ 47880 h 209880"/>
                    <a:gd name="textAreaBottom" fmla="*/ 162000 h 20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7240680" y="335304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619760" y="3581640"/>
                <a:ext cx="41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las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402600" y="3200400"/>
              <a:ext cx="794520" cy="596880"/>
              <a:chOff x="6402600" y="3200400"/>
              <a:chExt cx="794520" cy="59688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553080" y="3200400"/>
                <a:ext cx="571680" cy="456840"/>
                <a:chOff x="6553080" y="3200400"/>
                <a:chExt cx="571680" cy="4568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553080" y="3200400"/>
                  <a:ext cx="303480" cy="241200"/>
                </a:xfrm>
                <a:custGeom>
                  <a:avLst/>
                  <a:gdLst/>
                  <a:ahLst/>
                  <a:rect l="l" t="t" r="r" b="b"/>
                  <a:pathLst>
                    <a:path w="1384" h="1032">
                      <a:moveTo>
                        <a:pt x="1384" y="24"/>
                      </a:moveTo>
                      <a:cubicBezTo>
                        <a:pt x="876" y="12"/>
                        <a:pt x="368" y="0"/>
                        <a:pt x="184" y="168"/>
                      </a:cubicBezTo>
                      <a:cubicBezTo>
                        <a:pt x="0" y="336"/>
                        <a:pt x="140" y="684"/>
                        <a:pt x="280" y="1032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858000" y="3200400"/>
                  <a:ext cx="173160" cy="314640"/>
                </a:xfrm>
                <a:custGeom>
                  <a:avLst/>
                  <a:gdLst/>
                  <a:ahLst/>
                  <a:rect l="l" t="t" r="r" b="b"/>
                  <a:pathLst>
                    <a:path w="789" h="1344">
                      <a:moveTo>
                        <a:pt x="0" y="0"/>
                      </a:moveTo>
                      <a:cubicBezTo>
                        <a:pt x="107" y="27"/>
                        <a:pt x="513" y="47"/>
                        <a:pt x="641" y="163"/>
                      </a:cubicBezTo>
                      <a:cubicBezTo>
                        <a:pt x="769" y="279"/>
                        <a:pt x="747" y="500"/>
                        <a:pt x="768" y="697"/>
                      </a:cubicBezTo>
                      <a:cubicBezTo>
                        <a:pt x="789" y="894"/>
                        <a:pt x="768" y="1236"/>
                        <a:pt x="768" y="1344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prstDash val="sysDot"/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921720" y="3447360"/>
                  <a:ext cx="203040" cy="209880"/>
                </a:xfrm>
                <a:custGeom>
                  <a:avLst/>
                  <a:gdLst>
                    <a:gd name="textAreaLeft" fmla="*/ 46080 w 203040"/>
                    <a:gd name="textAreaRight" fmla="*/ 156960 w 203040"/>
                    <a:gd name="textAreaTop" fmla="*/ 47880 h 209880"/>
                    <a:gd name="textAreaBottom" fmla="*/ 162000 h 20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6402600" y="335304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81680" y="3581640"/>
                <a:ext cx="41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las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649760" y="3200400"/>
              <a:ext cx="794520" cy="596880"/>
              <a:chOff x="4649760" y="3200400"/>
              <a:chExt cx="794520" cy="59688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4800240" y="3200400"/>
                <a:ext cx="571680" cy="456840"/>
                <a:chOff x="4800240" y="3200400"/>
                <a:chExt cx="571680" cy="4568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800240" y="3200400"/>
                  <a:ext cx="303480" cy="241200"/>
                </a:xfrm>
                <a:custGeom>
                  <a:avLst/>
                  <a:gdLst/>
                  <a:ahLst/>
                  <a:rect l="l" t="t" r="r" b="b"/>
                  <a:pathLst>
                    <a:path w="1384" h="1032">
                      <a:moveTo>
                        <a:pt x="1384" y="24"/>
                      </a:moveTo>
                      <a:cubicBezTo>
                        <a:pt x="876" y="12"/>
                        <a:pt x="368" y="0"/>
                        <a:pt x="184" y="168"/>
                      </a:cubicBezTo>
                      <a:cubicBezTo>
                        <a:pt x="0" y="336"/>
                        <a:pt x="140" y="684"/>
                        <a:pt x="280" y="1032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105160" y="3200400"/>
                  <a:ext cx="173160" cy="314640"/>
                </a:xfrm>
                <a:custGeom>
                  <a:avLst/>
                  <a:gdLst/>
                  <a:ahLst/>
                  <a:rect l="l" t="t" r="r" b="b"/>
                  <a:pathLst>
                    <a:path w="789" h="1344">
                      <a:moveTo>
                        <a:pt x="0" y="0"/>
                      </a:moveTo>
                      <a:cubicBezTo>
                        <a:pt x="107" y="27"/>
                        <a:pt x="513" y="47"/>
                        <a:pt x="641" y="163"/>
                      </a:cubicBezTo>
                      <a:cubicBezTo>
                        <a:pt x="769" y="279"/>
                        <a:pt x="747" y="500"/>
                        <a:pt x="768" y="697"/>
                      </a:cubicBezTo>
                      <a:cubicBezTo>
                        <a:pt x="789" y="894"/>
                        <a:pt x="768" y="1236"/>
                        <a:pt x="768" y="1344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prstDash val="sysDot"/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168880" y="3447360"/>
                  <a:ext cx="203040" cy="209880"/>
                </a:xfrm>
                <a:custGeom>
                  <a:avLst/>
                  <a:gdLst>
                    <a:gd name="textAreaLeft" fmla="*/ 46080 w 203040"/>
                    <a:gd name="textAreaRight" fmla="*/ 156960 w 203040"/>
                    <a:gd name="textAreaTop" fmla="*/ 47880 h 209880"/>
                    <a:gd name="textAreaBottom" fmla="*/ 162000 h 20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" name=""/>
              <p:cNvSpPr/>
              <p:nvPr/>
            </p:nvSpPr>
            <p:spPr>
              <a:xfrm>
                <a:off x="4649760" y="335304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28840" y="3581640"/>
                <a:ext cx="41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las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3811680" y="3200400"/>
              <a:ext cx="794520" cy="596880"/>
              <a:chOff x="3811680" y="3200400"/>
              <a:chExt cx="794520" cy="59688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3962160" y="3200400"/>
                <a:ext cx="571680" cy="456840"/>
                <a:chOff x="3962160" y="3200400"/>
                <a:chExt cx="571680" cy="4568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962160" y="3200400"/>
                  <a:ext cx="303480" cy="241200"/>
                </a:xfrm>
                <a:custGeom>
                  <a:avLst/>
                  <a:gdLst/>
                  <a:ahLst/>
                  <a:rect l="l" t="t" r="r" b="b"/>
                  <a:pathLst>
                    <a:path w="1384" h="1032">
                      <a:moveTo>
                        <a:pt x="1384" y="24"/>
                      </a:moveTo>
                      <a:cubicBezTo>
                        <a:pt x="876" y="12"/>
                        <a:pt x="368" y="0"/>
                        <a:pt x="184" y="168"/>
                      </a:cubicBezTo>
                      <a:cubicBezTo>
                        <a:pt x="0" y="336"/>
                        <a:pt x="140" y="684"/>
                        <a:pt x="280" y="1032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267080" y="3200400"/>
                  <a:ext cx="173160" cy="314640"/>
                </a:xfrm>
                <a:custGeom>
                  <a:avLst/>
                  <a:gdLst/>
                  <a:ahLst/>
                  <a:rect l="l" t="t" r="r" b="b"/>
                  <a:pathLst>
                    <a:path w="789" h="1344">
                      <a:moveTo>
                        <a:pt x="0" y="0"/>
                      </a:moveTo>
                      <a:cubicBezTo>
                        <a:pt x="107" y="27"/>
                        <a:pt x="513" y="47"/>
                        <a:pt x="641" y="163"/>
                      </a:cubicBezTo>
                      <a:cubicBezTo>
                        <a:pt x="769" y="279"/>
                        <a:pt x="747" y="500"/>
                        <a:pt x="768" y="697"/>
                      </a:cubicBezTo>
                      <a:cubicBezTo>
                        <a:pt x="789" y="894"/>
                        <a:pt x="768" y="1236"/>
                        <a:pt x="768" y="1344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prstDash val="sysDot"/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330800" y="3447360"/>
                  <a:ext cx="203040" cy="209880"/>
                </a:xfrm>
                <a:custGeom>
                  <a:avLst/>
                  <a:gdLst>
                    <a:gd name="textAreaLeft" fmla="*/ 46080 w 203040"/>
                    <a:gd name="textAreaRight" fmla="*/ 156960 w 203040"/>
                    <a:gd name="textAreaTop" fmla="*/ 47880 h 209880"/>
                    <a:gd name="textAreaBottom" fmla="*/ 162000 h 20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3811680" y="335304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190760" y="3581640"/>
                <a:ext cx="41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las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564160" y="3200400"/>
              <a:ext cx="794520" cy="596880"/>
              <a:chOff x="5564160" y="3200400"/>
              <a:chExt cx="794520" cy="59688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5714640" y="3200400"/>
                <a:ext cx="571680" cy="456840"/>
                <a:chOff x="5714640" y="3200400"/>
                <a:chExt cx="571680" cy="4568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714640" y="3200400"/>
                  <a:ext cx="303480" cy="241200"/>
                </a:xfrm>
                <a:custGeom>
                  <a:avLst/>
                  <a:gdLst/>
                  <a:ahLst/>
                  <a:rect l="l" t="t" r="r" b="b"/>
                  <a:pathLst>
                    <a:path w="1384" h="1032">
                      <a:moveTo>
                        <a:pt x="1384" y="24"/>
                      </a:moveTo>
                      <a:cubicBezTo>
                        <a:pt x="876" y="12"/>
                        <a:pt x="368" y="0"/>
                        <a:pt x="184" y="168"/>
                      </a:cubicBezTo>
                      <a:cubicBezTo>
                        <a:pt x="0" y="336"/>
                        <a:pt x="140" y="684"/>
                        <a:pt x="280" y="1032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019560" y="3200400"/>
                  <a:ext cx="173160" cy="314640"/>
                </a:xfrm>
                <a:custGeom>
                  <a:avLst/>
                  <a:gdLst/>
                  <a:ahLst/>
                  <a:rect l="l" t="t" r="r" b="b"/>
                  <a:pathLst>
                    <a:path w="789" h="1344">
                      <a:moveTo>
                        <a:pt x="0" y="0"/>
                      </a:moveTo>
                      <a:cubicBezTo>
                        <a:pt x="107" y="27"/>
                        <a:pt x="513" y="47"/>
                        <a:pt x="641" y="163"/>
                      </a:cubicBezTo>
                      <a:cubicBezTo>
                        <a:pt x="769" y="279"/>
                        <a:pt x="747" y="500"/>
                        <a:pt x="768" y="697"/>
                      </a:cubicBezTo>
                      <a:cubicBezTo>
                        <a:pt x="789" y="894"/>
                        <a:pt x="768" y="1236"/>
                        <a:pt x="768" y="1344"/>
                      </a:cubicBezTo>
                    </a:path>
                  </a:pathLst>
                </a:custGeom>
                <a:noFill/>
                <a:ln w="25560">
                  <a:solidFill>
                    <a:srgbClr val="808080"/>
                  </a:solidFill>
                  <a:prstDash val="sysDot"/>
                  <a:round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083280" y="3447360"/>
                  <a:ext cx="203040" cy="209880"/>
                </a:xfrm>
                <a:custGeom>
                  <a:avLst/>
                  <a:gdLst>
                    <a:gd name="textAreaLeft" fmla="*/ 46080 w 203040"/>
                    <a:gd name="textAreaRight" fmla="*/ 156960 w 203040"/>
                    <a:gd name="textAreaTop" fmla="*/ 47880 h 209880"/>
                    <a:gd name="textAreaBottom" fmla="*/ 162000 h 209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532" y="11523"/>
                      </a:lnTo>
                      <a:lnTo>
                        <a:pt x="198" y="12861"/>
                      </a:lnTo>
                      <a:lnTo>
                        <a:pt x="2822" y="13088"/>
                      </a:lnTo>
                      <a:lnTo>
                        <a:pt x="786" y="14846"/>
                      </a:lnTo>
                      <a:lnTo>
                        <a:pt x="3472" y="14697"/>
                      </a:lnTo>
                      <a:lnTo>
                        <a:pt x="1742" y="16682"/>
                      </a:lnTo>
                      <a:lnTo>
                        <a:pt x="4350" y="16023"/>
                      </a:lnTo>
                      <a:lnTo>
                        <a:pt x="3163" y="18437"/>
                      </a:lnTo>
                      <a:lnTo>
                        <a:pt x="5465" y="17158"/>
                      </a:lnTo>
                      <a:lnTo>
                        <a:pt x="4761" y="19754"/>
                      </a:lnTo>
                      <a:lnTo>
                        <a:pt x="6776" y="18059"/>
                      </a:lnTo>
                      <a:lnTo>
                        <a:pt x="6580" y="20741"/>
                      </a:lnTo>
                      <a:lnTo>
                        <a:pt x="8373" y="18737"/>
                      </a:lnTo>
                      <a:lnTo>
                        <a:pt x="8555" y="21364"/>
                      </a:lnTo>
                      <a:lnTo>
                        <a:pt x="9932" y="19055"/>
                      </a:lnTo>
                      <a:lnTo>
                        <a:pt x="10800" y="21600"/>
                      </a:lnTo>
                      <a:lnTo>
                        <a:pt x="11523" y="19068"/>
                      </a:lnTo>
                      <a:lnTo>
                        <a:pt x="12861" y="21402"/>
                      </a:lnTo>
                      <a:lnTo>
                        <a:pt x="13088" y="18778"/>
                      </a:lnTo>
                      <a:lnTo>
                        <a:pt x="14846" y="20814"/>
                      </a:lnTo>
                      <a:lnTo>
                        <a:pt x="14697" y="18128"/>
                      </a:lnTo>
                      <a:lnTo>
                        <a:pt x="16682" y="19858"/>
                      </a:lnTo>
                      <a:lnTo>
                        <a:pt x="16023" y="17250"/>
                      </a:lnTo>
                      <a:lnTo>
                        <a:pt x="18437" y="18437"/>
                      </a:lnTo>
                      <a:lnTo>
                        <a:pt x="17158" y="16135"/>
                      </a:lnTo>
                      <a:lnTo>
                        <a:pt x="19754" y="16839"/>
                      </a:lnTo>
                      <a:lnTo>
                        <a:pt x="18059" y="14824"/>
                      </a:lnTo>
                      <a:lnTo>
                        <a:pt x="20741" y="15020"/>
                      </a:lnTo>
                      <a:lnTo>
                        <a:pt x="18737" y="13227"/>
                      </a:lnTo>
                      <a:lnTo>
                        <a:pt x="21364" y="13045"/>
                      </a:lnTo>
                      <a:lnTo>
                        <a:pt x="19055" y="11668"/>
                      </a:lnTo>
                      <a:lnTo>
                        <a:pt x="21600" y="10800"/>
                      </a:lnTo>
                      <a:lnTo>
                        <a:pt x="19068" y="10077"/>
                      </a:lnTo>
                      <a:lnTo>
                        <a:pt x="21402" y="8739"/>
                      </a:lnTo>
                      <a:lnTo>
                        <a:pt x="18778" y="8512"/>
                      </a:lnTo>
                      <a:lnTo>
                        <a:pt x="20814" y="6754"/>
                      </a:lnTo>
                      <a:lnTo>
                        <a:pt x="18128" y="6903"/>
                      </a:lnTo>
                      <a:lnTo>
                        <a:pt x="19858" y="4918"/>
                      </a:lnTo>
                      <a:lnTo>
                        <a:pt x="17250" y="5577"/>
                      </a:lnTo>
                      <a:lnTo>
                        <a:pt x="18437" y="3163"/>
                      </a:lnTo>
                      <a:lnTo>
                        <a:pt x="16135" y="4442"/>
                      </a:lnTo>
                      <a:lnTo>
                        <a:pt x="16839" y="1846"/>
                      </a:lnTo>
                      <a:lnTo>
                        <a:pt x="14824" y="3541"/>
                      </a:lnTo>
                      <a:lnTo>
                        <a:pt x="15020" y="859"/>
                      </a:lnTo>
                      <a:lnTo>
                        <a:pt x="13227" y="2863"/>
                      </a:lnTo>
                      <a:lnTo>
                        <a:pt x="13045" y="236"/>
                      </a:lnTo>
                      <a:lnTo>
                        <a:pt x="11668" y="2545"/>
                      </a:lnTo>
                      <a:lnTo>
                        <a:pt x="10800" y="0"/>
                      </a:lnTo>
                      <a:lnTo>
                        <a:pt x="10077" y="2532"/>
                      </a:lnTo>
                      <a:lnTo>
                        <a:pt x="8739" y="198"/>
                      </a:lnTo>
                      <a:lnTo>
                        <a:pt x="8512" y="2822"/>
                      </a:lnTo>
                      <a:lnTo>
                        <a:pt x="6754" y="786"/>
                      </a:lnTo>
                      <a:lnTo>
                        <a:pt x="6903" y="3472"/>
                      </a:lnTo>
                      <a:lnTo>
                        <a:pt x="4918" y="1742"/>
                      </a:lnTo>
                      <a:lnTo>
                        <a:pt x="5577" y="4350"/>
                      </a:lnTo>
                      <a:lnTo>
                        <a:pt x="3163" y="3163"/>
                      </a:lnTo>
                      <a:lnTo>
                        <a:pt x="4442" y="5465"/>
                      </a:lnTo>
                      <a:lnTo>
                        <a:pt x="1846" y="4761"/>
                      </a:lnTo>
                      <a:lnTo>
                        <a:pt x="3541" y="6776"/>
                      </a:lnTo>
                      <a:lnTo>
                        <a:pt x="859" y="6580"/>
                      </a:lnTo>
                      <a:lnTo>
                        <a:pt x="2863" y="8373"/>
                      </a:lnTo>
                      <a:lnTo>
                        <a:pt x="236" y="8555"/>
                      </a:lnTo>
                      <a:lnTo>
                        <a:pt x="2545" y="9932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" name=""/>
              <p:cNvSpPr/>
              <p:nvPr/>
            </p:nvSpPr>
            <p:spPr>
              <a:xfrm>
                <a:off x="5564160" y="335304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alu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943240" y="3581640"/>
                <a:ext cx="41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las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57200" y="2666880"/>
            <a:ext cx="1447920" cy="1474920"/>
            <a:chOff x="457200" y="2666880"/>
            <a:chExt cx="1447920" cy="1474920"/>
          </a:xfrm>
        </p:grpSpPr>
        <p:sp>
          <p:nvSpPr>
            <p:cNvPr id="94" name=""/>
            <p:cNvSpPr/>
            <p:nvPr/>
          </p:nvSpPr>
          <p:spPr>
            <a:xfrm>
              <a:off x="500040" y="2666880"/>
              <a:ext cx="1378080" cy="1273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" y="2693880"/>
              <a:ext cx="1447920" cy="1447920"/>
            </a:xfrm>
            <a:prstGeom prst="cloudCallout">
              <a:avLst>
                <a:gd name="adj1" fmla="val -72587"/>
                <a:gd name="adj2" fmla="val -678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5440" y="2838600"/>
              <a:ext cx="1201680" cy="107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62120" y="2998800"/>
              <a:ext cx="838080" cy="838080"/>
            </a:xfrm>
            <a:prstGeom prst="octagon">
              <a:avLst>
                <a:gd name="adj" fmla="val 292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0" y="4419720"/>
            <a:ext cx="4267080" cy="23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subject prox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presents a sub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address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i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s ident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9360" y="5262480"/>
            <a:ext cx="3095640" cy="351000"/>
          </a:xfrm>
          <a:custGeom>
            <a:avLst/>
            <a:gdLst/>
            <a:ahLst/>
            <a:rect l="l" t="t" r="r" b="b"/>
            <a:pathLst>
              <a:path w="1950" h="221">
                <a:moveTo>
                  <a:pt x="0" y="86"/>
                </a:moveTo>
                <a:cubicBezTo>
                  <a:pt x="75" y="87"/>
                  <a:pt x="276" y="88"/>
                  <a:pt x="448" y="95"/>
                </a:cubicBezTo>
                <a:cubicBezTo>
                  <a:pt x="620" y="102"/>
                  <a:pt x="808" y="109"/>
                  <a:pt x="1034" y="127"/>
                </a:cubicBezTo>
                <a:cubicBezTo>
                  <a:pt x="1260" y="145"/>
                  <a:pt x="1654" y="221"/>
                  <a:pt x="1802" y="200"/>
                </a:cubicBezTo>
                <a:cubicBezTo>
                  <a:pt x="1950" y="179"/>
                  <a:pt x="1900" y="42"/>
                  <a:pt x="1925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4495680"/>
            <a:ext cx="2209680" cy="21337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cap="rnd" w="1908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334120" y="4648320"/>
            <a:ext cx="3484800" cy="714600"/>
            <a:chOff x="5334120" y="4648320"/>
            <a:chExt cx="3484800" cy="714600"/>
          </a:xfrm>
        </p:grpSpPr>
        <p:grpSp>
          <p:nvGrpSpPr>
            <p:cNvPr id="102" name=""/>
            <p:cNvGrpSpPr/>
            <p:nvPr/>
          </p:nvGrpSpPr>
          <p:grpSpPr>
            <a:xfrm>
              <a:off x="5808600" y="4648320"/>
              <a:ext cx="2573280" cy="606600"/>
              <a:chOff x="5808600" y="4648320"/>
              <a:chExt cx="2573280" cy="606600"/>
            </a:xfrm>
          </p:grpSpPr>
          <p:sp>
            <p:nvSpPr>
              <p:cNvPr id="103" name=""/>
              <p:cNvSpPr/>
              <p:nvPr/>
            </p:nvSpPr>
            <p:spPr>
              <a:xfrm>
                <a:off x="5808600" y="46580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288200" y="46483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334120" y="4967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90800" y="50864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334120" y="4876920"/>
            <a:ext cx="3484800" cy="714600"/>
            <a:chOff x="5334120" y="4876920"/>
            <a:chExt cx="3484800" cy="714600"/>
          </a:xfrm>
        </p:grpSpPr>
        <p:grpSp>
          <p:nvGrpSpPr>
            <p:cNvPr id="108" name=""/>
            <p:cNvGrpSpPr/>
            <p:nvPr/>
          </p:nvGrpSpPr>
          <p:grpSpPr>
            <a:xfrm>
              <a:off x="5808600" y="4876920"/>
              <a:ext cx="2573280" cy="606600"/>
              <a:chOff x="5808600" y="4876920"/>
              <a:chExt cx="2573280" cy="606600"/>
            </a:xfrm>
          </p:grpSpPr>
          <p:sp>
            <p:nvSpPr>
              <p:cNvPr id="109" name=""/>
              <p:cNvSpPr/>
              <p:nvPr/>
            </p:nvSpPr>
            <p:spPr>
              <a:xfrm>
                <a:off x="5808600" y="48866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88200" y="48769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5334120" y="51962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90800" y="53150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334120" y="5105520"/>
            <a:ext cx="3484800" cy="714600"/>
            <a:chOff x="5334120" y="5105520"/>
            <a:chExt cx="3484800" cy="714600"/>
          </a:xfrm>
        </p:grpSpPr>
        <p:grpSp>
          <p:nvGrpSpPr>
            <p:cNvPr id="114" name=""/>
            <p:cNvGrpSpPr/>
            <p:nvPr/>
          </p:nvGrpSpPr>
          <p:grpSpPr>
            <a:xfrm>
              <a:off x="5808600" y="5105520"/>
              <a:ext cx="2573280" cy="606600"/>
              <a:chOff x="5808600" y="5105520"/>
              <a:chExt cx="2573280" cy="606600"/>
            </a:xfrm>
          </p:grpSpPr>
          <p:sp>
            <p:nvSpPr>
              <p:cNvPr id="115" name=""/>
              <p:cNvSpPr/>
              <p:nvPr/>
            </p:nvSpPr>
            <p:spPr>
              <a:xfrm>
                <a:off x="5808600" y="51152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88200" y="51055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334120" y="54248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90800" y="55436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334120" y="5334120"/>
            <a:ext cx="3484800" cy="714600"/>
            <a:chOff x="5334120" y="5334120"/>
            <a:chExt cx="3484800" cy="714600"/>
          </a:xfrm>
        </p:grpSpPr>
        <p:grpSp>
          <p:nvGrpSpPr>
            <p:cNvPr id="120" name=""/>
            <p:cNvGrpSpPr/>
            <p:nvPr/>
          </p:nvGrpSpPr>
          <p:grpSpPr>
            <a:xfrm>
              <a:off x="5808600" y="5334120"/>
              <a:ext cx="2573280" cy="606600"/>
              <a:chOff x="5808600" y="5334120"/>
              <a:chExt cx="2573280" cy="606600"/>
            </a:xfrm>
          </p:grpSpPr>
          <p:sp>
            <p:nvSpPr>
              <p:cNvPr id="121" name=""/>
              <p:cNvSpPr/>
              <p:nvPr/>
            </p:nvSpPr>
            <p:spPr>
              <a:xfrm>
                <a:off x="5808600" y="53438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88200" y="53341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334120" y="56534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90800" y="57722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334120" y="5562720"/>
            <a:ext cx="3484800" cy="714600"/>
            <a:chOff x="5334120" y="5562720"/>
            <a:chExt cx="3484800" cy="714600"/>
          </a:xfrm>
        </p:grpSpPr>
        <p:grpSp>
          <p:nvGrpSpPr>
            <p:cNvPr id="126" name=""/>
            <p:cNvGrpSpPr/>
            <p:nvPr/>
          </p:nvGrpSpPr>
          <p:grpSpPr>
            <a:xfrm>
              <a:off x="5808600" y="5562720"/>
              <a:ext cx="2573280" cy="606600"/>
              <a:chOff x="5808600" y="5562720"/>
              <a:chExt cx="2573280" cy="606600"/>
            </a:xfrm>
          </p:grpSpPr>
          <p:sp>
            <p:nvSpPr>
              <p:cNvPr id="127" name=""/>
              <p:cNvSpPr/>
              <p:nvPr/>
            </p:nvSpPr>
            <p:spPr>
              <a:xfrm>
                <a:off x="5808600" y="55724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88200" y="55627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334120" y="58820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90800" y="60008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334120" y="5791320"/>
            <a:ext cx="3484800" cy="714600"/>
            <a:chOff x="5334120" y="5791320"/>
            <a:chExt cx="3484800" cy="714600"/>
          </a:xfrm>
        </p:grpSpPr>
        <p:grpSp>
          <p:nvGrpSpPr>
            <p:cNvPr id="132" name=""/>
            <p:cNvGrpSpPr/>
            <p:nvPr/>
          </p:nvGrpSpPr>
          <p:grpSpPr>
            <a:xfrm>
              <a:off x="5808600" y="5791320"/>
              <a:ext cx="2573280" cy="606600"/>
              <a:chOff x="5808600" y="5791320"/>
              <a:chExt cx="2573280" cy="606600"/>
            </a:xfrm>
          </p:grpSpPr>
          <p:sp>
            <p:nvSpPr>
              <p:cNvPr id="133" name=""/>
              <p:cNvSpPr/>
              <p:nvPr/>
            </p:nvSpPr>
            <p:spPr>
              <a:xfrm>
                <a:off x="5808600" y="58010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88200" y="57913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334120" y="6110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90800" y="62294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962520" y="4334040"/>
            <a:ext cx="1600200" cy="914400"/>
          </a:xfrm>
          <a:prstGeom prst="cloudCallout">
            <a:avLst>
              <a:gd name="adj1" fmla="val 105652"/>
              <a:gd name="adj2" fmla="val -15449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6019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oid=4a5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85960" y="6327720"/>
            <a:ext cx="5695920" cy="407880"/>
          </a:xfrm>
          <a:custGeom>
            <a:avLst/>
            <a:gdLst/>
            <a:ahLst/>
            <a:rect l="l" t="t" r="r" b="b"/>
            <a:pathLst>
              <a:path w="3588" h="257">
                <a:moveTo>
                  <a:pt x="0" y="147"/>
                </a:moveTo>
                <a:cubicBezTo>
                  <a:pt x="205" y="148"/>
                  <a:pt x="696" y="133"/>
                  <a:pt x="1229" y="147"/>
                </a:cubicBezTo>
                <a:cubicBezTo>
                  <a:pt x="1762" y="161"/>
                  <a:pt x="2812" y="257"/>
                  <a:pt x="3200" y="233"/>
                </a:cubicBezTo>
                <a:cubicBezTo>
                  <a:pt x="3588" y="209"/>
                  <a:pt x="3482" y="49"/>
                  <a:pt x="3556" y="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267080"/>
            <a:ext cx="7925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533520"/>
            <a:ext cx="2057400" cy="1828800"/>
          </a:xfrm>
          <a:prstGeom prst="cloudCallout">
            <a:avLst>
              <a:gd name="adj1" fmla="val -55013"/>
              <a:gd name="adj2" fmla="val -66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7480" y="990720"/>
            <a:ext cx="82224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7520" y="1709640"/>
            <a:ext cx="264960" cy="262080"/>
          </a:xfrm>
          <a:prstGeom prst="hexagon">
            <a:avLst>
              <a:gd name="adj" fmla="val 25275"/>
              <a:gd name="vf" fmla="val 1154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50840" y="800280"/>
            <a:ext cx="230400" cy="26028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00040" y="1709640"/>
            <a:ext cx="243000" cy="26208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12680" y="1730520"/>
            <a:ext cx="230400" cy="260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6640" y="1341360"/>
            <a:ext cx="266760" cy="260280"/>
          </a:xfrm>
          <a:custGeom>
            <a:avLst/>
            <a:gdLst>
              <a:gd name="textAreaLeft" fmla="*/ 62640 w 266760"/>
              <a:gd name="textAreaRight" fmla="*/ 204120 w 266760"/>
              <a:gd name="textAreaTop" fmla="*/ 30600 h 260280"/>
              <a:gd name="textAreaBottom" fmla="*/ 163440 h 260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" y="1019160"/>
            <a:ext cx="230400" cy="258840"/>
          </a:xfrm>
          <a:custGeom>
            <a:avLst/>
            <a:gdLst>
              <a:gd name="textAreaLeft" fmla="*/ 27000 w 230400"/>
              <a:gd name="textAreaRight" fmla="*/ 203400 w 230400"/>
              <a:gd name="textAreaTop" fmla="*/ 27000 h 258840"/>
              <a:gd name="textAreaBottom" fmla="*/ 231840 h 258840"/>
            </a:gdLst>
            <a:ahLst/>
            <a:rect l="textAreaLeft" t="textAreaTop" r="textAreaRight" b="textAreaBottom"/>
            <a:pathLst>
              <a:path w="21600" h="24262">
                <a:moveTo>
                  <a:pt x="3600" y="0"/>
                </a:moveTo>
                <a:arcTo wR="3600" hR="3600" stAng="0" swAng="5400000"/>
                <a:lnTo>
                  <a:pt x="0" y="20662"/>
                </a:lnTo>
                <a:arcTo wR="3600" hR="3600" stAng="16200000" swAng="5400000"/>
                <a:lnTo>
                  <a:pt x="18000" y="24262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57160" y="1449360"/>
            <a:ext cx="233280" cy="260280"/>
          </a:xfrm>
          <a:custGeom>
            <a:avLst/>
            <a:gdLst>
              <a:gd name="textAreaLeft" fmla="*/ 53280 w 233280"/>
              <a:gd name="textAreaRight" fmla="*/ 180000 w 233280"/>
              <a:gd name="textAreaTop" fmla="*/ 59400 h 260280"/>
              <a:gd name="textAreaBottom" fmla="*/ 2008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30320" y="1127160"/>
            <a:ext cx="233280" cy="257040"/>
          </a:xfrm>
          <a:custGeom>
            <a:avLst/>
            <a:gdLst>
              <a:gd name="textAreaLeft" fmla="*/ 53280 w 233280"/>
              <a:gd name="textAreaRight" fmla="*/ 180000 w 233280"/>
              <a:gd name="textAreaTop" fmla="*/ 58680 h 257040"/>
              <a:gd name="textAreaBottom" fmla="*/ 198360 h 25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24000" y="1449360"/>
            <a:ext cx="231840" cy="260280"/>
          </a:xfrm>
          <a:custGeom>
            <a:avLst/>
            <a:gdLst>
              <a:gd name="textAreaLeft" fmla="*/ 52920 w 231840"/>
              <a:gd name="textAreaRight" fmla="*/ 178920 w 231840"/>
              <a:gd name="textAreaTop" fmla="*/ 59400 h 260280"/>
              <a:gd name="textAreaBottom" fmla="*/ 200880 h 2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62240" y="1019160"/>
            <a:ext cx="304560" cy="258840"/>
          </a:xfrm>
          <a:custGeom>
            <a:avLst/>
            <a:gdLst>
              <a:gd name="textAreaLeft" fmla="*/ 66960 w 304560"/>
              <a:gd name="textAreaRight" fmla="*/ 237600 w 30456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14520" y="1300320"/>
            <a:ext cx="309600" cy="34416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24000" y="695160"/>
            <a:ext cx="777960" cy="1209960"/>
          </a:xfrm>
          <a:custGeom>
            <a:avLst/>
            <a:gdLst/>
            <a:ahLst/>
            <a:rect l="l" t="t" r="r" b="b"/>
            <a:pathLst>
              <a:path w="1928" h="2680">
                <a:moveTo>
                  <a:pt x="960" y="2680"/>
                </a:moveTo>
                <a:cubicBezTo>
                  <a:pt x="1340" y="2660"/>
                  <a:pt x="1720" y="2640"/>
                  <a:pt x="1824" y="2248"/>
                </a:cubicBezTo>
                <a:cubicBezTo>
                  <a:pt x="1928" y="1856"/>
                  <a:pt x="1888" y="656"/>
                  <a:pt x="1584" y="328"/>
                </a:cubicBezTo>
                <a:cubicBezTo>
                  <a:pt x="1280" y="0"/>
                  <a:pt x="640" y="140"/>
                  <a:pt x="0" y="280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00040" y="1666800"/>
            <a:ext cx="212760" cy="23832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528"/>
                </a:moveTo>
                <a:cubicBezTo>
                  <a:pt x="528" y="528"/>
                  <a:pt x="264" y="264"/>
                  <a:pt x="0" y="0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58680" y="1692360"/>
            <a:ext cx="51120" cy="195120"/>
          </a:xfrm>
          <a:custGeom>
            <a:avLst/>
            <a:gdLst/>
            <a:ahLst/>
            <a:rect l="l" t="t" r="r" b="b"/>
            <a:pathLst>
              <a:path w="103" h="320">
                <a:moveTo>
                  <a:pt x="103" y="320"/>
                </a:moveTo>
                <a:cubicBezTo>
                  <a:pt x="88" y="294"/>
                  <a:pt x="26" y="219"/>
                  <a:pt x="13" y="166"/>
                </a:cubicBezTo>
                <a:cubicBezTo>
                  <a:pt x="0" y="113"/>
                  <a:pt x="23" y="35"/>
                  <a:pt x="26" y="0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28800" y="1874880"/>
            <a:ext cx="81000" cy="106200"/>
          </a:xfrm>
          <a:custGeom>
            <a:avLst/>
            <a:gdLst/>
            <a:ahLst/>
            <a:rect l="l" t="t" r="r" b="b"/>
            <a:pathLst>
              <a:path w="169" h="176">
                <a:moveTo>
                  <a:pt x="169" y="9"/>
                </a:moveTo>
                <a:cubicBezTo>
                  <a:pt x="152" y="9"/>
                  <a:pt x="93" y="0"/>
                  <a:pt x="66" y="9"/>
                </a:cubicBezTo>
                <a:cubicBezTo>
                  <a:pt x="39" y="18"/>
                  <a:pt x="18" y="33"/>
                  <a:pt x="9" y="61"/>
                </a:cubicBezTo>
                <a:cubicBezTo>
                  <a:pt x="0" y="89"/>
                  <a:pt x="9" y="152"/>
                  <a:pt x="9" y="176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560" y="876240"/>
            <a:ext cx="557280" cy="465120"/>
          </a:xfrm>
          <a:custGeom>
            <a:avLst/>
            <a:gdLst/>
            <a:ahLst/>
            <a:rect l="l" t="t" r="r" b="b"/>
            <a:pathLst>
              <a:path w="1384" h="1032">
                <a:moveTo>
                  <a:pt x="1384" y="24"/>
                </a:moveTo>
                <a:cubicBezTo>
                  <a:pt x="876" y="12"/>
                  <a:pt x="368" y="0"/>
                  <a:pt x="184" y="168"/>
                </a:cubicBezTo>
                <a:cubicBezTo>
                  <a:pt x="0" y="336"/>
                  <a:pt x="140" y="684"/>
                  <a:pt x="280" y="1032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50840" y="885960"/>
            <a:ext cx="358920" cy="587160"/>
          </a:xfrm>
          <a:custGeom>
            <a:avLst/>
            <a:gdLst/>
            <a:ahLst/>
            <a:rect l="l" t="t" r="r" b="b"/>
            <a:pathLst>
              <a:path w="896" h="1296">
                <a:moveTo>
                  <a:pt x="0" y="0"/>
                </a:moveTo>
                <a:cubicBezTo>
                  <a:pt x="320" y="228"/>
                  <a:pt x="640" y="456"/>
                  <a:pt x="768" y="672"/>
                </a:cubicBezTo>
                <a:cubicBezTo>
                  <a:pt x="896" y="888"/>
                  <a:pt x="768" y="1192"/>
                  <a:pt x="768" y="1296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0800" y="1477800"/>
            <a:ext cx="77760" cy="122400"/>
          </a:xfrm>
          <a:custGeom>
            <a:avLst/>
            <a:gdLst/>
            <a:ahLst/>
            <a:rect l="l" t="t" r="r" b="b"/>
            <a:pathLst>
              <a:path w="160" h="205">
                <a:moveTo>
                  <a:pt x="160" y="46"/>
                </a:moveTo>
                <a:cubicBezTo>
                  <a:pt x="143" y="43"/>
                  <a:pt x="84" y="0"/>
                  <a:pt x="57" y="26"/>
                </a:cubicBezTo>
                <a:cubicBezTo>
                  <a:pt x="30" y="52"/>
                  <a:pt x="12" y="168"/>
                  <a:pt x="0" y="205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95320" y="1257480"/>
            <a:ext cx="135000" cy="23652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528"/>
                </a:moveTo>
                <a:cubicBezTo>
                  <a:pt x="44" y="356"/>
                  <a:pt x="88" y="184"/>
                  <a:pt x="144" y="96"/>
                </a:cubicBezTo>
                <a:cubicBezTo>
                  <a:pt x="200" y="8"/>
                  <a:pt x="268" y="4"/>
                  <a:pt x="336" y="0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55680" y="1251000"/>
            <a:ext cx="49320" cy="129960"/>
          </a:xfrm>
          <a:custGeom>
            <a:avLst/>
            <a:gdLst/>
            <a:ahLst/>
            <a:rect l="l" t="t" r="r" b="b"/>
            <a:pathLst>
              <a:path w="103" h="217">
                <a:moveTo>
                  <a:pt x="0" y="0"/>
                </a:moveTo>
                <a:cubicBezTo>
                  <a:pt x="15" y="7"/>
                  <a:pt x="77" y="25"/>
                  <a:pt x="90" y="45"/>
                </a:cubicBezTo>
                <a:cubicBezTo>
                  <a:pt x="103" y="65"/>
                  <a:pt x="87" y="92"/>
                  <a:pt x="77" y="121"/>
                </a:cubicBezTo>
                <a:cubicBezTo>
                  <a:pt x="67" y="150"/>
                  <a:pt x="41" y="197"/>
                  <a:pt x="32" y="217"/>
                </a:cubicBezTo>
              </a:path>
            </a:pathLst>
          </a:custGeom>
          <a:noFill/>
          <a:ln w="64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66760" y="1109520"/>
            <a:ext cx="120600" cy="135000"/>
          </a:xfrm>
          <a:custGeom>
            <a:avLst/>
            <a:gdLst/>
            <a:ahLst/>
            <a:rect l="l" t="t" r="r" b="b"/>
            <a:pathLst>
              <a:path w="249" h="226">
                <a:moveTo>
                  <a:pt x="173" y="226"/>
                </a:moveTo>
                <a:cubicBezTo>
                  <a:pt x="184" y="221"/>
                  <a:pt x="237" y="222"/>
                  <a:pt x="243" y="194"/>
                </a:cubicBezTo>
                <a:cubicBezTo>
                  <a:pt x="249" y="166"/>
                  <a:pt x="238" y="92"/>
                  <a:pt x="211" y="60"/>
                </a:cubicBezTo>
                <a:cubicBezTo>
                  <a:pt x="184" y="28"/>
                  <a:pt x="118" y="4"/>
                  <a:pt x="83" y="2"/>
                </a:cubicBezTo>
                <a:cubicBezTo>
                  <a:pt x="48" y="0"/>
                  <a:pt x="17" y="38"/>
                  <a:pt x="0" y="47"/>
                </a:cubicBezTo>
              </a:path>
            </a:pathLst>
          </a:custGeom>
          <a:noFill/>
          <a:ln w="6480">
            <a:solidFill>
              <a:srgbClr val="80808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06040" y="498600"/>
            <a:ext cx="7151400" cy="1556280"/>
            <a:chOff x="2606040" y="498600"/>
            <a:chExt cx="7151400" cy="1556280"/>
          </a:xfrm>
        </p:grpSpPr>
        <p:sp>
          <p:nvSpPr>
            <p:cNvPr id="165" name=""/>
            <p:cNvSpPr/>
            <p:nvPr/>
          </p:nvSpPr>
          <p:spPr>
            <a:xfrm>
              <a:off x="2606040" y="498600"/>
              <a:ext cx="7151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{      ,     ,     ,     ,     ,     ,  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,     ,     ,     ,     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3238560" y="574560"/>
              <a:ext cx="685800" cy="685080"/>
              <a:chOff x="3238560" y="574560"/>
              <a:chExt cx="685800" cy="6850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3238560" y="574560"/>
                <a:ext cx="685800" cy="685080"/>
                <a:chOff x="3238560" y="574560"/>
                <a:chExt cx="685800" cy="685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259440" y="57456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238560" y="58680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303720" y="65340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3390840" y="694800"/>
                <a:ext cx="405000" cy="428400"/>
              </a:xfrm>
              <a:prstGeom prst="plus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4260960" y="574560"/>
              <a:ext cx="685800" cy="685080"/>
              <a:chOff x="4260960" y="574560"/>
              <a:chExt cx="685800" cy="68508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4260960" y="574560"/>
                <a:ext cx="685800" cy="685080"/>
                <a:chOff x="4260960" y="574560"/>
                <a:chExt cx="685800" cy="685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281840" y="57456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260960" y="58680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326120" y="65340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4413240" y="726480"/>
                <a:ext cx="405000" cy="380880"/>
              </a:xfrm>
              <a:custGeom>
                <a:avLst/>
                <a:gdLst>
                  <a:gd name="textAreaLeft" fmla="*/ 44640 w 405000"/>
                  <a:gd name="textAreaRight" fmla="*/ 360360 w 405000"/>
                  <a:gd name="textAreaTop" fmla="*/ 44640 h 380880"/>
                  <a:gd name="textAreaBottom" fmla="*/ 336240 h 380880"/>
                </a:gdLst>
                <a:ahLst/>
                <a:rect l="textAreaLeft" t="textAreaTop" r="textAreaRight" b="textAreaBottom"/>
                <a:pathLst>
                  <a:path w="22967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9367" y="21600"/>
                    </a:lnTo>
                    <a:arcTo wR="3600" hR="3600" stAng="10800000" swAng="5400000"/>
                    <a:lnTo>
                      <a:pt x="22967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926320" y="1336680"/>
              <a:ext cx="685800" cy="685080"/>
              <a:chOff x="5926320" y="1336680"/>
              <a:chExt cx="685800" cy="6850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926320" y="1336680"/>
                <a:ext cx="685800" cy="685080"/>
                <a:chOff x="5926320" y="1336680"/>
                <a:chExt cx="685800" cy="685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947200" y="133668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926320" y="134892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991480" y="141552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6078600" y="1436040"/>
                <a:ext cx="433440" cy="456840"/>
              </a:xfrm>
              <a:prstGeom prst="octagon">
                <a:avLst>
                  <a:gd name="adj" fmla="val 29287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911840" y="1336680"/>
              <a:ext cx="685800" cy="685080"/>
              <a:chOff x="4911840" y="1336680"/>
              <a:chExt cx="685800" cy="6850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4911840" y="1336680"/>
                <a:ext cx="685800" cy="685080"/>
                <a:chOff x="4911840" y="1336680"/>
                <a:chExt cx="685800" cy="685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932720" y="133668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911840" y="134892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977000" y="141552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5024520" y="1456920"/>
                <a:ext cx="479160" cy="412200"/>
              </a:xfrm>
              <a:prstGeom prst="hexagon">
                <a:avLst>
                  <a:gd name="adj" fmla="val 29061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300800" y="574560"/>
              <a:ext cx="685800" cy="685080"/>
              <a:chOff x="7300800" y="574560"/>
              <a:chExt cx="685800" cy="68508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7300800" y="574560"/>
                <a:ext cx="685800" cy="685080"/>
                <a:chOff x="7300800" y="574560"/>
                <a:chExt cx="685800" cy="6850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321680" y="57456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00800" y="58680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65960" y="65340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5" name=""/>
              <p:cNvSpPr/>
              <p:nvPr/>
            </p:nvSpPr>
            <p:spPr>
              <a:xfrm>
                <a:off x="7413480" y="726480"/>
                <a:ext cx="482760" cy="456840"/>
              </a:xfrm>
              <a:custGeom>
                <a:avLst/>
                <a:gdLst>
                  <a:gd name="textAreaLeft" fmla="*/ 113400 w 482760"/>
                  <a:gd name="textAreaRight" fmla="*/ 369000 w 482760"/>
                  <a:gd name="textAreaTop" fmla="*/ 53640 h 456840"/>
                  <a:gd name="textAreaBottom" fmla="*/ 286560 h 4568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275440" y="574560"/>
              <a:ext cx="685800" cy="685080"/>
              <a:chOff x="5275440" y="574560"/>
              <a:chExt cx="685800" cy="68508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5275440" y="574560"/>
                <a:ext cx="685800" cy="685080"/>
                <a:chOff x="5275440" y="574560"/>
                <a:chExt cx="685800" cy="6850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296320" y="57456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275440" y="58680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340600" y="65340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" name=""/>
              <p:cNvSpPr/>
              <p:nvPr/>
            </p:nvSpPr>
            <p:spPr>
              <a:xfrm>
                <a:off x="5380200" y="642600"/>
                <a:ext cx="480960" cy="532800"/>
              </a:xfrm>
              <a:custGeom>
                <a:avLst/>
                <a:gdLst>
                  <a:gd name="textAreaLeft" fmla="*/ 109800 w 480960"/>
                  <a:gd name="textAreaRight" fmla="*/ 371160 w 480960"/>
                  <a:gd name="textAreaTop" fmla="*/ 121680 h 532800"/>
                  <a:gd name="textAreaBottom" fmla="*/ 41112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6249960" y="574560"/>
              <a:ext cx="685800" cy="685080"/>
              <a:chOff x="6249960" y="574560"/>
              <a:chExt cx="685800" cy="68508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6249960" y="574560"/>
                <a:ext cx="685800" cy="685080"/>
                <a:chOff x="6249960" y="574560"/>
                <a:chExt cx="685800" cy="685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6270840" y="57456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249960" y="58680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315120" y="65340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373800" y="742320"/>
                <a:ext cx="485640" cy="380880"/>
              </a:xfrm>
              <a:custGeom>
                <a:avLst/>
                <a:gdLst>
                  <a:gd name="textAreaLeft" fmla="*/ 106560 w 485640"/>
                  <a:gd name="textAreaRight" fmla="*/ 379080 w 485640"/>
                  <a:gd name="textAreaTop" fmla="*/ 83520 h 380880"/>
                  <a:gd name="textAreaBottom" fmla="*/ 297360 h 38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921720" y="1336680"/>
              <a:ext cx="685800" cy="685080"/>
              <a:chOff x="6921720" y="1336680"/>
              <a:chExt cx="685800" cy="68508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6921720" y="1336680"/>
                <a:ext cx="685800" cy="685080"/>
                <a:chOff x="6921720" y="1336680"/>
                <a:chExt cx="685800" cy="685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942600" y="133668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921720" y="134892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986880" y="141552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7058160" y="1436040"/>
                <a:ext cx="430200" cy="456840"/>
              </a:xfrm>
              <a:prstGeom prst="pentagon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897360" y="1336680"/>
              <a:ext cx="685800" cy="685080"/>
              <a:chOff x="3897360" y="1336680"/>
              <a:chExt cx="685800" cy="68508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3897360" y="1336680"/>
                <a:ext cx="685800" cy="685080"/>
                <a:chOff x="3897360" y="1336680"/>
                <a:chExt cx="685800" cy="685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918240" y="133668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97360" y="134892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962520" y="141552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"/>
              <p:cNvSpPr/>
              <p:nvPr/>
            </p:nvSpPr>
            <p:spPr>
              <a:xfrm>
                <a:off x="3973320" y="1428120"/>
                <a:ext cx="533520" cy="533160"/>
              </a:xfrm>
              <a:prstGeom prst="diamond">
                <a:avLst/>
              </a:prstGeom>
              <a:solidFill>
                <a:srgbClr val="cc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8315280" y="574560"/>
              <a:ext cx="685800" cy="685080"/>
              <a:chOff x="8315280" y="574560"/>
              <a:chExt cx="685800" cy="6850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8315280" y="574560"/>
                <a:ext cx="685800" cy="685080"/>
                <a:chOff x="8315280" y="574560"/>
                <a:chExt cx="685800" cy="6850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8336160" y="57456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315280" y="58680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380440" y="65340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8427960" y="650520"/>
                <a:ext cx="480960" cy="532800"/>
              </a:xfrm>
              <a:custGeom>
                <a:avLst/>
                <a:gdLst>
                  <a:gd name="textAreaLeft" fmla="*/ 109800 w 480960"/>
                  <a:gd name="textAreaRight" fmla="*/ 371160 w 480960"/>
                  <a:gd name="textAreaTop" fmla="*/ 121680 h 532800"/>
                  <a:gd name="textAreaBottom" fmla="*/ 411120 h 53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927520" y="1336680"/>
              <a:ext cx="685800" cy="685080"/>
              <a:chOff x="2927520" y="1336680"/>
              <a:chExt cx="685800" cy="6850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2927520" y="1336680"/>
                <a:ext cx="685800" cy="685080"/>
                <a:chOff x="2927520" y="1336680"/>
                <a:chExt cx="685800" cy="6850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2948400" y="1336680"/>
                  <a:ext cx="652320" cy="5918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927520" y="1348920"/>
                  <a:ext cx="685800" cy="672840"/>
                </a:xfrm>
                <a:prstGeom prst="cloudCallout">
                  <a:avLst>
                    <a:gd name="adj1" fmla="val -80092"/>
                    <a:gd name="adj2" fmla="val -41037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992680" y="1415520"/>
                  <a:ext cx="569880" cy="4982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3027240" y="1412280"/>
                <a:ext cx="481320" cy="533160"/>
              </a:xfrm>
              <a:custGeom>
                <a:avLst/>
                <a:gdLst>
                  <a:gd name="textAreaLeft" fmla="*/ 109800 w 481320"/>
                  <a:gd name="textAreaRight" fmla="*/ 371520 w 481320"/>
                  <a:gd name="textAreaTop" fmla="*/ 121680 h 533160"/>
                  <a:gd name="textAreaBottom" fmla="*/ 41148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971800" y="4343400"/>
            <a:ext cx="2209680" cy="21337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cap="rnd" w="1908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0" y="4724280"/>
            <a:ext cx="3484800" cy="714600"/>
            <a:chOff x="2286000" y="4724280"/>
            <a:chExt cx="3484800" cy="714600"/>
          </a:xfrm>
        </p:grpSpPr>
        <p:grpSp>
          <p:nvGrpSpPr>
            <p:cNvPr id="234" name=""/>
            <p:cNvGrpSpPr/>
            <p:nvPr/>
          </p:nvGrpSpPr>
          <p:grpSpPr>
            <a:xfrm>
              <a:off x="2760480" y="4724280"/>
              <a:ext cx="2573280" cy="606600"/>
              <a:chOff x="2760480" y="4724280"/>
              <a:chExt cx="2573280" cy="606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760480" y="47340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240080" y="47242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286000" y="50436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42680" y="51624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286000" y="4952880"/>
            <a:ext cx="3484800" cy="714600"/>
            <a:chOff x="2286000" y="4952880"/>
            <a:chExt cx="3484800" cy="714600"/>
          </a:xfrm>
        </p:grpSpPr>
        <p:grpSp>
          <p:nvGrpSpPr>
            <p:cNvPr id="240" name=""/>
            <p:cNvGrpSpPr/>
            <p:nvPr/>
          </p:nvGrpSpPr>
          <p:grpSpPr>
            <a:xfrm>
              <a:off x="2760480" y="4952880"/>
              <a:ext cx="2573280" cy="606600"/>
              <a:chOff x="2760480" y="4952880"/>
              <a:chExt cx="2573280" cy="606600"/>
            </a:xfrm>
          </p:grpSpPr>
          <p:sp>
            <p:nvSpPr>
              <p:cNvPr id="241" name=""/>
              <p:cNvSpPr/>
              <p:nvPr/>
            </p:nvSpPr>
            <p:spPr>
              <a:xfrm>
                <a:off x="2760480" y="49626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240080" y="49528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2286000" y="52722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42680" y="53910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286000" y="5181480"/>
            <a:ext cx="3484800" cy="714600"/>
            <a:chOff x="2286000" y="5181480"/>
            <a:chExt cx="3484800" cy="714600"/>
          </a:xfrm>
        </p:grpSpPr>
        <p:grpSp>
          <p:nvGrpSpPr>
            <p:cNvPr id="246" name=""/>
            <p:cNvGrpSpPr/>
            <p:nvPr/>
          </p:nvGrpSpPr>
          <p:grpSpPr>
            <a:xfrm>
              <a:off x="2760480" y="5181480"/>
              <a:ext cx="2573280" cy="606600"/>
              <a:chOff x="2760480" y="5181480"/>
              <a:chExt cx="2573280" cy="606600"/>
            </a:xfrm>
          </p:grpSpPr>
          <p:sp>
            <p:nvSpPr>
              <p:cNvPr id="247" name=""/>
              <p:cNvSpPr/>
              <p:nvPr/>
            </p:nvSpPr>
            <p:spPr>
              <a:xfrm>
                <a:off x="2760480" y="51912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240080" y="51814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286000" y="55008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42680" y="56196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286000" y="5410080"/>
            <a:ext cx="3484800" cy="714600"/>
            <a:chOff x="2286000" y="5410080"/>
            <a:chExt cx="3484800" cy="714600"/>
          </a:xfrm>
        </p:grpSpPr>
        <p:grpSp>
          <p:nvGrpSpPr>
            <p:cNvPr id="252" name=""/>
            <p:cNvGrpSpPr/>
            <p:nvPr/>
          </p:nvGrpSpPr>
          <p:grpSpPr>
            <a:xfrm>
              <a:off x="2760480" y="5410080"/>
              <a:ext cx="2573280" cy="606600"/>
              <a:chOff x="2760480" y="5410080"/>
              <a:chExt cx="2573280" cy="606600"/>
            </a:xfrm>
          </p:grpSpPr>
          <p:sp>
            <p:nvSpPr>
              <p:cNvPr id="253" name=""/>
              <p:cNvSpPr/>
              <p:nvPr/>
            </p:nvSpPr>
            <p:spPr>
              <a:xfrm>
                <a:off x="2760480" y="54198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240080" y="54100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286000" y="5729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42680" y="58482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5909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48520" y="2895480"/>
            <a:ext cx="2209680" cy="21337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cap="rnd" w="1908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562720" y="3505320"/>
            <a:ext cx="3484800" cy="714600"/>
            <a:chOff x="5562720" y="3505320"/>
            <a:chExt cx="3484800" cy="714600"/>
          </a:xfrm>
        </p:grpSpPr>
        <p:grpSp>
          <p:nvGrpSpPr>
            <p:cNvPr id="260" name=""/>
            <p:cNvGrpSpPr/>
            <p:nvPr/>
          </p:nvGrpSpPr>
          <p:grpSpPr>
            <a:xfrm>
              <a:off x="6037200" y="3505320"/>
              <a:ext cx="2573280" cy="606600"/>
              <a:chOff x="6037200" y="3505320"/>
              <a:chExt cx="2573280" cy="606600"/>
            </a:xfrm>
          </p:grpSpPr>
          <p:sp>
            <p:nvSpPr>
              <p:cNvPr id="261" name=""/>
              <p:cNvSpPr/>
              <p:nvPr/>
            </p:nvSpPr>
            <p:spPr>
              <a:xfrm>
                <a:off x="6037200" y="35150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16800" y="35053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5562720" y="3824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19400" y="39434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562720" y="3733920"/>
            <a:ext cx="3484800" cy="714600"/>
            <a:chOff x="5562720" y="3733920"/>
            <a:chExt cx="3484800" cy="714600"/>
          </a:xfrm>
        </p:grpSpPr>
        <p:grpSp>
          <p:nvGrpSpPr>
            <p:cNvPr id="266" name=""/>
            <p:cNvGrpSpPr/>
            <p:nvPr/>
          </p:nvGrpSpPr>
          <p:grpSpPr>
            <a:xfrm>
              <a:off x="6037200" y="3733920"/>
              <a:ext cx="2573280" cy="606600"/>
              <a:chOff x="6037200" y="3733920"/>
              <a:chExt cx="2573280" cy="606600"/>
            </a:xfrm>
          </p:grpSpPr>
          <p:sp>
            <p:nvSpPr>
              <p:cNvPr id="267" name=""/>
              <p:cNvSpPr/>
              <p:nvPr/>
            </p:nvSpPr>
            <p:spPr>
              <a:xfrm>
                <a:off x="6037200" y="37436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16800" y="37339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5562720" y="40532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19400" y="41720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867280" y="4419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3520" y="457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s of different prox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present the same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90720" y="1828800"/>
            <a:ext cx="2209680" cy="21337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cap="rnd" w="1908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04920" y="1981080"/>
            <a:ext cx="3484800" cy="714600"/>
            <a:chOff x="304920" y="1981080"/>
            <a:chExt cx="3484800" cy="714600"/>
          </a:xfrm>
        </p:grpSpPr>
        <p:grpSp>
          <p:nvGrpSpPr>
            <p:cNvPr id="275" name=""/>
            <p:cNvGrpSpPr/>
            <p:nvPr/>
          </p:nvGrpSpPr>
          <p:grpSpPr>
            <a:xfrm>
              <a:off x="779400" y="1981080"/>
              <a:ext cx="2573280" cy="606600"/>
              <a:chOff x="779400" y="1981080"/>
              <a:chExt cx="2573280" cy="606600"/>
            </a:xfrm>
          </p:grpSpPr>
          <p:sp>
            <p:nvSpPr>
              <p:cNvPr id="276" name=""/>
              <p:cNvSpPr/>
              <p:nvPr/>
            </p:nvSpPr>
            <p:spPr>
              <a:xfrm>
                <a:off x="779400" y="19908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59000" y="19810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04920" y="2300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61600" y="24192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04920" y="2209680"/>
            <a:ext cx="3484800" cy="714600"/>
            <a:chOff x="304920" y="2209680"/>
            <a:chExt cx="3484800" cy="714600"/>
          </a:xfrm>
        </p:grpSpPr>
        <p:grpSp>
          <p:nvGrpSpPr>
            <p:cNvPr id="281" name=""/>
            <p:cNvGrpSpPr/>
            <p:nvPr/>
          </p:nvGrpSpPr>
          <p:grpSpPr>
            <a:xfrm>
              <a:off x="779400" y="2209680"/>
              <a:ext cx="2573280" cy="606600"/>
              <a:chOff x="779400" y="2209680"/>
              <a:chExt cx="2573280" cy="606600"/>
            </a:xfrm>
          </p:grpSpPr>
          <p:sp>
            <p:nvSpPr>
              <p:cNvPr id="282" name=""/>
              <p:cNvSpPr/>
              <p:nvPr/>
            </p:nvSpPr>
            <p:spPr>
              <a:xfrm>
                <a:off x="779400" y="22194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59000" y="22096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04920" y="25290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61600" y="26478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04920" y="2438280"/>
            <a:ext cx="3484800" cy="714600"/>
            <a:chOff x="304920" y="2438280"/>
            <a:chExt cx="3484800" cy="714600"/>
          </a:xfrm>
        </p:grpSpPr>
        <p:grpSp>
          <p:nvGrpSpPr>
            <p:cNvPr id="287" name=""/>
            <p:cNvGrpSpPr/>
            <p:nvPr/>
          </p:nvGrpSpPr>
          <p:grpSpPr>
            <a:xfrm>
              <a:off x="779400" y="2438280"/>
              <a:ext cx="2573280" cy="606600"/>
              <a:chOff x="779400" y="2438280"/>
              <a:chExt cx="2573280" cy="606600"/>
            </a:xfrm>
          </p:grpSpPr>
          <p:sp>
            <p:nvSpPr>
              <p:cNvPr id="288" name=""/>
              <p:cNvSpPr/>
              <p:nvPr/>
            </p:nvSpPr>
            <p:spPr>
              <a:xfrm>
                <a:off x="779400" y="24480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59000" y="24382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304920" y="27576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61600" y="28764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04920" y="2666880"/>
            <a:ext cx="3484800" cy="714600"/>
            <a:chOff x="304920" y="2666880"/>
            <a:chExt cx="3484800" cy="714600"/>
          </a:xfrm>
        </p:grpSpPr>
        <p:grpSp>
          <p:nvGrpSpPr>
            <p:cNvPr id="293" name=""/>
            <p:cNvGrpSpPr/>
            <p:nvPr/>
          </p:nvGrpSpPr>
          <p:grpSpPr>
            <a:xfrm>
              <a:off x="779400" y="2666880"/>
              <a:ext cx="2573280" cy="606600"/>
              <a:chOff x="779400" y="2666880"/>
              <a:chExt cx="2573280" cy="606600"/>
            </a:xfrm>
          </p:grpSpPr>
          <p:sp>
            <p:nvSpPr>
              <p:cNvPr id="294" name=""/>
              <p:cNvSpPr/>
              <p:nvPr/>
            </p:nvSpPr>
            <p:spPr>
              <a:xfrm>
                <a:off x="779400" y="26766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59000" y="26668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304920" y="29862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61600" y="31050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04920" y="2895480"/>
            <a:ext cx="3484800" cy="714600"/>
            <a:chOff x="304920" y="2895480"/>
            <a:chExt cx="3484800" cy="714600"/>
          </a:xfrm>
        </p:grpSpPr>
        <p:grpSp>
          <p:nvGrpSpPr>
            <p:cNvPr id="299" name=""/>
            <p:cNvGrpSpPr/>
            <p:nvPr/>
          </p:nvGrpSpPr>
          <p:grpSpPr>
            <a:xfrm>
              <a:off x="779400" y="2895480"/>
              <a:ext cx="2573280" cy="606600"/>
              <a:chOff x="779400" y="2895480"/>
              <a:chExt cx="2573280" cy="606600"/>
            </a:xfrm>
          </p:grpSpPr>
          <p:sp>
            <p:nvSpPr>
              <p:cNvPr id="300" name=""/>
              <p:cNvSpPr/>
              <p:nvPr/>
            </p:nvSpPr>
            <p:spPr>
              <a:xfrm>
                <a:off x="779400" y="29052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59000" y="28954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304920" y="32148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61600" y="33336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04920" y="3124080"/>
            <a:ext cx="3484800" cy="714600"/>
            <a:chOff x="304920" y="3124080"/>
            <a:chExt cx="3484800" cy="714600"/>
          </a:xfrm>
        </p:grpSpPr>
        <p:grpSp>
          <p:nvGrpSpPr>
            <p:cNvPr id="305" name=""/>
            <p:cNvGrpSpPr/>
            <p:nvPr/>
          </p:nvGrpSpPr>
          <p:grpSpPr>
            <a:xfrm>
              <a:off x="779400" y="3124080"/>
              <a:ext cx="2573280" cy="606600"/>
              <a:chOff x="779400" y="3124080"/>
              <a:chExt cx="2573280" cy="606600"/>
            </a:xfrm>
          </p:grpSpPr>
          <p:sp>
            <p:nvSpPr>
              <p:cNvPr id="306" name=""/>
              <p:cNvSpPr/>
              <p:nvPr/>
            </p:nvSpPr>
            <p:spPr>
              <a:xfrm>
                <a:off x="779400" y="31338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59000" y="31240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04920" y="3443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61600" y="35622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038480" y="1447920"/>
            <a:ext cx="1600200" cy="914400"/>
            <a:chOff x="4038480" y="1447920"/>
            <a:chExt cx="1600200" cy="914400"/>
          </a:xfrm>
        </p:grpSpPr>
        <p:sp>
          <p:nvSpPr>
            <p:cNvPr id="311" name=""/>
            <p:cNvSpPr/>
            <p:nvPr/>
          </p:nvSpPr>
          <p:spPr>
            <a:xfrm>
              <a:off x="4038480" y="1447920"/>
              <a:ext cx="1600200" cy="914400"/>
            </a:xfrm>
            <a:prstGeom prst="cloudCallout">
              <a:avLst>
                <a:gd name="adj1" fmla="val -47717"/>
                <a:gd name="adj2" fmla="val 260763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ubj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38480" y="1447920"/>
              <a:ext cx="1600200" cy="914400"/>
            </a:xfrm>
            <a:prstGeom prst="cloudCallout">
              <a:avLst>
                <a:gd name="adj1" fmla="val 115875"/>
                <a:gd name="adj2" fmla="val 116666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ubj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38480" y="1447920"/>
              <a:ext cx="1600200" cy="914400"/>
            </a:xfrm>
            <a:prstGeom prst="cloudCallout">
              <a:avLst>
                <a:gd name="adj1" fmla="val -125694"/>
                <a:gd name="adj2" fmla="val 12328"/>
              </a:avLst>
            </a:prstGeom>
            <a:solidFill>
              <a:srgbClr val="ff99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subj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609480" y="3352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04920" y="2300400"/>
            <a:ext cx="546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71800" y="4343400"/>
            <a:ext cx="2209680" cy="21337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cap="rnd" w="1908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0" y="4724280"/>
            <a:ext cx="3484800" cy="714600"/>
            <a:chOff x="2286000" y="4724280"/>
            <a:chExt cx="3484800" cy="714600"/>
          </a:xfrm>
        </p:grpSpPr>
        <p:grpSp>
          <p:nvGrpSpPr>
            <p:cNvPr id="318" name=""/>
            <p:cNvGrpSpPr/>
            <p:nvPr/>
          </p:nvGrpSpPr>
          <p:grpSpPr>
            <a:xfrm>
              <a:off x="2760480" y="4724280"/>
              <a:ext cx="2573280" cy="606600"/>
              <a:chOff x="2760480" y="4724280"/>
              <a:chExt cx="2573280" cy="606600"/>
            </a:xfrm>
          </p:grpSpPr>
          <p:sp>
            <p:nvSpPr>
              <p:cNvPr id="319" name=""/>
              <p:cNvSpPr/>
              <p:nvPr/>
            </p:nvSpPr>
            <p:spPr>
              <a:xfrm>
                <a:off x="2760480" y="47340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240080" y="47242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286000" y="50436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42680" y="51624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286000" y="4952880"/>
            <a:ext cx="3484800" cy="714600"/>
            <a:chOff x="2286000" y="4952880"/>
            <a:chExt cx="3484800" cy="714600"/>
          </a:xfrm>
        </p:grpSpPr>
        <p:grpSp>
          <p:nvGrpSpPr>
            <p:cNvPr id="324" name=""/>
            <p:cNvGrpSpPr/>
            <p:nvPr/>
          </p:nvGrpSpPr>
          <p:grpSpPr>
            <a:xfrm>
              <a:off x="2760480" y="4952880"/>
              <a:ext cx="2573280" cy="606600"/>
              <a:chOff x="2760480" y="4952880"/>
              <a:chExt cx="2573280" cy="606600"/>
            </a:xfrm>
          </p:grpSpPr>
          <p:sp>
            <p:nvSpPr>
              <p:cNvPr id="325" name=""/>
              <p:cNvSpPr/>
              <p:nvPr/>
            </p:nvSpPr>
            <p:spPr>
              <a:xfrm>
                <a:off x="2760480" y="49626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240080" y="49528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2286000" y="52722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2680" y="53910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286000" y="5181480"/>
            <a:ext cx="3484800" cy="714600"/>
            <a:chOff x="2286000" y="5181480"/>
            <a:chExt cx="3484800" cy="714600"/>
          </a:xfrm>
        </p:grpSpPr>
        <p:grpSp>
          <p:nvGrpSpPr>
            <p:cNvPr id="330" name=""/>
            <p:cNvGrpSpPr/>
            <p:nvPr/>
          </p:nvGrpSpPr>
          <p:grpSpPr>
            <a:xfrm>
              <a:off x="2760480" y="5181480"/>
              <a:ext cx="2573280" cy="606600"/>
              <a:chOff x="2760480" y="5181480"/>
              <a:chExt cx="2573280" cy="606600"/>
            </a:xfrm>
          </p:grpSpPr>
          <p:sp>
            <p:nvSpPr>
              <p:cNvPr id="331" name=""/>
              <p:cNvSpPr/>
              <p:nvPr/>
            </p:nvSpPr>
            <p:spPr>
              <a:xfrm>
                <a:off x="2760480" y="51912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240080" y="51814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2286000" y="55008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42680" y="56196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286000" y="5410080"/>
            <a:ext cx="3484800" cy="714600"/>
            <a:chOff x="2286000" y="5410080"/>
            <a:chExt cx="3484800" cy="714600"/>
          </a:xfrm>
        </p:grpSpPr>
        <p:grpSp>
          <p:nvGrpSpPr>
            <p:cNvPr id="336" name=""/>
            <p:cNvGrpSpPr/>
            <p:nvPr/>
          </p:nvGrpSpPr>
          <p:grpSpPr>
            <a:xfrm>
              <a:off x="2760480" y="5410080"/>
              <a:ext cx="2573280" cy="606600"/>
              <a:chOff x="2760480" y="5410080"/>
              <a:chExt cx="2573280" cy="606600"/>
            </a:xfrm>
          </p:grpSpPr>
          <p:sp>
            <p:nvSpPr>
              <p:cNvPr id="337" name=""/>
              <p:cNvSpPr/>
              <p:nvPr/>
            </p:nvSpPr>
            <p:spPr>
              <a:xfrm>
                <a:off x="2760480" y="54198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40080" y="54100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286000" y="5729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242680" y="58482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5909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48520" y="2895480"/>
            <a:ext cx="2209680" cy="21337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cap="rnd" w="1908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562720" y="3505320"/>
            <a:ext cx="3484800" cy="714600"/>
            <a:chOff x="5562720" y="3505320"/>
            <a:chExt cx="3484800" cy="714600"/>
          </a:xfrm>
        </p:grpSpPr>
        <p:grpSp>
          <p:nvGrpSpPr>
            <p:cNvPr id="344" name=""/>
            <p:cNvGrpSpPr/>
            <p:nvPr/>
          </p:nvGrpSpPr>
          <p:grpSpPr>
            <a:xfrm>
              <a:off x="6037200" y="3505320"/>
              <a:ext cx="2573280" cy="606600"/>
              <a:chOff x="6037200" y="3505320"/>
              <a:chExt cx="2573280" cy="606600"/>
            </a:xfrm>
          </p:grpSpPr>
          <p:sp>
            <p:nvSpPr>
              <p:cNvPr id="345" name=""/>
              <p:cNvSpPr/>
              <p:nvPr/>
            </p:nvSpPr>
            <p:spPr>
              <a:xfrm>
                <a:off x="6037200" y="35150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6800" y="35053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5562720" y="38246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9400" y="39434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562720" y="3733920"/>
            <a:ext cx="3484800" cy="714600"/>
            <a:chOff x="5562720" y="3733920"/>
            <a:chExt cx="3484800" cy="714600"/>
          </a:xfrm>
        </p:grpSpPr>
        <p:grpSp>
          <p:nvGrpSpPr>
            <p:cNvPr id="350" name=""/>
            <p:cNvGrpSpPr/>
            <p:nvPr/>
          </p:nvGrpSpPr>
          <p:grpSpPr>
            <a:xfrm>
              <a:off x="6037200" y="3733920"/>
              <a:ext cx="2573280" cy="606600"/>
              <a:chOff x="6037200" y="3733920"/>
              <a:chExt cx="2573280" cy="606600"/>
            </a:xfrm>
          </p:grpSpPr>
          <p:sp>
            <p:nvSpPr>
              <p:cNvPr id="351" name=""/>
              <p:cNvSpPr/>
              <p:nvPr/>
            </p:nvSpPr>
            <p:spPr>
              <a:xfrm>
                <a:off x="6037200" y="374364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16800" y="373392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5562720" y="40532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9400" y="417204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5867280" y="4419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33520" y="4572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r more properties of every prox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ts su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90720" y="1828800"/>
            <a:ext cx="2209680" cy="213372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cap="rnd" w="19080">
            <a:solidFill>
              <a:srgbClr val="ff99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04920" y="2209680"/>
            <a:ext cx="3484800" cy="714600"/>
            <a:chOff x="304920" y="2209680"/>
            <a:chExt cx="3484800" cy="714600"/>
          </a:xfrm>
        </p:grpSpPr>
        <p:grpSp>
          <p:nvGrpSpPr>
            <p:cNvPr id="359" name=""/>
            <p:cNvGrpSpPr/>
            <p:nvPr/>
          </p:nvGrpSpPr>
          <p:grpSpPr>
            <a:xfrm>
              <a:off x="779400" y="2209680"/>
              <a:ext cx="2573280" cy="606600"/>
              <a:chOff x="779400" y="2209680"/>
              <a:chExt cx="2573280" cy="606600"/>
            </a:xfrm>
          </p:grpSpPr>
          <p:sp>
            <p:nvSpPr>
              <p:cNvPr id="360" name=""/>
              <p:cNvSpPr/>
              <p:nvPr/>
            </p:nvSpPr>
            <p:spPr>
              <a:xfrm>
                <a:off x="779400" y="22194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259000" y="22096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304920" y="25290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61600" y="26478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304920" y="2438280"/>
            <a:ext cx="3484800" cy="714600"/>
            <a:chOff x="304920" y="2438280"/>
            <a:chExt cx="3484800" cy="714600"/>
          </a:xfrm>
        </p:grpSpPr>
        <p:grpSp>
          <p:nvGrpSpPr>
            <p:cNvPr id="365" name=""/>
            <p:cNvGrpSpPr/>
            <p:nvPr/>
          </p:nvGrpSpPr>
          <p:grpSpPr>
            <a:xfrm>
              <a:off x="779400" y="2438280"/>
              <a:ext cx="2573280" cy="606600"/>
              <a:chOff x="779400" y="2438280"/>
              <a:chExt cx="2573280" cy="606600"/>
            </a:xfrm>
          </p:grpSpPr>
          <p:sp>
            <p:nvSpPr>
              <p:cNvPr id="366" name=""/>
              <p:cNvSpPr/>
              <p:nvPr/>
            </p:nvSpPr>
            <p:spPr>
              <a:xfrm>
                <a:off x="779400" y="24480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259000" y="24382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304920" y="27576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61600" y="28764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04920" y="2666880"/>
            <a:ext cx="3484800" cy="714600"/>
            <a:chOff x="304920" y="2666880"/>
            <a:chExt cx="3484800" cy="714600"/>
          </a:xfrm>
        </p:grpSpPr>
        <p:grpSp>
          <p:nvGrpSpPr>
            <p:cNvPr id="371" name=""/>
            <p:cNvGrpSpPr/>
            <p:nvPr/>
          </p:nvGrpSpPr>
          <p:grpSpPr>
            <a:xfrm>
              <a:off x="779400" y="2666880"/>
              <a:ext cx="2573280" cy="606600"/>
              <a:chOff x="779400" y="2666880"/>
              <a:chExt cx="2573280" cy="606600"/>
            </a:xfrm>
          </p:grpSpPr>
          <p:sp>
            <p:nvSpPr>
              <p:cNvPr id="372" name=""/>
              <p:cNvSpPr/>
              <p:nvPr/>
            </p:nvSpPr>
            <p:spPr>
              <a:xfrm>
                <a:off x="779400" y="26766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259000" y="26668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304920" y="29862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61600" y="31050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04920" y="2895480"/>
            <a:ext cx="3484800" cy="714600"/>
            <a:chOff x="304920" y="2895480"/>
            <a:chExt cx="3484800" cy="714600"/>
          </a:xfrm>
        </p:grpSpPr>
        <p:grpSp>
          <p:nvGrpSpPr>
            <p:cNvPr id="377" name=""/>
            <p:cNvGrpSpPr/>
            <p:nvPr/>
          </p:nvGrpSpPr>
          <p:grpSpPr>
            <a:xfrm>
              <a:off x="779400" y="2895480"/>
              <a:ext cx="2573280" cy="606600"/>
              <a:chOff x="779400" y="2895480"/>
              <a:chExt cx="2573280" cy="606600"/>
            </a:xfrm>
          </p:grpSpPr>
          <p:sp>
            <p:nvSpPr>
              <p:cNvPr id="378" name=""/>
              <p:cNvSpPr/>
              <p:nvPr/>
            </p:nvSpPr>
            <p:spPr>
              <a:xfrm>
                <a:off x="779400" y="29052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259000" y="28954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304920" y="32148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61600" y="33336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04920" y="3124080"/>
            <a:ext cx="3484800" cy="714600"/>
            <a:chOff x="304920" y="3124080"/>
            <a:chExt cx="3484800" cy="714600"/>
          </a:xfrm>
        </p:grpSpPr>
        <p:grpSp>
          <p:nvGrpSpPr>
            <p:cNvPr id="383" name=""/>
            <p:cNvGrpSpPr/>
            <p:nvPr/>
          </p:nvGrpSpPr>
          <p:grpSpPr>
            <a:xfrm>
              <a:off x="779400" y="3124080"/>
              <a:ext cx="2573280" cy="606600"/>
              <a:chOff x="779400" y="3124080"/>
              <a:chExt cx="2573280" cy="606600"/>
            </a:xfrm>
          </p:grpSpPr>
          <p:sp>
            <p:nvSpPr>
              <p:cNvPr id="384" name=""/>
              <p:cNvSpPr/>
              <p:nvPr/>
            </p:nvSpPr>
            <p:spPr>
              <a:xfrm>
                <a:off x="779400" y="3133800"/>
                <a:ext cx="1473120" cy="485640"/>
              </a:xfrm>
              <a:custGeom>
                <a:avLst/>
                <a:gdLst/>
                <a:ahLst/>
                <a:rect l="l" t="t" r="r" b="b"/>
                <a:pathLst>
                  <a:path w="928" h="306">
                    <a:moveTo>
                      <a:pt x="928" y="6"/>
                    </a:moveTo>
                    <a:cubicBezTo>
                      <a:pt x="636" y="0"/>
                      <a:pt x="394" y="29"/>
                      <a:pt x="239" y="79"/>
                    </a:cubicBezTo>
                    <a:cubicBezTo>
                      <a:pt x="84" y="129"/>
                      <a:pt x="50" y="259"/>
                      <a:pt x="0" y="306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59000" y="3124080"/>
                <a:ext cx="1093680" cy="606600"/>
              </a:xfrm>
              <a:custGeom>
                <a:avLst/>
                <a:gdLst/>
                <a:ahLst/>
                <a:rect l="l" t="t" r="r" b="b"/>
                <a:pathLst>
                  <a:path w="689" h="382">
                    <a:moveTo>
                      <a:pt x="0" y="0"/>
                    </a:moveTo>
                    <a:cubicBezTo>
                      <a:pt x="73" y="23"/>
                      <a:pt x="321" y="76"/>
                      <a:pt x="436" y="140"/>
                    </a:cubicBezTo>
                    <a:cubicBezTo>
                      <a:pt x="551" y="204"/>
                      <a:pt x="636" y="332"/>
                      <a:pt x="689" y="382"/>
                    </a:cubicBezTo>
                  </a:path>
                </a:pathLst>
              </a:custGeom>
              <a:noFill/>
              <a:ln w="25560">
                <a:solidFill>
                  <a:srgbClr val="808080"/>
                </a:solidFill>
                <a:prstDash val="sysDot"/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04920" y="3443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61600" y="3562200"/>
              <a:ext cx="5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609480" y="3352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id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1371600"/>
            <a:ext cx="9144000" cy="52578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61600" y="2419200"/>
            <a:ext cx="52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79400" y="1981080"/>
            <a:ext cx="2573280" cy="606600"/>
            <a:chOff x="779400" y="1981080"/>
            <a:chExt cx="2573280" cy="606600"/>
          </a:xfrm>
        </p:grpSpPr>
        <p:sp>
          <p:nvSpPr>
            <p:cNvPr id="392" name=""/>
            <p:cNvSpPr/>
            <p:nvPr/>
          </p:nvSpPr>
          <p:spPr>
            <a:xfrm>
              <a:off x="779400" y="1990800"/>
              <a:ext cx="1473120" cy="485640"/>
            </a:xfrm>
            <a:custGeom>
              <a:avLst/>
              <a:gdLst/>
              <a:ahLst/>
              <a:rect l="l" t="t" r="r" b="b"/>
              <a:pathLst>
                <a:path w="928" h="306">
                  <a:moveTo>
                    <a:pt x="928" y="6"/>
                  </a:moveTo>
                  <a:cubicBezTo>
                    <a:pt x="636" y="0"/>
                    <a:pt x="394" y="29"/>
                    <a:pt x="239" y="79"/>
                  </a:cubicBezTo>
                  <a:cubicBezTo>
                    <a:pt x="84" y="129"/>
                    <a:pt x="50" y="259"/>
                    <a:pt x="0" y="306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59000" y="1981080"/>
              <a:ext cx="1093680" cy="606600"/>
            </a:xfrm>
            <a:custGeom>
              <a:avLst/>
              <a:gdLst/>
              <a:ahLst/>
              <a:rect l="l" t="t" r="r" b="b"/>
              <a:pathLst>
                <a:path w="689" h="382">
                  <a:moveTo>
                    <a:pt x="0" y="0"/>
                  </a:moveTo>
                  <a:cubicBezTo>
                    <a:pt x="73" y="23"/>
                    <a:pt x="321" y="76"/>
                    <a:pt x="436" y="140"/>
                  </a:cubicBezTo>
                  <a:cubicBezTo>
                    <a:pt x="551" y="204"/>
                    <a:pt x="636" y="332"/>
                    <a:pt x="689" y="382"/>
                  </a:cubicBezTo>
                </a:path>
              </a:pathLst>
            </a:custGeom>
            <a:noFill/>
            <a:ln w="25560">
              <a:solidFill>
                <a:srgbClr val="808080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04920" y="1981080"/>
            <a:ext cx="3484800" cy="714600"/>
            <a:chOff x="304920" y="1981080"/>
            <a:chExt cx="3484800" cy="714600"/>
          </a:xfrm>
        </p:grpSpPr>
        <p:sp>
          <p:nvSpPr>
            <p:cNvPr id="395" name=""/>
            <p:cNvSpPr/>
            <p:nvPr/>
          </p:nvSpPr>
          <p:spPr>
            <a:xfrm>
              <a:off x="304920" y="2300400"/>
              <a:ext cx="54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61600" y="2419200"/>
              <a:ext cx="52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9400" y="1990800"/>
              <a:ext cx="1473120" cy="485640"/>
            </a:xfrm>
            <a:custGeom>
              <a:avLst/>
              <a:gdLst/>
              <a:ahLst/>
              <a:rect l="l" t="t" r="r" b="b"/>
              <a:pathLst>
                <a:path w="928" h="306">
                  <a:moveTo>
                    <a:pt x="928" y="6"/>
                  </a:moveTo>
                  <a:cubicBezTo>
                    <a:pt x="636" y="0"/>
                    <a:pt x="394" y="29"/>
                    <a:pt x="239" y="79"/>
                  </a:cubicBezTo>
                  <a:cubicBezTo>
                    <a:pt x="84" y="129"/>
                    <a:pt x="50" y="259"/>
                    <a:pt x="0" y="3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59000" y="1981080"/>
              <a:ext cx="1093680" cy="606600"/>
            </a:xfrm>
            <a:custGeom>
              <a:avLst/>
              <a:gdLst/>
              <a:ahLst/>
              <a:rect l="l" t="t" r="r" b="b"/>
              <a:pathLst>
                <a:path w="689" h="382">
                  <a:moveTo>
                    <a:pt x="0" y="0"/>
                  </a:moveTo>
                  <a:cubicBezTo>
                    <a:pt x="73" y="23"/>
                    <a:pt x="321" y="76"/>
                    <a:pt x="436" y="140"/>
                  </a:cubicBezTo>
                  <a:cubicBezTo>
                    <a:pt x="551" y="204"/>
                    <a:pt x="636" y="332"/>
                    <a:pt x="689" y="382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038480" y="1447920"/>
            <a:ext cx="1600200" cy="914400"/>
          </a:xfrm>
          <a:prstGeom prst="cloudCallout">
            <a:avLst>
              <a:gd name="adj1" fmla="val -152379"/>
              <a:gd name="adj2" fmla="val 34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04920" y="2895480"/>
            <a:ext cx="3484800" cy="714600"/>
            <a:chOff x="304920" y="2895480"/>
            <a:chExt cx="3484800" cy="714600"/>
          </a:xfrm>
        </p:grpSpPr>
        <p:sp>
          <p:nvSpPr>
            <p:cNvPr id="401" name=""/>
            <p:cNvSpPr/>
            <p:nvPr/>
          </p:nvSpPr>
          <p:spPr>
            <a:xfrm>
              <a:off x="304920" y="3214800"/>
              <a:ext cx="54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61600" y="3333600"/>
              <a:ext cx="52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79400" y="2905200"/>
              <a:ext cx="1473120" cy="485640"/>
            </a:xfrm>
            <a:custGeom>
              <a:avLst/>
              <a:gdLst/>
              <a:ahLst/>
              <a:rect l="l" t="t" r="r" b="b"/>
              <a:pathLst>
                <a:path w="928" h="306">
                  <a:moveTo>
                    <a:pt x="928" y="6"/>
                  </a:moveTo>
                  <a:cubicBezTo>
                    <a:pt x="636" y="0"/>
                    <a:pt x="394" y="29"/>
                    <a:pt x="239" y="79"/>
                  </a:cubicBezTo>
                  <a:cubicBezTo>
                    <a:pt x="84" y="129"/>
                    <a:pt x="50" y="259"/>
                    <a:pt x="0" y="3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59000" y="2895480"/>
              <a:ext cx="1093680" cy="606600"/>
            </a:xfrm>
            <a:custGeom>
              <a:avLst/>
              <a:gdLst/>
              <a:ahLst/>
              <a:rect l="l" t="t" r="r" b="b"/>
              <a:pathLst>
                <a:path w="689" h="382">
                  <a:moveTo>
                    <a:pt x="0" y="0"/>
                  </a:moveTo>
                  <a:cubicBezTo>
                    <a:pt x="73" y="23"/>
                    <a:pt x="321" y="76"/>
                    <a:pt x="436" y="140"/>
                  </a:cubicBezTo>
                  <a:cubicBezTo>
                    <a:pt x="551" y="204"/>
                    <a:pt x="636" y="332"/>
                    <a:pt x="689" y="382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286000" y="4724280"/>
            <a:ext cx="3484800" cy="714600"/>
            <a:chOff x="2286000" y="4724280"/>
            <a:chExt cx="3484800" cy="714600"/>
          </a:xfrm>
        </p:grpSpPr>
        <p:sp>
          <p:nvSpPr>
            <p:cNvPr id="406" name=""/>
            <p:cNvSpPr/>
            <p:nvPr/>
          </p:nvSpPr>
          <p:spPr>
            <a:xfrm>
              <a:off x="2286000" y="5043600"/>
              <a:ext cx="54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42680" y="5162400"/>
              <a:ext cx="52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60480" y="4734000"/>
              <a:ext cx="1473120" cy="485640"/>
            </a:xfrm>
            <a:custGeom>
              <a:avLst/>
              <a:gdLst/>
              <a:ahLst/>
              <a:rect l="l" t="t" r="r" b="b"/>
              <a:pathLst>
                <a:path w="928" h="306">
                  <a:moveTo>
                    <a:pt x="928" y="6"/>
                  </a:moveTo>
                  <a:cubicBezTo>
                    <a:pt x="636" y="0"/>
                    <a:pt x="394" y="29"/>
                    <a:pt x="239" y="79"/>
                  </a:cubicBezTo>
                  <a:cubicBezTo>
                    <a:pt x="84" y="129"/>
                    <a:pt x="50" y="259"/>
                    <a:pt x="0" y="3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40080" y="4724280"/>
              <a:ext cx="1093680" cy="606600"/>
            </a:xfrm>
            <a:custGeom>
              <a:avLst/>
              <a:gdLst/>
              <a:ahLst/>
              <a:rect l="l" t="t" r="r" b="b"/>
              <a:pathLst>
                <a:path w="689" h="382">
                  <a:moveTo>
                    <a:pt x="0" y="0"/>
                  </a:moveTo>
                  <a:cubicBezTo>
                    <a:pt x="73" y="23"/>
                    <a:pt x="321" y="76"/>
                    <a:pt x="436" y="140"/>
                  </a:cubicBezTo>
                  <a:cubicBezTo>
                    <a:pt x="551" y="204"/>
                    <a:pt x="636" y="332"/>
                    <a:pt x="689" y="382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562720" y="3505320"/>
            <a:ext cx="3484800" cy="714600"/>
            <a:chOff x="5562720" y="3505320"/>
            <a:chExt cx="3484800" cy="714600"/>
          </a:xfrm>
        </p:grpSpPr>
        <p:sp>
          <p:nvSpPr>
            <p:cNvPr id="411" name=""/>
            <p:cNvSpPr/>
            <p:nvPr/>
          </p:nvSpPr>
          <p:spPr>
            <a:xfrm>
              <a:off x="5562720" y="3824640"/>
              <a:ext cx="546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519400" y="3943440"/>
              <a:ext cx="5281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037200" y="3515040"/>
              <a:ext cx="1473120" cy="485640"/>
            </a:xfrm>
            <a:custGeom>
              <a:avLst/>
              <a:gdLst/>
              <a:ahLst/>
              <a:rect l="l" t="t" r="r" b="b"/>
              <a:pathLst>
                <a:path w="928" h="306">
                  <a:moveTo>
                    <a:pt x="928" y="6"/>
                  </a:moveTo>
                  <a:cubicBezTo>
                    <a:pt x="636" y="0"/>
                    <a:pt x="394" y="29"/>
                    <a:pt x="239" y="79"/>
                  </a:cubicBezTo>
                  <a:cubicBezTo>
                    <a:pt x="84" y="129"/>
                    <a:pt x="50" y="259"/>
                    <a:pt x="0" y="3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516800" y="3505320"/>
              <a:ext cx="1093680" cy="606600"/>
            </a:xfrm>
            <a:custGeom>
              <a:avLst/>
              <a:gdLst/>
              <a:ahLst/>
              <a:rect l="l" t="t" r="r" b="b"/>
              <a:pathLst>
                <a:path w="689" h="382">
                  <a:moveTo>
                    <a:pt x="0" y="0"/>
                  </a:moveTo>
                  <a:cubicBezTo>
                    <a:pt x="73" y="23"/>
                    <a:pt x="321" y="76"/>
                    <a:pt x="436" y="140"/>
                  </a:cubicBezTo>
                  <a:cubicBezTo>
                    <a:pt x="551" y="204"/>
                    <a:pt x="636" y="332"/>
                    <a:pt x="689" y="382"/>
                  </a:cubicBezTo>
                </a:path>
              </a:pathLst>
            </a:custGeom>
            <a:noFill/>
            <a:ln w="25560">
              <a:solidFill>
                <a:srgbClr val="993366"/>
              </a:solidFill>
              <a:prstDash val="sysDot"/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038480" y="1447920"/>
            <a:ext cx="1600200" cy="914400"/>
          </a:xfrm>
          <a:prstGeom prst="cloudCallout">
            <a:avLst>
              <a:gd name="adj1" fmla="val -38194"/>
              <a:gd name="adj2" fmla="val 294097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38480" y="1447920"/>
            <a:ext cx="1600200" cy="914400"/>
          </a:xfrm>
          <a:prstGeom prst="cloudCallout">
            <a:avLst>
              <a:gd name="adj1" fmla="val 167162"/>
              <a:gd name="adj2" fmla="val 163541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38480" y="1447920"/>
            <a:ext cx="1600200" cy="914400"/>
          </a:xfrm>
          <a:prstGeom prst="cloudCallout">
            <a:avLst>
              <a:gd name="adj1" fmla="val -151986"/>
              <a:gd name="adj2" fmla="val 101912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6858000" y="533520"/>
            <a:ext cx="1752480" cy="1143000"/>
          </a:xfrm>
          <a:prstGeom prst="cloudCallout">
            <a:avLst>
              <a:gd name="adj1" fmla="val -89944"/>
              <a:gd name="adj2" fmla="val 66805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Statue of Liber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4920" y="45720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given subject map, there is no requirement that any subjects have any proxy expressions to represent the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4920" y="2514600"/>
            <a:ext cx="358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for property classes.  The class of every property must have at least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41920" y="4503600"/>
            <a:ext cx="17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roperty’s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22800" y="3403440"/>
            <a:ext cx="1519200" cy="1190880"/>
          </a:xfrm>
          <a:custGeom>
            <a:avLst/>
            <a:gdLst/>
            <a:ahLst/>
            <a:rect l="l" t="t" r="r" b="b"/>
            <a:pathLst>
              <a:path w="1384" h="1032">
                <a:moveTo>
                  <a:pt x="1384" y="24"/>
                </a:moveTo>
                <a:cubicBezTo>
                  <a:pt x="876" y="12"/>
                  <a:pt x="368" y="0"/>
                  <a:pt x="184" y="168"/>
                </a:cubicBezTo>
                <a:cubicBezTo>
                  <a:pt x="0" y="336"/>
                  <a:pt x="140" y="684"/>
                  <a:pt x="280" y="1032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749920" y="3403440"/>
            <a:ext cx="866880" cy="1552680"/>
          </a:xfrm>
          <a:custGeom>
            <a:avLst/>
            <a:gdLst/>
            <a:ahLst/>
            <a:rect l="l" t="t" r="r" b="b"/>
            <a:pathLst>
              <a:path w="789" h="1344">
                <a:moveTo>
                  <a:pt x="0" y="0"/>
                </a:moveTo>
                <a:cubicBezTo>
                  <a:pt x="107" y="27"/>
                  <a:pt x="513" y="47"/>
                  <a:pt x="641" y="163"/>
                </a:cubicBezTo>
                <a:cubicBezTo>
                  <a:pt x="769" y="279"/>
                  <a:pt x="747" y="500"/>
                  <a:pt x="768" y="697"/>
                </a:cubicBezTo>
                <a:cubicBezTo>
                  <a:pt x="789" y="894"/>
                  <a:pt x="768" y="1236"/>
                  <a:pt x="768" y="1344"/>
                </a:cubicBezTo>
              </a:path>
            </a:pathLst>
          </a:custGeom>
          <a:noFill/>
          <a:ln w="25560">
            <a:solidFill>
              <a:srgbClr val="808080"/>
            </a:solidFill>
            <a:prstDash val="sysDot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67440" y="4622760"/>
            <a:ext cx="1015920" cy="1036800"/>
          </a:xfrm>
          <a:custGeom>
            <a:avLst/>
            <a:gdLst>
              <a:gd name="textAreaLeft" fmla="*/ 231840 w 1015920"/>
              <a:gd name="textAreaRight" fmla="*/ 784080 w 1015920"/>
              <a:gd name="textAreaTop" fmla="*/ 236520 h 1036800"/>
              <a:gd name="textAreaBottom" fmla="*/ 800280 h 103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15000" y="56386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 expression of a proxy for the property’s 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75440" y="2573280"/>
            <a:ext cx="1002960" cy="1089000"/>
          </a:xfrm>
          <a:prstGeom prst="octagon">
            <a:avLst>
              <a:gd name="adj" fmla="val 29287"/>
            </a:avLst>
          </a:prstGeom>
          <a:noFill/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96040" y="2133720"/>
            <a:ext cx="15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roxy in which the property app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19810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81680" y="3352680"/>
            <a:ext cx="2057400" cy="914400"/>
          </a:xfrm>
          <a:prstGeom prst="cloudCallout">
            <a:avLst>
              <a:gd name="adj1" fmla="val -39199"/>
              <a:gd name="adj2" fmla="val 95138"/>
            </a:avLst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roperty’s 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38680" y="16002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14479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"/>
          <p:cNvGrpSpPr/>
          <p:nvPr/>
        </p:nvGrpSpPr>
        <p:grpSpPr>
          <a:xfrm>
            <a:off x="152280" y="76320"/>
            <a:ext cx="2362320" cy="1143000"/>
            <a:chOff x="152280" y="76320"/>
            <a:chExt cx="2362320" cy="1143000"/>
          </a:xfrm>
        </p:grpSpPr>
        <p:sp>
          <p:nvSpPr>
            <p:cNvPr id="433" name=""/>
            <p:cNvSpPr/>
            <p:nvPr/>
          </p:nvSpPr>
          <p:spPr>
            <a:xfrm>
              <a:off x="152280" y="668880"/>
              <a:ext cx="556200" cy="507960"/>
            </a:xfrm>
            <a:prstGeom prst="hexagon">
              <a:avLst>
                <a:gd name="adj" fmla="val 27374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55880" y="668880"/>
              <a:ext cx="506160" cy="50796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394640" y="711360"/>
              <a:ext cx="480960" cy="507960"/>
            </a:xfrm>
            <a:prstGeom prst="octagon">
              <a:avLst>
                <a:gd name="adj" fmla="val 292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3480" y="711360"/>
              <a:ext cx="551160" cy="507960"/>
            </a:xfrm>
            <a:custGeom>
              <a:avLst/>
              <a:gdLst>
                <a:gd name="textAreaLeft" fmla="*/ 129600 w 551160"/>
                <a:gd name="textAreaRight" fmla="*/ 421200 w 551160"/>
                <a:gd name="textAreaTop" fmla="*/ 59760 h 507960"/>
                <a:gd name="textAreaBottom" fmla="*/ 318600 h 5079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2240" y="76320"/>
              <a:ext cx="480960" cy="507960"/>
            </a:xfrm>
            <a:custGeom>
              <a:avLst/>
              <a:gdLst>
                <a:gd name="textAreaLeft" fmla="*/ 56520 w 480960"/>
                <a:gd name="textAreaRight" fmla="*/ 424440 w 480960"/>
                <a:gd name="textAreaTop" fmla="*/ 56520 h 507960"/>
                <a:gd name="textAreaBottom" fmla="*/ 451440 h 507960"/>
              </a:gdLst>
              <a:ahLst/>
              <a:rect l="textAreaLeft" t="textAreaTop" r="textAreaRight" b="textAreaBottom"/>
              <a:pathLst>
                <a:path w="21600" h="22812">
                  <a:moveTo>
                    <a:pt x="3600" y="0"/>
                  </a:moveTo>
                  <a:arcTo wR="3600" hR="3600" stAng="0" swAng="5400000"/>
                  <a:lnTo>
                    <a:pt x="0" y="19212"/>
                  </a:lnTo>
                  <a:arcTo wR="3600" hR="3600" stAng="16200000" swAng="5400000"/>
                  <a:lnTo>
                    <a:pt x="18000" y="22812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3480" y="76320"/>
              <a:ext cx="480960" cy="50796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54680" y="76320"/>
              <a:ext cx="480960" cy="507960"/>
            </a:xfrm>
            <a:custGeom>
              <a:avLst/>
              <a:gdLst>
                <a:gd name="textAreaLeft" fmla="*/ 109800 w 480960"/>
                <a:gd name="textAreaRight" fmla="*/ 371160 w 480960"/>
                <a:gd name="textAreaTop" fmla="*/ 115920 h 507960"/>
                <a:gd name="textAreaBottom" fmla="*/ 39204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75960" y="76320"/>
              <a:ext cx="638640" cy="507960"/>
            </a:xfrm>
            <a:custGeom>
              <a:avLst/>
              <a:gdLst>
                <a:gd name="textAreaLeft" fmla="*/ 140400 w 638640"/>
                <a:gd name="textAreaRight" fmla="*/ 498240 w 638640"/>
                <a:gd name="textAreaTop" fmla="*/ 111600 h 507960"/>
                <a:gd name="textAreaBottom" fmla="*/ 39636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52280" y="12952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xy expressions representing various subjec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14800" y="5715000"/>
            <a:ext cx="3809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ject 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many properties and proxies not show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280" y="2286000"/>
            <a:ext cx="609840" cy="609480"/>
          </a:xfrm>
          <a:custGeom>
            <a:avLst/>
            <a:gdLst>
              <a:gd name="textAreaLeft" fmla="*/ 138960 w 609840"/>
              <a:gd name="textAreaRight" fmla="*/ 470880 w 609840"/>
              <a:gd name="textAreaTop" fmla="*/ 138960 h 609480"/>
              <a:gd name="textAreaBottom" fmla="*/ 4705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2286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xy expression representing a property cla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213372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4920" y="30481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81480" y="3048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81480" y="47242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38480" y="4572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76920" y="238932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roperty’s 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75440" y="1281240"/>
            <a:ext cx="1589040" cy="1199880"/>
          </a:xfrm>
          <a:custGeom>
            <a:avLst/>
            <a:gdLst/>
            <a:ahLst/>
            <a:rect l="l" t="t" r="r" b="b"/>
            <a:pathLst>
              <a:path w="1384" h="1032">
                <a:moveTo>
                  <a:pt x="1384" y="24"/>
                </a:moveTo>
                <a:cubicBezTo>
                  <a:pt x="876" y="12"/>
                  <a:pt x="368" y="0"/>
                  <a:pt x="184" y="168"/>
                </a:cubicBezTo>
                <a:cubicBezTo>
                  <a:pt x="0" y="336"/>
                  <a:pt x="140" y="684"/>
                  <a:pt x="280" y="1032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2400" y="1281240"/>
            <a:ext cx="906480" cy="1563480"/>
          </a:xfrm>
          <a:custGeom>
            <a:avLst/>
            <a:gdLst/>
            <a:ahLst/>
            <a:rect l="l" t="t" r="r" b="b"/>
            <a:pathLst>
              <a:path w="789" h="1344">
                <a:moveTo>
                  <a:pt x="0" y="0"/>
                </a:moveTo>
                <a:cubicBezTo>
                  <a:pt x="107" y="27"/>
                  <a:pt x="513" y="47"/>
                  <a:pt x="641" y="163"/>
                </a:cubicBezTo>
                <a:cubicBezTo>
                  <a:pt x="769" y="279"/>
                  <a:pt x="747" y="500"/>
                  <a:pt x="768" y="697"/>
                </a:cubicBezTo>
                <a:cubicBezTo>
                  <a:pt x="789" y="894"/>
                  <a:pt x="768" y="1236"/>
                  <a:pt x="768" y="1344"/>
                </a:cubicBezTo>
              </a:path>
            </a:pathLst>
          </a:custGeom>
          <a:noFill/>
          <a:ln w="25560">
            <a:solidFill>
              <a:srgbClr val="808080"/>
            </a:solidFill>
            <a:prstDash val="sysDot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03960" y="2509920"/>
            <a:ext cx="1063800" cy="1044360"/>
          </a:xfrm>
          <a:custGeom>
            <a:avLst/>
            <a:gdLst>
              <a:gd name="textAreaLeft" fmla="*/ 242640 w 1063800"/>
              <a:gd name="textAreaRight" fmla="*/ 821160 w 1063800"/>
              <a:gd name="textAreaTop" fmla="*/ 238320 h 1044360"/>
              <a:gd name="textAreaBottom" fmla="*/ 806040 h 104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8200" y="35053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roxy expression representing the property’s 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040" y="442800"/>
            <a:ext cx="1047600" cy="1098720"/>
          </a:xfrm>
          <a:prstGeom prst="octagon">
            <a:avLst>
              <a:gd name="adj" fmla="val 29287"/>
            </a:avLst>
          </a:prstGeom>
          <a:noFill/>
          <a:ln cap="rnd" w="158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445520" y="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proxy in which the property appea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304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080" y="3276720"/>
            <a:ext cx="4130640" cy="3495600"/>
          </a:xfrm>
          <a:prstGeom prst="cloudCallout">
            <a:avLst>
              <a:gd name="adj1" fmla="val 84435"/>
              <a:gd name="adj2" fmla="val 10944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00560" y="5024520"/>
            <a:ext cx="590400" cy="58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24360" y="5956200"/>
            <a:ext cx="37620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33480" y="5562720"/>
            <a:ext cx="620640" cy="525240"/>
          </a:xfrm>
          <a:prstGeom prst="hexagon">
            <a:avLst>
              <a:gd name="adj" fmla="val 29541"/>
              <a:gd name="vf" fmla="val 11547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06640" y="3720960"/>
            <a:ext cx="536400" cy="527040"/>
          </a:xfrm>
          <a:prstGeom prst="plus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11600" y="5562720"/>
            <a:ext cx="563400" cy="52524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17720" y="5605560"/>
            <a:ext cx="536400" cy="5270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88840" y="4816440"/>
            <a:ext cx="614520" cy="527040"/>
          </a:xfrm>
          <a:custGeom>
            <a:avLst/>
            <a:gdLst>
              <a:gd name="textAreaLeft" fmla="*/ 144360 w 614520"/>
              <a:gd name="textAreaRight" fmla="*/ 469800 w 614520"/>
              <a:gd name="textAreaTop" fmla="*/ 61920 h 527040"/>
              <a:gd name="textAreaBottom" fmla="*/ 330480 h 5270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46320" y="4159080"/>
            <a:ext cx="536400" cy="527400"/>
          </a:xfrm>
          <a:custGeom>
            <a:avLst/>
            <a:gdLst>
              <a:gd name="textAreaLeft" fmla="*/ 61920 w 536400"/>
              <a:gd name="textAreaRight" fmla="*/ 474480 w 536400"/>
              <a:gd name="textAreaTop" fmla="*/ 61920 h 527400"/>
              <a:gd name="textAreaBottom" fmla="*/ 465480 h 527400"/>
            </a:gdLst>
            <a:ahLst/>
            <a:rect l="textAreaLeft" t="textAreaTop" r="textAreaRight" b="textAreaBottom"/>
            <a:pathLst>
              <a:path w="2196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8368" y="21600"/>
                </a:lnTo>
                <a:arcTo wR="3600" hR="3600" stAng="10800000" swAng="5400000"/>
                <a:lnTo>
                  <a:pt x="21968" y="3600"/>
                </a:lnTo>
                <a:arcTo wR="3600" hR="3600" stAng="5400000" swAng="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58800" y="5035680"/>
            <a:ext cx="536760" cy="527040"/>
          </a:xfrm>
          <a:custGeom>
            <a:avLst/>
            <a:gdLst>
              <a:gd name="textAreaLeft" fmla="*/ 122400 w 536760"/>
              <a:gd name="textAreaRight" fmla="*/ 414360 w 536760"/>
              <a:gd name="textAreaTop" fmla="*/ 120240 h 527040"/>
              <a:gd name="textAreaBottom" fmla="*/ 406800 h 52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962000" y="4378320"/>
            <a:ext cx="536760" cy="525600"/>
          </a:xfrm>
          <a:custGeom>
            <a:avLst/>
            <a:gdLst>
              <a:gd name="textAreaLeft" fmla="*/ 122400 w 536760"/>
              <a:gd name="textAreaRight" fmla="*/ 414360 w 536760"/>
              <a:gd name="textAreaTop" fmla="*/ 119880 h 525600"/>
              <a:gd name="textAreaBottom" fmla="*/ 405720 h 525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08400" y="5035680"/>
            <a:ext cx="536400" cy="527040"/>
          </a:xfrm>
          <a:custGeom>
            <a:avLst/>
            <a:gdLst>
              <a:gd name="textAreaLeft" fmla="*/ 122400 w 536400"/>
              <a:gd name="textAreaRight" fmla="*/ 414000 w 536400"/>
              <a:gd name="textAreaTop" fmla="*/ 120240 h 527040"/>
              <a:gd name="textAreaBottom" fmla="*/ 406800 h 52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22680" y="4159080"/>
            <a:ext cx="712800" cy="527400"/>
          </a:xfrm>
          <a:custGeom>
            <a:avLst/>
            <a:gdLst>
              <a:gd name="textAreaLeft" fmla="*/ 156600 w 712800"/>
              <a:gd name="textAreaRight" fmla="*/ 556200 w 712800"/>
              <a:gd name="textAreaTop" fmla="*/ 115920 h 527400"/>
              <a:gd name="textAreaBottom" fmla="*/ 411480 h 52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79800" y="4729320"/>
            <a:ext cx="712800" cy="698400"/>
          </a:xfrm>
          <a:prstGeom prst="diamond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08400" y="3625920"/>
            <a:ext cx="1560240" cy="2330280"/>
          </a:xfrm>
          <a:custGeom>
            <a:avLst/>
            <a:gdLst/>
            <a:ahLst/>
            <a:rect l="l" t="t" r="r" b="b"/>
            <a:pathLst>
              <a:path w="1395" h="1920">
                <a:moveTo>
                  <a:pt x="800" y="1920"/>
                </a:moveTo>
                <a:cubicBezTo>
                  <a:pt x="881" y="1841"/>
                  <a:pt x="1226" y="1730"/>
                  <a:pt x="1289" y="1447"/>
                </a:cubicBezTo>
                <a:cubicBezTo>
                  <a:pt x="1352" y="1164"/>
                  <a:pt x="1395" y="444"/>
                  <a:pt x="1180" y="222"/>
                </a:cubicBezTo>
                <a:cubicBezTo>
                  <a:pt x="965" y="0"/>
                  <a:pt x="246" y="137"/>
                  <a:pt x="0" y="115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1600" y="5473800"/>
            <a:ext cx="492120" cy="48240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528" y="528"/>
                </a:moveTo>
                <a:cubicBezTo>
                  <a:pt x="528" y="528"/>
                  <a:pt x="264" y="264"/>
                  <a:pt x="0" y="0"/>
                </a:cubicBezTo>
              </a:path>
            </a:pathLst>
          </a:custGeom>
          <a:noFill/>
          <a:ln w="25560">
            <a:solidFill>
              <a:srgbClr val="808080"/>
            </a:solidFill>
            <a:prstDash val="sysDot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97120" y="5526000"/>
            <a:ext cx="115920" cy="389160"/>
          </a:xfrm>
          <a:custGeom>
            <a:avLst/>
            <a:gdLst/>
            <a:ahLst/>
            <a:rect l="l" t="t" r="r" b="b"/>
            <a:pathLst>
              <a:path w="103" h="320">
                <a:moveTo>
                  <a:pt x="103" y="320"/>
                </a:moveTo>
                <a:cubicBezTo>
                  <a:pt x="88" y="294"/>
                  <a:pt x="26" y="219"/>
                  <a:pt x="13" y="166"/>
                </a:cubicBezTo>
                <a:cubicBezTo>
                  <a:pt x="0" y="113"/>
                  <a:pt x="23" y="35"/>
                  <a:pt x="26" y="0"/>
                </a:cubicBezTo>
              </a:path>
            </a:pathLst>
          </a:custGeom>
          <a:noFill/>
          <a:ln w="25560">
            <a:solidFill>
              <a:srgbClr val="808080"/>
            </a:solidFill>
            <a:prstDash val="sysDot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724040" y="5894280"/>
            <a:ext cx="189000" cy="214560"/>
          </a:xfrm>
          <a:custGeom>
            <a:avLst/>
            <a:gdLst/>
            <a:ahLst/>
            <a:rect l="l" t="t" r="r" b="b"/>
            <a:pathLst>
              <a:path w="169" h="176">
                <a:moveTo>
                  <a:pt x="169" y="9"/>
                </a:moveTo>
                <a:cubicBezTo>
                  <a:pt x="152" y="9"/>
                  <a:pt x="93" y="0"/>
                  <a:pt x="66" y="9"/>
                </a:cubicBezTo>
                <a:cubicBezTo>
                  <a:pt x="39" y="18"/>
                  <a:pt x="18" y="33"/>
                  <a:pt x="9" y="61"/>
                </a:cubicBezTo>
                <a:cubicBezTo>
                  <a:pt x="0" y="89"/>
                  <a:pt x="9" y="152"/>
                  <a:pt x="9" y="176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7480" y="3875040"/>
            <a:ext cx="1289160" cy="941400"/>
          </a:xfrm>
          <a:custGeom>
            <a:avLst/>
            <a:gdLst/>
            <a:ahLst/>
            <a:rect l="l" t="t" r="r" b="b"/>
            <a:pathLst>
              <a:path w="1384" h="1032">
                <a:moveTo>
                  <a:pt x="1384" y="24"/>
                </a:moveTo>
                <a:cubicBezTo>
                  <a:pt x="876" y="12"/>
                  <a:pt x="368" y="0"/>
                  <a:pt x="184" y="168"/>
                </a:cubicBezTo>
                <a:cubicBezTo>
                  <a:pt x="0" y="336"/>
                  <a:pt x="140" y="684"/>
                  <a:pt x="280" y="1032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06640" y="3897360"/>
            <a:ext cx="834840" cy="1182600"/>
          </a:xfrm>
          <a:custGeom>
            <a:avLst/>
            <a:gdLst/>
            <a:ahLst/>
            <a:rect l="l" t="t" r="r" b="b"/>
            <a:pathLst>
              <a:path w="896" h="1296">
                <a:moveTo>
                  <a:pt x="0" y="0"/>
                </a:moveTo>
                <a:cubicBezTo>
                  <a:pt x="320" y="228"/>
                  <a:pt x="640" y="456"/>
                  <a:pt x="768" y="672"/>
                </a:cubicBezTo>
                <a:cubicBezTo>
                  <a:pt x="896" y="888"/>
                  <a:pt x="768" y="1192"/>
                  <a:pt x="768" y="1296"/>
                </a:cubicBezTo>
              </a:path>
            </a:pathLst>
          </a:custGeom>
          <a:noFill/>
          <a:ln w="25560">
            <a:solidFill>
              <a:srgbClr val="808080"/>
            </a:solidFill>
            <a:prstDash val="sysDot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74920" y="5089680"/>
            <a:ext cx="179280" cy="249120"/>
          </a:xfrm>
          <a:custGeom>
            <a:avLst/>
            <a:gdLst/>
            <a:ahLst/>
            <a:rect l="l" t="t" r="r" b="b"/>
            <a:pathLst>
              <a:path w="160" h="205">
                <a:moveTo>
                  <a:pt x="160" y="46"/>
                </a:moveTo>
                <a:cubicBezTo>
                  <a:pt x="143" y="43"/>
                  <a:pt x="84" y="0"/>
                  <a:pt x="57" y="26"/>
                </a:cubicBezTo>
                <a:cubicBezTo>
                  <a:pt x="30" y="52"/>
                  <a:pt x="12" y="168"/>
                  <a:pt x="0" y="205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649520" y="4641840"/>
            <a:ext cx="312480" cy="482760"/>
          </a:xfrm>
          <a:custGeom>
            <a:avLst/>
            <a:gdLst/>
            <a:ahLst/>
            <a:rect l="l" t="t" r="r" b="b"/>
            <a:pathLst>
              <a:path w="336" h="528">
                <a:moveTo>
                  <a:pt x="0" y="528"/>
                </a:moveTo>
                <a:cubicBezTo>
                  <a:pt x="44" y="356"/>
                  <a:pt x="88" y="184"/>
                  <a:pt x="144" y="96"/>
                </a:cubicBezTo>
                <a:cubicBezTo>
                  <a:pt x="200" y="8"/>
                  <a:pt x="268" y="4"/>
                  <a:pt x="336" y="0"/>
                </a:cubicBezTo>
              </a:path>
            </a:pathLst>
          </a:custGeom>
          <a:noFill/>
          <a:ln w="25560">
            <a:solidFill>
              <a:srgbClr val="808080"/>
            </a:solidFill>
            <a:prstDash val="sysDot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76440" y="4632480"/>
            <a:ext cx="115920" cy="263520"/>
          </a:xfrm>
          <a:custGeom>
            <a:avLst/>
            <a:gdLst/>
            <a:ahLst/>
            <a:rect l="l" t="t" r="r" b="b"/>
            <a:pathLst>
              <a:path w="103" h="217">
                <a:moveTo>
                  <a:pt x="0" y="0"/>
                </a:moveTo>
                <a:cubicBezTo>
                  <a:pt x="15" y="7"/>
                  <a:pt x="77" y="25"/>
                  <a:pt x="90" y="45"/>
                </a:cubicBezTo>
                <a:cubicBezTo>
                  <a:pt x="103" y="65"/>
                  <a:pt x="87" y="92"/>
                  <a:pt x="77" y="121"/>
                </a:cubicBezTo>
                <a:cubicBezTo>
                  <a:pt x="67" y="150"/>
                  <a:pt x="41" y="197"/>
                  <a:pt x="32" y="217"/>
                </a:cubicBezTo>
              </a:path>
            </a:pathLst>
          </a:custGeom>
          <a:noFill/>
          <a:ln w="255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276640" y="4341960"/>
            <a:ext cx="279360" cy="274320"/>
          </a:xfrm>
          <a:custGeom>
            <a:avLst/>
            <a:gdLst/>
            <a:ahLst/>
            <a:rect l="l" t="t" r="r" b="b"/>
            <a:pathLst>
              <a:path w="249" h="226">
                <a:moveTo>
                  <a:pt x="173" y="226"/>
                </a:moveTo>
                <a:cubicBezTo>
                  <a:pt x="184" y="221"/>
                  <a:pt x="237" y="222"/>
                  <a:pt x="243" y="194"/>
                </a:cubicBezTo>
                <a:cubicBezTo>
                  <a:pt x="249" y="166"/>
                  <a:pt x="238" y="92"/>
                  <a:pt x="211" y="60"/>
                </a:cubicBezTo>
                <a:cubicBezTo>
                  <a:pt x="184" y="28"/>
                  <a:pt x="118" y="4"/>
                  <a:pt x="83" y="2"/>
                </a:cubicBezTo>
                <a:cubicBezTo>
                  <a:pt x="48" y="0"/>
                  <a:pt x="17" y="38"/>
                  <a:pt x="0" y="47"/>
                </a:cubicBezTo>
              </a:path>
            </a:pathLst>
          </a:custGeom>
          <a:noFill/>
          <a:ln w="25560">
            <a:solidFill>
              <a:srgbClr val="808080"/>
            </a:solidFill>
            <a:prstDash val="sysDot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192400" y="48211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146240" y="52722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95440" y="60739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81080" y="6132600"/>
            <a:ext cx="965160" cy="407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0880" y="601992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f informatio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05320" y="6019920"/>
            <a:ext cx="228600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making prox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114800" y="5029200"/>
            <a:ext cx="762120" cy="609480"/>
            <a:chOff x="4114800" y="5029200"/>
            <a:chExt cx="762120" cy="609480"/>
          </a:xfrm>
        </p:grpSpPr>
        <p:sp>
          <p:nvSpPr>
            <p:cNvPr id="489" name="Gear"/>
            <p:cNvSpPr/>
            <p:nvPr/>
          </p:nvSpPr>
          <p:spPr>
            <a:xfrm>
              <a:off x="4537440" y="50292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14800" y="51444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77960" y="52675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590920" y="281952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es of informatio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315200" y="5943600"/>
            <a:ext cx="114300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 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57200" y="4952880"/>
            <a:ext cx="1062000" cy="75744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86400" y="2819520"/>
            <a:ext cx="220968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42900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4876920"/>
            <a:ext cx="4876560" cy="990360"/>
          </a:xfrm>
          <a:custGeom>
            <a:avLst/>
            <a:gdLst>
              <a:gd name="textAreaLeft" fmla="*/ 0 w 4876560"/>
              <a:gd name="textAreaRight" fmla="*/ 4876920 w 48765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1523880" y="4343400"/>
            <a:ext cx="1067040" cy="53352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934320" y="4191120"/>
            <a:ext cx="533160" cy="533160"/>
          </a:xfrm>
          <a:prstGeom prst="line">
            <a:avLst/>
          </a:prstGeom>
          <a:ln w="507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5320" y="4343400"/>
            <a:ext cx="838080" cy="68580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5028840" y="4267080"/>
            <a:ext cx="1143000" cy="762120"/>
          </a:xfrm>
          <a:prstGeom prst="line">
            <a:avLst/>
          </a:prstGeom>
          <a:ln w="50760">
            <a:solidFill>
              <a:srgbClr val="c0c0c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25909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457200" y="-76320"/>
            <a:ext cx="8001000" cy="2607480"/>
            <a:chOff x="457200" y="-76320"/>
            <a:chExt cx="8001000" cy="2607480"/>
          </a:xfrm>
        </p:grpSpPr>
        <p:cxnSp>
          <p:nvCxnSpPr>
            <p:cNvPr id="504" name=""/>
            <p:cNvCxnSpPr/>
            <p:nvPr/>
          </p:nvCxnSpPr>
          <p:spPr>
            <a:xfrm>
              <a:off x="4571640" y="1980720"/>
              <a:ext cx="108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457200" y="457200"/>
              <a:ext cx="1062000" cy="757080"/>
            </a:xfrm>
            <a:prstGeom prst="flowChartMultidocumen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76920" y="380880"/>
              <a:ext cx="380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≡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62720" y="380880"/>
              <a:ext cx="2895480" cy="17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an expression of a subject map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7200" y="1371600"/>
              <a:ext cx="1143000" cy="733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me set of information re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905120" y="1371600"/>
              <a:ext cx="1447560" cy="1159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ules for recognizing subjects and making  proxies for them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05320" y="1371600"/>
              <a:ext cx="1295280" cy="7333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sclosure of semantics of propert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2057400" y="457200"/>
              <a:ext cx="762120" cy="609480"/>
              <a:chOff x="2057400" y="457200"/>
              <a:chExt cx="762120" cy="609480"/>
            </a:xfrm>
          </p:grpSpPr>
          <p:sp>
            <p:nvSpPr>
              <p:cNvPr id="512" name="Gear"/>
              <p:cNvSpPr/>
              <p:nvPr/>
            </p:nvSpPr>
            <p:spPr>
              <a:xfrm>
                <a:off x="2480040" y="457200"/>
                <a:ext cx="339480" cy="27936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057400" y="572400"/>
                <a:ext cx="406080" cy="33408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320560" y="695520"/>
                <a:ext cx="451440" cy="371160"/>
              </a:xfrm>
              <a:prstGeom prst="pi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3657600" y="380880"/>
              <a:ext cx="914400" cy="914400"/>
            </a:xfrm>
            <a:custGeom>
              <a:avLst/>
              <a:gdLst>
                <a:gd name="textAreaLeft" fmla="*/ 208800 w 914400"/>
                <a:gd name="textAreaRight" fmla="*/ 705600 w 914400"/>
                <a:gd name="textAreaTop" fmla="*/ 208800 h 914400"/>
                <a:gd name="textAreaBottom" fmla="*/ 705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0200" y="380880"/>
              <a:ext cx="380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24080" y="380880"/>
              <a:ext cx="3812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981080" y="304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980720" y="3049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4648320" y="3045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94160" y="-7632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“leg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438280" y="3505320"/>
            <a:ext cx="1219320" cy="1218960"/>
            <a:chOff x="2438280" y="3505320"/>
            <a:chExt cx="1219320" cy="1218960"/>
          </a:xfrm>
        </p:grpSpPr>
        <p:sp>
          <p:nvSpPr>
            <p:cNvPr id="523" name=""/>
            <p:cNvSpPr/>
            <p:nvPr/>
          </p:nvSpPr>
          <p:spPr>
            <a:xfrm>
              <a:off x="2438280" y="350532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0920" y="365760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3200" y="3809880"/>
              <a:ext cx="914400" cy="914400"/>
            </a:xfrm>
            <a:custGeom>
              <a:avLst/>
              <a:gdLst>
                <a:gd name="textAreaLeft" fmla="*/ 376560 w 914400"/>
                <a:gd name="textAreaRight" fmla="*/ 537840 w 914400"/>
                <a:gd name="textAreaTop" fmla="*/ 376560 h 914400"/>
                <a:gd name="textAreaBottom" fmla="*/ 5378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7315200" y="4495680"/>
            <a:ext cx="1676520" cy="1371600"/>
            <a:chOff x="7315200" y="4495680"/>
            <a:chExt cx="1676520" cy="1371600"/>
          </a:xfrm>
        </p:grpSpPr>
        <p:sp>
          <p:nvSpPr>
            <p:cNvPr id="527" name=""/>
            <p:cNvSpPr/>
            <p:nvPr/>
          </p:nvSpPr>
          <p:spPr>
            <a:xfrm>
              <a:off x="7315200" y="4495680"/>
              <a:ext cx="1676520" cy="1371600"/>
            </a:xfrm>
            <a:prstGeom prst="cloudCallout">
              <a:avLst>
                <a:gd name="adj1" fmla="val 49050"/>
                <a:gd name="adj2" fmla="val -1065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153280" y="4838760"/>
              <a:ext cx="669960" cy="685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07160" y="5378400"/>
              <a:ext cx="217800" cy="195480"/>
            </a:xfrm>
            <a:prstGeom prst="hexagon">
              <a:avLst>
                <a:gd name="adj" fmla="val 27855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85160" y="4695840"/>
              <a:ext cx="189000" cy="1951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269200" y="5378400"/>
              <a:ext cx="198360" cy="19548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53480" y="5394240"/>
              <a:ext cx="188640" cy="195480"/>
            </a:xfrm>
            <a:prstGeom prst="octagon">
              <a:avLst>
                <a:gd name="adj" fmla="val 292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591320" y="5102280"/>
              <a:ext cx="216000" cy="195120"/>
            </a:xfrm>
            <a:custGeom>
              <a:avLst/>
              <a:gdLst>
                <a:gd name="textAreaLeft" fmla="*/ 50760 w 216000"/>
                <a:gd name="textAreaRight" fmla="*/ 165240 w 216000"/>
                <a:gd name="textAreaTop" fmla="*/ 22680 h 195120"/>
                <a:gd name="textAreaBottom" fmla="*/ 122400 h 1951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16960" y="4859280"/>
              <a:ext cx="188640" cy="193680"/>
            </a:xfrm>
            <a:custGeom>
              <a:avLst/>
              <a:gdLst>
                <a:gd name="textAreaLeft" fmla="*/ 21960 w 188640"/>
                <a:gd name="textAreaRight" fmla="*/ 166680 w 188640"/>
                <a:gd name="textAreaTop" fmla="*/ 21960 h 193680"/>
                <a:gd name="textAreaBottom" fmla="*/ 171720 h 193680"/>
              </a:gdLst>
              <a:ahLst/>
              <a:rect l="textAreaLeft" t="textAreaTop" r="textAreaRight" b="textAreaBottom"/>
              <a:pathLst>
                <a:path w="21600" h="22176">
                  <a:moveTo>
                    <a:pt x="3600" y="0"/>
                  </a:moveTo>
                  <a:arcTo wR="3600" hR="3600" stAng="0" swAng="5400000"/>
                  <a:lnTo>
                    <a:pt x="0" y="18576"/>
                  </a:lnTo>
                  <a:arcTo wR="3600" hR="3600" stAng="16200000" swAng="5400000"/>
                  <a:lnTo>
                    <a:pt x="18000" y="22176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2784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969320" y="4940280"/>
              <a:ext cx="189000" cy="19368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3680"/>
                <a:gd name="textAreaBottom" fmla="*/ 1494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126280" y="5183280"/>
              <a:ext cx="189000" cy="195120"/>
            </a:xfrm>
            <a:custGeom>
              <a:avLst/>
              <a:gdLst>
                <a:gd name="textAreaLeft" fmla="*/ 43200 w 189000"/>
                <a:gd name="textAreaRight" fmla="*/ 145800 w 189000"/>
                <a:gd name="textAreaTop" fmla="*/ 44280 h 195120"/>
                <a:gd name="textAreaBottom" fmla="*/ 150840 h 1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237520" y="4859280"/>
              <a:ext cx="250920" cy="193680"/>
            </a:xfrm>
            <a:custGeom>
              <a:avLst/>
              <a:gdLst>
                <a:gd name="textAreaLeft" fmla="*/ 55080 w 250920"/>
                <a:gd name="textAreaRight" fmla="*/ 195840 w 250920"/>
                <a:gd name="textAreaTop" fmla="*/ 42480 h 193680"/>
                <a:gd name="textAreaBottom" fmla="*/ 15120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362800" y="5070600"/>
              <a:ext cx="252720" cy="25848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126280" y="4618080"/>
              <a:ext cx="633600" cy="906480"/>
            </a:xfrm>
            <a:custGeom>
              <a:avLst/>
              <a:gdLst/>
              <a:ahLst/>
              <a:rect l="l" t="t" r="r" b="b"/>
              <a:pathLst>
                <a:path w="1928" h="2680">
                  <a:moveTo>
                    <a:pt x="960" y="2680"/>
                  </a:moveTo>
                  <a:cubicBezTo>
                    <a:pt x="1340" y="2660"/>
                    <a:pt x="1720" y="2640"/>
                    <a:pt x="1824" y="2248"/>
                  </a:cubicBezTo>
                  <a:cubicBezTo>
                    <a:pt x="1928" y="1856"/>
                    <a:pt x="1888" y="656"/>
                    <a:pt x="1584" y="328"/>
                  </a:cubicBezTo>
                  <a:cubicBezTo>
                    <a:pt x="1280" y="0"/>
                    <a:pt x="640" y="140"/>
                    <a:pt x="0" y="280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69200" y="5345280"/>
              <a:ext cx="173160" cy="17928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528"/>
                  </a:moveTo>
                  <a:cubicBezTo>
                    <a:pt x="528" y="528"/>
                    <a:pt x="264" y="264"/>
                    <a:pt x="0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910640" y="5365800"/>
              <a:ext cx="41040" cy="144360"/>
            </a:xfrm>
            <a:custGeom>
              <a:avLst/>
              <a:gdLst/>
              <a:ahLst/>
              <a:rect l="l" t="t" r="r" b="b"/>
              <a:pathLst>
                <a:path w="103" h="320">
                  <a:moveTo>
                    <a:pt x="103" y="320"/>
                  </a:moveTo>
                  <a:cubicBezTo>
                    <a:pt x="88" y="294"/>
                    <a:pt x="26" y="219"/>
                    <a:pt x="13" y="166"/>
                  </a:cubicBezTo>
                  <a:cubicBezTo>
                    <a:pt x="0" y="113"/>
                    <a:pt x="23" y="35"/>
                    <a:pt x="2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85080" y="5502240"/>
              <a:ext cx="66600" cy="79560"/>
            </a:xfrm>
            <a:custGeom>
              <a:avLst/>
              <a:gdLst/>
              <a:ahLst/>
              <a:rect l="l" t="t" r="r" b="b"/>
              <a:pathLst>
                <a:path w="169" h="176">
                  <a:moveTo>
                    <a:pt x="169" y="9"/>
                  </a:moveTo>
                  <a:cubicBezTo>
                    <a:pt x="152" y="9"/>
                    <a:pt x="93" y="0"/>
                    <a:pt x="66" y="9"/>
                  </a:cubicBezTo>
                  <a:cubicBezTo>
                    <a:pt x="39" y="18"/>
                    <a:pt x="18" y="33"/>
                    <a:pt x="9" y="61"/>
                  </a:cubicBezTo>
                  <a:cubicBezTo>
                    <a:pt x="0" y="89"/>
                    <a:pt x="9" y="152"/>
                    <a:pt x="9" y="176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31200" y="4753080"/>
              <a:ext cx="453960" cy="349200"/>
            </a:xfrm>
            <a:custGeom>
              <a:avLst/>
              <a:gdLst/>
              <a:ahLst/>
              <a:rect l="l" t="t" r="r" b="b"/>
              <a:pathLst>
                <a:path w="1384" h="1032">
                  <a:moveTo>
                    <a:pt x="1384" y="24"/>
                  </a:moveTo>
                  <a:cubicBezTo>
                    <a:pt x="876" y="12"/>
                    <a:pt x="368" y="0"/>
                    <a:pt x="184" y="168"/>
                  </a:cubicBezTo>
                  <a:cubicBezTo>
                    <a:pt x="0" y="336"/>
                    <a:pt x="140" y="684"/>
                    <a:pt x="280" y="1032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985160" y="4761000"/>
              <a:ext cx="293760" cy="439560"/>
            </a:xfrm>
            <a:custGeom>
              <a:avLst/>
              <a:gdLst/>
              <a:ahLst/>
              <a:rect l="l" t="t" r="r" b="b"/>
              <a:pathLst>
                <a:path w="896" h="1296">
                  <a:moveTo>
                    <a:pt x="0" y="0"/>
                  </a:moveTo>
                  <a:cubicBezTo>
                    <a:pt x="320" y="228"/>
                    <a:pt x="640" y="456"/>
                    <a:pt x="768" y="672"/>
                  </a:cubicBezTo>
                  <a:cubicBezTo>
                    <a:pt x="896" y="888"/>
                    <a:pt x="768" y="1192"/>
                    <a:pt x="768" y="1296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97960" y="5203800"/>
              <a:ext cx="63360" cy="9216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160" y="46"/>
                  </a:moveTo>
                  <a:cubicBezTo>
                    <a:pt x="143" y="43"/>
                    <a:pt x="84" y="0"/>
                    <a:pt x="57" y="26"/>
                  </a:cubicBezTo>
                  <a:cubicBezTo>
                    <a:pt x="30" y="52"/>
                    <a:pt x="12" y="168"/>
                    <a:pt x="0" y="205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59880" y="5038560"/>
              <a:ext cx="109440" cy="17784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0" y="528"/>
                  </a:moveTo>
                  <a:cubicBezTo>
                    <a:pt x="44" y="356"/>
                    <a:pt x="88" y="184"/>
                    <a:pt x="144" y="96"/>
                  </a:cubicBezTo>
                  <a:cubicBezTo>
                    <a:pt x="200" y="8"/>
                    <a:pt x="268" y="4"/>
                    <a:pt x="33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151840" y="5033880"/>
              <a:ext cx="39600" cy="9864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cubicBezTo>
                    <a:pt x="15" y="7"/>
                    <a:pt x="77" y="25"/>
                    <a:pt x="90" y="45"/>
                  </a:cubicBezTo>
                  <a:cubicBezTo>
                    <a:pt x="103" y="65"/>
                    <a:pt x="87" y="92"/>
                    <a:pt x="77" y="121"/>
                  </a:cubicBezTo>
                  <a:cubicBezTo>
                    <a:pt x="67" y="150"/>
                    <a:pt x="41" y="197"/>
                    <a:pt x="32" y="217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80200" y="4927680"/>
              <a:ext cx="98640" cy="10152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173" y="226"/>
                  </a:moveTo>
                  <a:cubicBezTo>
                    <a:pt x="184" y="221"/>
                    <a:pt x="237" y="222"/>
                    <a:pt x="243" y="194"/>
                  </a:cubicBezTo>
                  <a:cubicBezTo>
                    <a:pt x="249" y="166"/>
                    <a:pt x="238" y="92"/>
                    <a:pt x="211" y="60"/>
                  </a:cubicBezTo>
                  <a:cubicBezTo>
                    <a:pt x="184" y="28"/>
                    <a:pt x="118" y="4"/>
                    <a:pt x="83" y="2"/>
                  </a:cubicBezTo>
                  <a:cubicBezTo>
                    <a:pt x="48" y="0"/>
                    <a:pt x="17" y="38"/>
                    <a:pt x="0" y="47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990720" y="3808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ression of a subject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the same thing as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bject ma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/>
          <p:nvPr/>
        </p:nvCxnSpPr>
        <p:spPr>
          <a:xfrm>
            <a:off x="5181120" y="35809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52" name=""/>
          <p:cNvSpPr/>
          <p:nvPr/>
        </p:nvSpPr>
        <p:spPr>
          <a:xfrm>
            <a:off x="1066680" y="2057400"/>
            <a:ext cx="1062000" cy="75708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066680" y="2971800"/>
            <a:ext cx="114300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e set of information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2971800"/>
            <a:ext cx="1447920" cy="1159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for recognizing subjects and making  proxies for th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114800" y="2971800"/>
            <a:ext cx="1295280" cy="7333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losure of semantics of proper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666880" y="2057400"/>
            <a:ext cx="762120" cy="609480"/>
            <a:chOff x="2666880" y="2057400"/>
            <a:chExt cx="762120" cy="609480"/>
          </a:xfrm>
        </p:grpSpPr>
        <p:sp>
          <p:nvSpPr>
            <p:cNvPr id="557" name="Gear"/>
            <p:cNvSpPr/>
            <p:nvPr/>
          </p:nvSpPr>
          <p:spPr>
            <a:xfrm>
              <a:off x="3089520" y="2057400"/>
              <a:ext cx="339480" cy="2793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666880" y="2172600"/>
              <a:ext cx="406080" cy="33408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30040" y="2295720"/>
              <a:ext cx="451440" cy="371160"/>
            </a:xfrm>
            <a:prstGeom prst="pi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267080" y="198108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09680" y="1981080"/>
            <a:ext cx="3812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33920" y="1981080"/>
            <a:ext cx="3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590920" y="1904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2590920" y="1905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257800" y="1904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203640" y="15238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legen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638680" y="2133720"/>
            <a:ext cx="380880" cy="926280"/>
            <a:chOff x="5638680" y="2133720"/>
            <a:chExt cx="380880" cy="926280"/>
          </a:xfrm>
        </p:grpSpPr>
        <p:sp>
          <p:nvSpPr>
            <p:cNvPr id="568" name=""/>
            <p:cNvSpPr/>
            <p:nvPr/>
          </p:nvSpPr>
          <p:spPr>
            <a:xfrm>
              <a:off x="5638680" y="2133720"/>
              <a:ext cx="380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≡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86200" y="241920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914400" y="44197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s 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ression of a 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not the same thing as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42670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452600" y="5638680"/>
            <a:ext cx="5785560" cy="926280"/>
            <a:chOff x="1452600" y="5638680"/>
            <a:chExt cx="5785560" cy="926280"/>
          </a:xfrm>
        </p:grpSpPr>
        <p:sp>
          <p:nvSpPr>
            <p:cNvPr id="573" name=""/>
            <p:cNvSpPr/>
            <p:nvPr/>
          </p:nvSpPr>
          <p:spPr>
            <a:xfrm>
              <a:off x="1452600" y="5638680"/>
              <a:ext cx="2686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{1, 2, 3}”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267440" y="5638680"/>
              <a:ext cx="380880" cy="926280"/>
              <a:chOff x="4267440" y="5638680"/>
              <a:chExt cx="380880" cy="926280"/>
            </a:xfrm>
          </p:grpSpPr>
          <p:sp>
            <p:nvSpPr>
              <p:cNvPr id="575" name=""/>
              <p:cNvSpPr/>
              <p:nvPr/>
            </p:nvSpPr>
            <p:spPr>
              <a:xfrm>
                <a:off x="4267440" y="5638680"/>
                <a:ext cx="38088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≡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314960" y="592416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4957200" y="5638680"/>
              <a:ext cx="228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{1, 2, 3}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172200" y="1600200"/>
            <a:ext cx="2514240" cy="2133360"/>
            <a:chOff x="6172200" y="1600200"/>
            <a:chExt cx="2514240" cy="2133360"/>
          </a:xfrm>
        </p:grpSpPr>
        <p:sp>
          <p:nvSpPr>
            <p:cNvPr id="579" name=""/>
            <p:cNvSpPr/>
            <p:nvPr/>
          </p:nvSpPr>
          <p:spPr>
            <a:xfrm>
              <a:off x="6172200" y="1600200"/>
              <a:ext cx="2514240" cy="2133360"/>
            </a:xfrm>
            <a:prstGeom prst="cloudCallout">
              <a:avLst>
                <a:gd name="adj1" fmla="val 49050"/>
                <a:gd name="adj2" fmla="val -10659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28960" y="2133720"/>
              <a:ext cx="1004760" cy="1066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09960" y="2973240"/>
              <a:ext cx="326520" cy="303840"/>
            </a:xfrm>
            <a:prstGeom prst="hexagon">
              <a:avLst>
                <a:gd name="adj" fmla="val 26866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176960" y="1911240"/>
              <a:ext cx="283320" cy="3034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02840" y="2973240"/>
              <a:ext cx="297360" cy="303840"/>
            </a:xfrm>
            <a:prstGeom prst="pentagon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29440" y="2997720"/>
              <a:ext cx="282600" cy="303840"/>
            </a:xfrm>
            <a:prstGeom prst="octagon">
              <a:avLst>
                <a:gd name="adj" fmla="val 29287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86200" y="2543760"/>
              <a:ext cx="323640" cy="303480"/>
            </a:xfrm>
            <a:custGeom>
              <a:avLst/>
              <a:gdLst>
                <a:gd name="textAreaLeft" fmla="*/ 75960 w 323640"/>
                <a:gd name="textAreaRight" fmla="*/ 247320 w 323640"/>
                <a:gd name="textAreaTop" fmla="*/ 35640 h 303480"/>
                <a:gd name="textAreaBottom" fmla="*/ 190440 h 3034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74480" y="2165760"/>
              <a:ext cx="282600" cy="300960"/>
            </a:xfrm>
            <a:custGeom>
              <a:avLst/>
              <a:gdLst>
                <a:gd name="textAreaLeft" fmla="*/ 33120 w 282600"/>
                <a:gd name="textAreaRight" fmla="*/ 249480 w 282600"/>
                <a:gd name="textAreaTop" fmla="*/ 33120 h 300960"/>
                <a:gd name="textAreaBottom" fmla="*/ 267840 h 300960"/>
              </a:gdLst>
              <a:ahLst/>
              <a:rect l="textAreaLeft" t="textAreaTop" r="textAreaRight" b="textAreaBottom"/>
              <a:pathLst>
                <a:path w="21600" h="23002">
                  <a:moveTo>
                    <a:pt x="3600" y="0"/>
                  </a:moveTo>
                  <a:arcTo wR="3600" hR="3600" stAng="0" swAng="5400000"/>
                  <a:lnTo>
                    <a:pt x="0" y="19402"/>
                  </a:lnTo>
                  <a:arcTo wR="3600" hR="3600" stAng="16200000" swAng="5400000"/>
                  <a:lnTo>
                    <a:pt x="18000" y="23002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940800" y="2669400"/>
              <a:ext cx="283320" cy="303480"/>
            </a:xfrm>
            <a:custGeom>
              <a:avLst/>
              <a:gdLst>
                <a:gd name="textAreaLeft" fmla="*/ 64440 w 283320"/>
                <a:gd name="textAreaRight" fmla="*/ 218880 w 283320"/>
                <a:gd name="textAreaTop" fmla="*/ 69120 h 303480"/>
                <a:gd name="textAreaBottom" fmla="*/ 234360 h 30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153200" y="2291760"/>
              <a:ext cx="283320" cy="300960"/>
            </a:xfrm>
            <a:custGeom>
              <a:avLst/>
              <a:gdLst>
                <a:gd name="textAreaLeft" fmla="*/ 64440 w 283320"/>
                <a:gd name="textAreaRight" fmla="*/ 218880 w 283320"/>
                <a:gd name="textAreaTop" fmla="*/ 68760 h 300960"/>
                <a:gd name="textAreaBottom" fmla="*/ 23220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388640" y="2669400"/>
              <a:ext cx="283320" cy="303480"/>
            </a:xfrm>
            <a:custGeom>
              <a:avLst/>
              <a:gdLst>
                <a:gd name="textAreaLeft" fmla="*/ 64440 w 283320"/>
                <a:gd name="textAreaRight" fmla="*/ 218880 w 283320"/>
                <a:gd name="textAreaTop" fmla="*/ 69120 h 303480"/>
                <a:gd name="textAreaBottom" fmla="*/ 234360 h 30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5320" y="2165760"/>
              <a:ext cx="376200" cy="300960"/>
            </a:xfrm>
            <a:custGeom>
              <a:avLst/>
              <a:gdLst>
                <a:gd name="textAreaLeft" fmla="*/ 82800 w 376200"/>
                <a:gd name="textAreaRight" fmla="*/ 293400 w 376200"/>
                <a:gd name="textAreaTop" fmla="*/ 66240 h 300960"/>
                <a:gd name="textAreaBottom" fmla="*/ 2347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743240" y="2494440"/>
              <a:ext cx="378720" cy="401760"/>
            </a:xfrm>
            <a:prstGeom prst="diamond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88640" y="1790280"/>
              <a:ext cx="950040" cy="1409760"/>
            </a:xfrm>
            <a:custGeom>
              <a:avLst/>
              <a:gdLst/>
              <a:ahLst/>
              <a:rect l="l" t="t" r="r" b="b"/>
              <a:pathLst>
                <a:path w="1928" h="2680">
                  <a:moveTo>
                    <a:pt x="960" y="2680"/>
                  </a:moveTo>
                  <a:cubicBezTo>
                    <a:pt x="1340" y="2660"/>
                    <a:pt x="1720" y="2640"/>
                    <a:pt x="1824" y="2248"/>
                  </a:cubicBezTo>
                  <a:cubicBezTo>
                    <a:pt x="1928" y="1856"/>
                    <a:pt x="1888" y="656"/>
                    <a:pt x="1584" y="328"/>
                  </a:cubicBezTo>
                  <a:cubicBezTo>
                    <a:pt x="1280" y="0"/>
                    <a:pt x="640" y="140"/>
                    <a:pt x="0" y="280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02840" y="2921400"/>
              <a:ext cx="259560" cy="27864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528"/>
                  </a:moveTo>
                  <a:cubicBezTo>
                    <a:pt x="528" y="528"/>
                    <a:pt x="264" y="264"/>
                    <a:pt x="0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65000" y="2953440"/>
              <a:ext cx="61200" cy="224280"/>
            </a:xfrm>
            <a:custGeom>
              <a:avLst/>
              <a:gdLst/>
              <a:ahLst/>
              <a:rect l="l" t="t" r="r" b="b"/>
              <a:pathLst>
                <a:path w="103" h="320">
                  <a:moveTo>
                    <a:pt x="103" y="320"/>
                  </a:moveTo>
                  <a:cubicBezTo>
                    <a:pt x="88" y="294"/>
                    <a:pt x="26" y="219"/>
                    <a:pt x="13" y="166"/>
                  </a:cubicBezTo>
                  <a:cubicBezTo>
                    <a:pt x="0" y="113"/>
                    <a:pt x="23" y="35"/>
                    <a:pt x="2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26840" y="3165840"/>
              <a:ext cx="99720" cy="123480"/>
            </a:xfrm>
            <a:custGeom>
              <a:avLst/>
              <a:gdLst/>
              <a:ahLst/>
              <a:rect l="l" t="t" r="r" b="b"/>
              <a:pathLst>
                <a:path w="169" h="176">
                  <a:moveTo>
                    <a:pt x="169" y="9"/>
                  </a:moveTo>
                  <a:cubicBezTo>
                    <a:pt x="152" y="9"/>
                    <a:pt x="93" y="0"/>
                    <a:pt x="66" y="9"/>
                  </a:cubicBezTo>
                  <a:cubicBezTo>
                    <a:pt x="39" y="18"/>
                    <a:pt x="18" y="33"/>
                    <a:pt x="9" y="61"/>
                  </a:cubicBezTo>
                  <a:cubicBezTo>
                    <a:pt x="0" y="89"/>
                    <a:pt x="9" y="152"/>
                    <a:pt x="9" y="176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95840" y="2000520"/>
              <a:ext cx="680760" cy="542880"/>
            </a:xfrm>
            <a:custGeom>
              <a:avLst/>
              <a:gdLst/>
              <a:ahLst/>
              <a:rect l="l" t="t" r="r" b="b"/>
              <a:pathLst>
                <a:path w="1384" h="1032">
                  <a:moveTo>
                    <a:pt x="1384" y="24"/>
                  </a:moveTo>
                  <a:cubicBezTo>
                    <a:pt x="876" y="12"/>
                    <a:pt x="368" y="0"/>
                    <a:pt x="184" y="168"/>
                  </a:cubicBezTo>
                  <a:cubicBezTo>
                    <a:pt x="0" y="336"/>
                    <a:pt x="140" y="684"/>
                    <a:pt x="280" y="1032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76960" y="2012760"/>
              <a:ext cx="440280" cy="683640"/>
            </a:xfrm>
            <a:custGeom>
              <a:avLst/>
              <a:gdLst/>
              <a:ahLst/>
              <a:rect l="l" t="t" r="r" b="b"/>
              <a:pathLst>
                <a:path w="896" h="1296">
                  <a:moveTo>
                    <a:pt x="0" y="0"/>
                  </a:moveTo>
                  <a:cubicBezTo>
                    <a:pt x="320" y="228"/>
                    <a:pt x="640" y="456"/>
                    <a:pt x="768" y="672"/>
                  </a:cubicBezTo>
                  <a:cubicBezTo>
                    <a:pt x="896" y="888"/>
                    <a:pt x="768" y="1192"/>
                    <a:pt x="768" y="1296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96160" y="2701440"/>
              <a:ext cx="94680" cy="14328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160" y="46"/>
                  </a:moveTo>
                  <a:cubicBezTo>
                    <a:pt x="143" y="43"/>
                    <a:pt x="84" y="0"/>
                    <a:pt x="57" y="26"/>
                  </a:cubicBezTo>
                  <a:cubicBezTo>
                    <a:pt x="30" y="52"/>
                    <a:pt x="12" y="168"/>
                    <a:pt x="0" y="205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89040" y="2444400"/>
              <a:ext cx="163800" cy="276480"/>
            </a:xfrm>
            <a:custGeom>
              <a:avLst/>
              <a:gdLst/>
              <a:ahLst/>
              <a:rect l="l" t="t" r="r" b="b"/>
              <a:pathLst>
                <a:path w="336" h="528">
                  <a:moveTo>
                    <a:pt x="0" y="528"/>
                  </a:moveTo>
                  <a:cubicBezTo>
                    <a:pt x="44" y="356"/>
                    <a:pt x="88" y="184"/>
                    <a:pt x="144" y="96"/>
                  </a:cubicBezTo>
                  <a:cubicBezTo>
                    <a:pt x="200" y="8"/>
                    <a:pt x="268" y="4"/>
                    <a:pt x="336" y="0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26800" y="2437200"/>
              <a:ext cx="59040" cy="15336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cubicBezTo>
                    <a:pt x="15" y="7"/>
                    <a:pt x="77" y="25"/>
                    <a:pt x="90" y="45"/>
                  </a:cubicBezTo>
                  <a:cubicBezTo>
                    <a:pt x="103" y="65"/>
                    <a:pt x="87" y="92"/>
                    <a:pt x="77" y="121"/>
                  </a:cubicBezTo>
                  <a:cubicBezTo>
                    <a:pt x="67" y="150"/>
                    <a:pt x="41" y="197"/>
                    <a:pt x="32" y="217"/>
                  </a:cubicBezTo>
                </a:path>
              </a:pathLst>
            </a:custGeom>
            <a:noFill/>
            <a:ln w="6480">
              <a:solidFill>
                <a:srgbClr val="3399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9520" y="2271960"/>
              <a:ext cx="147600" cy="157680"/>
            </a:xfrm>
            <a:custGeom>
              <a:avLst/>
              <a:gdLst/>
              <a:ahLst/>
              <a:rect l="l" t="t" r="r" b="b"/>
              <a:pathLst>
                <a:path w="249" h="226">
                  <a:moveTo>
                    <a:pt x="173" y="226"/>
                  </a:moveTo>
                  <a:cubicBezTo>
                    <a:pt x="184" y="221"/>
                    <a:pt x="237" y="222"/>
                    <a:pt x="243" y="194"/>
                  </a:cubicBezTo>
                  <a:cubicBezTo>
                    <a:pt x="249" y="166"/>
                    <a:pt x="238" y="92"/>
                    <a:pt x="211" y="60"/>
                  </a:cubicBezTo>
                  <a:cubicBezTo>
                    <a:pt x="184" y="28"/>
                    <a:pt x="118" y="4"/>
                    <a:pt x="83" y="2"/>
                  </a:cubicBezTo>
                  <a:cubicBezTo>
                    <a:pt x="48" y="0"/>
                    <a:pt x="17" y="38"/>
                    <a:pt x="0" y="47"/>
                  </a:cubicBezTo>
                </a:path>
              </a:pathLst>
            </a:custGeom>
            <a:noFill/>
            <a:ln w="6480">
              <a:solidFill>
                <a:srgbClr val="808080"/>
              </a:solidFill>
              <a:prstDash val="sysDot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5334120" y="1371600"/>
            <a:ext cx="2819160" cy="1600200"/>
          </a:xfrm>
          <a:prstGeom prst="cloudCallout">
            <a:avLst>
              <a:gd name="adj1" fmla="val -100055"/>
              <a:gd name="adj2" fmla="val 127875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: the content model of the element type “foo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34120" y="1371600"/>
            <a:ext cx="2819160" cy="1600200"/>
          </a:xfrm>
          <a:prstGeom prst="cloudCallout">
            <a:avLst>
              <a:gd name="adj1" fmla="val -15087"/>
              <a:gd name="adj2" fmla="val 114486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: the content model of the element type “foo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1371600"/>
            <a:ext cx="2819160" cy="1600200"/>
          </a:xfrm>
          <a:prstGeom prst="cloudCallout">
            <a:avLst>
              <a:gd name="adj1" fmla="val -146398"/>
              <a:gd name="adj2" fmla="val 46824"/>
            </a:avLst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ubject: the content model of the element type “foo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19320" y="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s different expressions can represent the same su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25909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o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bar | baz)* 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4191120"/>
            <a:ext cx="4038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xs:complexType name=“foo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xs:choice minOccurs=“0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Occurs=“unbounde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xs:element name=“bar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xs:element name=“baz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xs:cho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724280" y="4114800"/>
            <a:ext cx="4419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lement name=“foo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oneOrMore&gt;&lt;cho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lement name=“bar”&gt;&lt;tex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element name=“baz”&gt;&lt;tex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choice&gt;&lt;/oneOrMor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20:27:41Z</dcterms:created>
  <dc:creator>Steven R. Newcomb</dc:creator>
  <dc:description/>
  <dc:language>en-US</dc:language>
  <cp:lastModifiedBy>Steve Newcomb</cp:lastModifiedBy>
  <dcterms:modified xsi:type="dcterms:W3CDTF">2006-08-17T12:36:39Z</dcterms:modified>
  <cp:revision>58</cp:revision>
  <dc:subject/>
  <dc:title>PowerPoint Presentation</dc:title>
</cp:coreProperties>
</file>